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AC75-74F8-4ADF-82FD-AC700EA9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124B-73F4-4807-AB31-A411DC98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EBE2-560B-4201-88C6-6DD38DEDF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DEF0-71F3-4D49-B093-6AE8EF2C5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E2EF-F47B-470F-BC4D-43BA23D7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B507-6B54-411B-929C-8EDCD0B3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DF5B-BB34-4021-9ECC-48E33DDD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4A8C-ED53-42EF-B9C6-CB821170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A8AA-2D8C-4FEA-9FB3-7957E49A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DBEE-7350-46EA-A361-3A560650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4D07-C919-4578-AF15-6F9AAF16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6BC8-8B14-4C15-A401-93D93BEF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1946-C444-474E-91A7-72A15012D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/fetch/93689552/93691489/t-gewasbescherming.htm.html?nodeid=93689073&amp;vernum=-2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ha en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re = 1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ha = 10.000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liters en ml (= 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= 100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per ha = 1000 ml per 10.0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liter per ha = 1000 ml per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 1 are is dat: (1/100 van 1000 ml =) 1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8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 veldspuit heeft een inhoud van 1000 liter. Hiermee wordt op een perceel een bespuiting uitgevoerd. Op het etiket wordt voor het middel een dosering van 5 liter per ha aangegeven. De hoeveelheid water per ha is 400 liter. Hoeveel middel moet worden gereed gemaakt voor 1 tankvul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9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 een perceel wordt een bespuiting uitgevoerd. De dosering van het middel is 5 liter per ha. De hoeveel­heid water per ha is 400 liter. De tank moet voor de laatste omgang bijgevuld worden. Er is nog 100 liter spuitvloeistof in de tank. Er moet nog 2 ha gespoten worden. De noodzakelijke hoeveelheid rest­vloeistof is 25 l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hoeveel water moet worden bijgevu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1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bietenperceel van 5 ha wordt een rijenbepuiting uitge­voerd. De rijenaf­stand is 50 cm. De te bespuiten strook is 20 cm. Gerekend naar een volveldsbe­spuiting zou 300 liter per ha worden verspoten worden en de dosering van het middel zou 5 liter per ha zijn. De noodzakelijke hoeveelheid restvloei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aagt 25 liter (De veldspuit heeft een tank van 1000 li­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spuitvloeistof moet er worden gereedgemaak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rekenoef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s en kilo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liter is 100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kilo is 1000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ml weegt ongeveer 1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liter weegt ongeveer 1 k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 een perceel van 2,5 ha moet een vloeibaar onkruidgewasbeschermingsmiddel worden toegediend. Op het etiket wordt een dose­ring van 3 liter per ha vermeld.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heid water bij deze behandeling is 200 liter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eken de hoeveelheid middel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eken de hoeveelheid water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1500 m² moet een vloeibaar ziektebestrijdingsmiddel worden toegediend in een opgaand gewas. De `dosering' (beter: meng­verhouding of concentratie) is volgens het etiket 50 ml middel per 100 liter water. De benodigde hoeveelheid spuitvloeistof is 20 liter per 100 m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water 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middel in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drach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 een perceel van 5 ha wordt een spuitpoeder toegepast tegen bladluizen. De dosering bedraagt 0,5 kg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kg middel moet in totaal afgewogen wor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t middel moet ook worden toegepast op een klein perce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middel is er voor dit perceel nodig, uitge­drukt in gram per 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drach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meter bij 25 meter moet een onkruidbestrijding worden uitgevoerd. Voor het uitrekenen van de beno­digde hoeveelheid middel en water moet je de oppervlakte we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oppervlakte van dit perce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m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. Bereken de hoeveelheid middel die voor deze bespuiting nodig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milli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 hangt het van af of je de hoeveelheid uitdrukt in liters of in millili­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6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 en een hoeveelheid water van 200 liter per ha. Bereken de hoeveelheid water die voor de bespuiting nodig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7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een perceel van 40 bij 25 meter moet een onkruidbe­strijding worden uitge­voerd. De dosering van het middel is 3 liter per ha en de hoeveelheid water 200 liter per ha. De bestrijding wordt uitgevoerd met een rugspuit die een tankinhoud heeft van 15 li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eken de hoeveelheid middel en water die nodig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 met 1 tankvulling worden volsta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eken de hoeveelheid middel voor de eerste tank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eken de hoeveelheid middel en water voor de tweede tank­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8:48:57Z</dcterms:created>
  <dc:creator>Peter</dc:creator>
  <dc:description/>
  <dc:language>en-US</dc:language>
  <cp:lastModifiedBy>Administrator</cp:lastModifiedBy>
  <dcterms:modified xsi:type="dcterms:W3CDTF">2009-12-28T17:53:48Z</dcterms:modified>
  <cp:revision>7</cp:revision>
  <dc:subject/>
  <dc:title>Berekeningen</dc:title>
</cp:coreProperties>
</file>