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CFD510-8F6D-417C-9B28-5E0750F17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8211E-3F50-4D17-A44B-A23CC2D4C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F21B2-E753-45B8-9910-ECB3DF0A31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D38B11-F0DD-4DEE-9791-9DC214C172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2AD112-D76D-4344-8F77-811E28AABF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3D57A0-396D-4562-95DF-3D1A6289ED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48D90-6BE0-43EC-B4E1-9834F1949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B744AC-BCEF-4B90-B5D9-B840F06577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0AC138-E222-40AB-9673-ED17103818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154ADF-0C3E-44E0-80F8-5E37DE4886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558246-8904-4CCC-ABB3-D528480D6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1803D-944B-400B-B2FF-3E63494A4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CAFFF-14F3-420C-BFD1-496706AB8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02693-821C-481B-AD59-C30C19751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E732C-3F2B-469D-B4AD-304D8D5AEF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521553-B945-4D76-8CC7-41D87DB260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5005E7-E54B-417B-881F-A7056F10EE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6F1A3-322F-443B-A784-CC80F7827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F9FE7-01CC-48B9-8738-43C506AD1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C3BD5-2AE2-4CBD-9832-C7308152B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CBA39-6F63-468B-BE1F-025B4BF9A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D1B87-2B22-427F-A898-27C11C9AD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A8325-F5BC-46A3-8C80-4CAD7F729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FCC43-6B18-4D86-8599-AE88EEDBCF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flipH="1" flipV="1">
                          <a:off x="11520" y="2613960"/>
                          <a:ext cx="2410560" cy="19620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flipH="1" flipV="1">
                          <a:off x="25920" y="2226960"/>
                          <a:ext cx="2404080" cy="233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flipH="1" flipV="1">
                          <a:off x="25200" y="1740960"/>
                          <a:ext cx="2414880" cy="2813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flipH="1" flipV="1">
                          <a:off x="40320" y="1171080"/>
                          <a:ext cx="2404800" cy="3370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flipH="1" flipV="1">
                          <a:off x="1109880" y="769320"/>
                          <a:ext cx="1399320" cy="3764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flipH="1" flipV="1">
                          <a:off x="27000" y="2976120"/>
                          <a:ext cx="2387160" cy="1616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flipH="1" flipV="1">
                          <a:off x="23040" y="3286800"/>
                          <a:ext cx="2388960" cy="1322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flipH="1">
                          <a:off x="669960" y="4744800"/>
                          <a:ext cx="1787400" cy="492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flipH="1" flipV="1">
                          <a:off x="203760" y="4525200"/>
                          <a:ext cx="2232000" cy="17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flipH="1" flipV="1">
                          <a:off x="26640" y="3821040"/>
                          <a:ext cx="2391840" cy="830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flipH="1">
                          <a:off x="1557360" y="4821120"/>
                          <a:ext cx="972720" cy="135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flipH="1">
                          <a:off x="1686240" y="4831920"/>
                          <a:ext cx="853920" cy="1448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flipH="1">
                          <a:off x="1805760" y="4832640"/>
                          <a:ext cx="739080" cy="1550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flipH="1">
                          <a:off x="1935000" y="4837680"/>
                          <a:ext cx="617040" cy="165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flipH="1">
                          <a:off x="2082960" y="4848120"/>
                          <a:ext cx="479880" cy="1765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flipH="1">
                          <a:off x="2230920" y="4851720"/>
                          <a:ext cx="339480" cy="1874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flipH="1">
                          <a:off x="2595240" y="4871880"/>
                          <a:ext cx="4680" cy="1926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2615400" y="4875480"/>
                          <a:ext cx="170280" cy="19220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2633040" y="4885200"/>
                          <a:ext cx="331920" cy="1896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2653560" y="4886640"/>
                          <a:ext cx="513360" cy="1906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2673720" y="4886640"/>
                          <a:ext cx="694080" cy="1907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2684880" y="4885560"/>
                          <a:ext cx="893520" cy="1891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2709720" y="4891680"/>
                          <a:ext cx="1103040" cy="1892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2726640" y="4884120"/>
                          <a:ext cx="1348200" cy="1911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2749320" y="4879800"/>
                          <a:ext cx="1623960" cy="1913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2760840" y="4864680"/>
                          <a:ext cx="19432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2766960" y="4851720"/>
                          <a:ext cx="2359800" cy="193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2779200" y="4841280"/>
                          <a:ext cx="2860560" cy="19508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2785320" y="4824360"/>
                          <a:ext cx="3499560" cy="196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2786400" y="4807440"/>
                          <a:ext cx="3958200" cy="178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789280" y="4789800"/>
                          <a:ext cx="3994920" cy="139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2780280" y="4746240"/>
                          <a:ext cx="3909960" cy="659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flipV="1">
                          <a:off x="2741400" y="3798720"/>
                          <a:ext cx="3219480" cy="88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flipV="1">
                          <a:off x="2728800" y="3279960"/>
                          <a:ext cx="2922120" cy="1375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bfbfab"/>
                        </a:solidFill>
                        <a:ln w="936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rot="18780000">
                            <a:off x="2382120" y="4292280"/>
                            <a:ext cx="446040" cy="798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18780000">
                            <a:off x="2262960" y="3995280"/>
                            <a:ext cx="747720" cy="1290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18780000">
                            <a:off x="2170800" y="3736440"/>
                            <a:ext cx="988920" cy="17920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18780000">
                            <a:off x="2071800" y="3420360"/>
                            <a:ext cx="1247760" cy="23284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rot="18780000">
                            <a:off x="1981080" y="3165840"/>
                            <a:ext cx="1543320" cy="28238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rot="18780000">
                            <a:off x="1850760" y="2891880"/>
                            <a:ext cx="1852560" cy="33235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rot="18780000">
                            <a:off x="1738800" y="2622600"/>
                            <a:ext cx="2136960" cy="3806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18780000">
                            <a:off x="1602000" y="2368800"/>
                            <a:ext cx="2481480" cy="42796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rot="18780000">
                            <a:off x="1498680" y="2084760"/>
                            <a:ext cx="2716200" cy="4787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rot="18734400">
                            <a:off x="1408320" y="1812240"/>
                            <a:ext cx="2984400" cy="531000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rot="18819600">
                            <a:off x="1313280" y="1521360"/>
                            <a:ext cx="3252960" cy="5829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 name=""/>
                        <p:cNvSpPr/>
                        <p:nvPr/>
                      </p:nvSpPr>
                      <p:spPr>
                        <a:xfrm flipV="1">
                          <a:off x="2654280" y="1780920"/>
                          <a:ext cx="1318680" cy="2809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V="1">
                          <a:off x="2666520" y="2133000"/>
                          <a:ext cx="1767600" cy="24642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V="1">
                          <a:off x="2668320" y="1936080"/>
                          <a:ext cx="1554120" cy="2647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V="1">
                          <a:off x="2676960" y="2293200"/>
                          <a:ext cx="1976760" cy="2312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V="1">
                          <a:off x="2683800" y="2468520"/>
                          <a:ext cx="2215080" cy="2144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V="1">
                          <a:off x="2703960" y="2885040"/>
                          <a:ext cx="2536920" cy="1747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V="1">
                          <a:off x="2716920" y="3096000"/>
                          <a:ext cx="2707560" cy="1547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V="1">
                          <a:off x="2737800" y="3557160"/>
                          <a:ext cx="3031200" cy="1114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2750040" y="4044240"/>
                          <a:ext cx="3373200" cy="645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2754720" y="4377600"/>
                          <a:ext cx="3548160" cy="317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V="1">
                          <a:off x="2752920" y="4703760"/>
                          <a:ext cx="3704040" cy="2520"/>
                        </a:xfrm>
                        <a:prstGeom prst="line">
                          <a:avLst/>
                        </a:prstGeom>
                        <a:ln w="9360">
                          <a:solidFill>
                            <a:srgbClr val="bfbfab"/>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3" name=""/>
                        <p:cNvSpPr/>
                        <p:nvPr/>
                      </p:nvSpPr>
                      <p:spPr>
                        <a:xfrm>
                          <a:off x="2769840" y="4724640"/>
                          <a:ext cx="3829320" cy="3164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787840" y="4768560"/>
                          <a:ext cx="3989880" cy="1015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H="1">
                          <a:off x="2415240" y="4862520"/>
                          <a:ext cx="1720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1447920" y="4809600"/>
                          <a:ext cx="1061640" cy="1255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1337040" y="4797720"/>
                          <a:ext cx="1163160" cy="1161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1218960" y="4789440"/>
                          <a:ext cx="1275480" cy="10681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1115640" y="4778640"/>
                          <a:ext cx="1371600" cy="966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1009440" y="4771440"/>
                          <a:ext cx="1464120" cy="858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a:off x="897480" y="4761360"/>
                          <a:ext cx="1573200" cy="742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783000" y="4752000"/>
                          <a:ext cx="1680840" cy="620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a:off x="566280" y="4733640"/>
                          <a:ext cx="1885320" cy="348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43520" y="4723920"/>
                          <a:ext cx="2001240" cy="187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17880" y="4710960"/>
                          <a:ext cx="2119320" cy="17640"/>
                        </a:xfrm>
                        <a:prstGeom prst="line">
                          <a:avLst/>
                        </a:prstGeom>
                        <a:ln w="9360">
                          <a:solidFill>
                            <a:srgbClr val="bfbfab"/>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 name=""/>
                        <p:cNvSpPr/>
                        <p:nvPr/>
                      </p:nvSpPr>
                      <p:spPr>
                        <a:xfrm flipH="1" flipV="1">
                          <a:off x="65880" y="4297680"/>
                          <a:ext cx="2364120" cy="39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H="1" flipV="1">
                          <a:off x="25560" y="4062960"/>
                          <a:ext cx="2397240" cy="606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23760" y="3559320"/>
                          <a:ext cx="2390040" cy="1077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flipV="1">
                          <a:off x="362880" y="972000"/>
                          <a:ext cx="2095200" cy="3564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flipV="1">
                          <a:off x="722880" y="832320"/>
                          <a:ext cx="1756080" cy="3702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flipV="1">
                          <a:off x="1506240" y="787320"/>
                          <a:ext cx="1018800" cy="3740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flipV="1">
                          <a:off x="1857240" y="839160"/>
                          <a:ext cx="685800" cy="3693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V="1">
                          <a:off x="2576880" y="1042920"/>
                          <a:ext cx="4320" cy="349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a:off x="2597400" y="1167480"/>
                          <a:ext cx="304560" cy="3379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2608920" y="1311120"/>
                          <a:ext cx="585720" cy="324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2622240" y="1461600"/>
                          <a:ext cx="846000" cy="310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V="1">
                          <a:off x="2635920" y="1626480"/>
                          <a:ext cx="1095120" cy="2944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1405440" y="6051600"/>
                  <a:ext cx="353880" cy="7351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1996560" y="6650280"/>
                    <a:ext cx="121680" cy="13968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flipV="1">
                    <a:off x="564120" y="5756400"/>
                    <a:ext cx="844200" cy="2937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flipV="1">
                    <a:off x="401040" y="4856400"/>
                    <a:ext cx="159840" cy="900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flipV="1">
                    <a:off x="28080" y="4710240"/>
                    <a:ext cx="372600" cy="1461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V="1">
                    <a:off x="110520" y="4856040"/>
                    <a:ext cx="288720" cy="3078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558000" y="5451480"/>
                    <a:ext cx="279000" cy="3049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29520" y="4279680"/>
                    <a:ext cx="21960" cy="36360"/>
                  </a:xfrm>
                  <a:prstGeom prst="line">
                    <a:avLst/>
                  </a:prstGeom>
                  <a:ln w="19080">
                    <a:solidFill>
                      <a:srgbClr val="bfbfab"/>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rot="19111200">
                <a:off x="3156120" y="3045960"/>
                <a:ext cx="21477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15" name=""/>
              <p:cNvSpPr/>
              <p:nvPr/>
            </p:nvSpPr>
            <p:spPr>
              <a:xfrm rot="16512000">
                <a:off x="3117600" y="4148280"/>
                <a:ext cx="35193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16" name=""/>
              <p:cNvSpPr/>
              <p:nvPr/>
            </p:nvSpPr>
            <p:spPr>
              <a:xfrm rot="18182400">
                <a:off x="1616760" y="4277160"/>
                <a:ext cx="42512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17" name=""/>
              <p:cNvSpPr/>
              <p:nvPr/>
            </p:nvSpPr>
            <p:spPr>
              <a:xfrm rot="20763600">
                <a:off x="1091880" y="2774520"/>
                <a:ext cx="37940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bfbfab"/>
                    </a:gs>
                    <a:gs pos="100000">
                      <a:srgbClr val="c8c8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38A48-8D8A-43A4-BA35-FEBF36D9B361}" type="slidenum">
              <a:rPr b="0" lang="nl-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33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flipV="1">
                          <a:off x="-12240" y="2650320"/>
                          <a:ext cx="2410560" cy="19620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flipV="1">
                          <a:off x="2160" y="2263320"/>
                          <a:ext cx="2404080" cy="233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flipV="1">
                          <a:off x="1440" y="1777320"/>
                          <a:ext cx="2414880" cy="2813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flipV="1">
                          <a:off x="16560" y="1207440"/>
                          <a:ext cx="2404800" cy="3370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flipV="1">
                          <a:off x="1086120" y="805680"/>
                          <a:ext cx="1399320" cy="3764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flipV="1">
                          <a:off x="3240" y="3012480"/>
                          <a:ext cx="2387160" cy="1616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flipV="1">
                          <a:off x="-720" y="3323160"/>
                          <a:ext cx="2388960" cy="1322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646200" y="4781160"/>
                          <a:ext cx="1787400" cy="492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flipV="1">
                          <a:off x="180000" y="4561560"/>
                          <a:ext cx="2232000" cy="17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flipV="1">
                          <a:off x="2880" y="3857400"/>
                          <a:ext cx="2391840" cy="830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1533600" y="4857480"/>
                          <a:ext cx="972720" cy="135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H="1">
                          <a:off x="1662480" y="4868280"/>
                          <a:ext cx="853920" cy="1448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H="1">
                          <a:off x="1782000" y="4869000"/>
                          <a:ext cx="739080" cy="1550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1911240" y="4874040"/>
                          <a:ext cx="617040" cy="165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2059200" y="4884480"/>
                          <a:ext cx="479880" cy="1765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2207160" y="4888080"/>
                          <a:ext cx="339480" cy="1874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2571480" y="4908240"/>
                          <a:ext cx="4680" cy="1926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591640" y="4911840"/>
                          <a:ext cx="170280" cy="19220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609280" y="4921560"/>
                          <a:ext cx="331920" cy="1896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2629800" y="4923000"/>
                          <a:ext cx="513360" cy="1906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649960" y="4923000"/>
                          <a:ext cx="694080" cy="1907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661120" y="4921920"/>
                          <a:ext cx="893520" cy="1891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685960" y="4928040"/>
                          <a:ext cx="1103040" cy="1892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702880" y="4920480"/>
                          <a:ext cx="1348200" cy="1911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725560" y="4916160"/>
                          <a:ext cx="1623960" cy="1913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737080" y="4901040"/>
                          <a:ext cx="19432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743200" y="4888080"/>
                          <a:ext cx="2359800" cy="193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755440" y="4877640"/>
                          <a:ext cx="2860560" cy="19508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2761560" y="4860720"/>
                          <a:ext cx="3499560" cy="196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762640" y="4843800"/>
                          <a:ext cx="3958200" cy="178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765520" y="4826160"/>
                          <a:ext cx="3994920" cy="139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756520" y="4782600"/>
                          <a:ext cx="3909960" cy="659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V="1">
                          <a:off x="2717640" y="3835080"/>
                          <a:ext cx="3219480" cy="88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V="1">
                          <a:off x="2705040" y="3316320"/>
                          <a:ext cx="2922120" cy="1375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bfbfab"/>
                        </a:solidFill>
                        <a:ln w="936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rot="18780000">
                            <a:off x="2358360" y="4328640"/>
                            <a:ext cx="446040" cy="798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rot="18780000">
                            <a:off x="2239200" y="4031640"/>
                            <a:ext cx="747720" cy="1290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rot="18780000">
                            <a:off x="2147040" y="3772800"/>
                            <a:ext cx="988920" cy="17920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8780000">
                            <a:off x="2048040" y="3456720"/>
                            <a:ext cx="1247760" cy="23284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8780000">
                            <a:off x="1957320" y="3202200"/>
                            <a:ext cx="1543320" cy="28238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8780000">
                            <a:off x="1827000" y="2928240"/>
                            <a:ext cx="1852560" cy="33235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18780000">
                            <a:off x="1715040" y="2658960"/>
                            <a:ext cx="2136960" cy="3806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rot="18780000">
                            <a:off x="1578240" y="2405160"/>
                            <a:ext cx="2481480" cy="42796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rot="18780000">
                            <a:off x="1474920" y="2121120"/>
                            <a:ext cx="2716200" cy="4787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18734400">
                            <a:off x="1384560" y="1848600"/>
                            <a:ext cx="2984400" cy="531000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rot="18819600">
                            <a:off x="1289520" y="1557720"/>
                            <a:ext cx="3252960" cy="5829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7" name=""/>
                        <p:cNvSpPr/>
                        <p:nvPr/>
                      </p:nvSpPr>
                      <p:spPr>
                        <a:xfrm flipV="1">
                          <a:off x="2630520" y="1817280"/>
                          <a:ext cx="1318680" cy="2809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V="1">
                          <a:off x="2642760" y="2169360"/>
                          <a:ext cx="1767600" cy="24642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V="1">
                          <a:off x="2644560" y="1972440"/>
                          <a:ext cx="1554120" cy="2647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2653200" y="2329560"/>
                          <a:ext cx="1976760" cy="2312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2660040" y="2504880"/>
                          <a:ext cx="2215080" cy="2144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V="1">
                          <a:off x="2680200" y="2921400"/>
                          <a:ext cx="2536920" cy="1747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V="1">
                          <a:off x="2693160" y="3132360"/>
                          <a:ext cx="2707560" cy="1547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714040" y="3593520"/>
                          <a:ext cx="3031200" cy="1114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2726280" y="4080600"/>
                          <a:ext cx="3373200" cy="645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2730960" y="4413960"/>
                          <a:ext cx="3548160" cy="317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2729160" y="4740120"/>
                          <a:ext cx="3704040" cy="2520"/>
                        </a:xfrm>
                        <a:prstGeom prst="line">
                          <a:avLst/>
                        </a:prstGeom>
                        <a:ln w="9360">
                          <a:solidFill>
                            <a:srgbClr val="bfbfab"/>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38" name=""/>
                        <p:cNvSpPr/>
                        <p:nvPr/>
                      </p:nvSpPr>
                      <p:spPr>
                        <a:xfrm>
                          <a:off x="2746080" y="4761000"/>
                          <a:ext cx="3829320" cy="3164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764080" y="4804920"/>
                          <a:ext cx="3989880" cy="1015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2391480" y="4898880"/>
                          <a:ext cx="1720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H="1">
                          <a:off x="1424160" y="4845960"/>
                          <a:ext cx="1061640" cy="1255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a:off x="1313280" y="4834080"/>
                          <a:ext cx="1163160" cy="1161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a:off x="1195200" y="4825800"/>
                          <a:ext cx="1275480" cy="10681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1091880" y="4815000"/>
                          <a:ext cx="1371600" cy="966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985680" y="4807800"/>
                          <a:ext cx="1464120" cy="858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H="1">
                          <a:off x="873720" y="4797720"/>
                          <a:ext cx="1573200" cy="742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H="1">
                          <a:off x="759240" y="4788360"/>
                          <a:ext cx="1680840" cy="620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a:off x="542520" y="4770000"/>
                          <a:ext cx="1885320" cy="348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a:off x="419760" y="4760280"/>
                          <a:ext cx="2001240" cy="187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294120" y="4747320"/>
                          <a:ext cx="2119320" cy="17640"/>
                        </a:xfrm>
                        <a:prstGeom prst="line">
                          <a:avLst/>
                        </a:prstGeom>
                        <a:ln w="9360">
                          <a:solidFill>
                            <a:srgbClr val="bfbfab"/>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1" name=""/>
                        <p:cNvSpPr/>
                        <p:nvPr/>
                      </p:nvSpPr>
                      <p:spPr>
                        <a:xfrm flipH="1" flipV="1">
                          <a:off x="42120" y="4334040"/>
                          <a:ext cx="2364120" cy="39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flipV="1">
                          <a:off x="1800" y="4099320"/>
                          <a:ext cx="2397240" cy="606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flipV="1">
                          <a:off x="0" y="3595680"/>
                          <a:ext cx="2390040" cy="1077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flipV="1">
                          <a:off x="339120" y="1008360"/>
                          <a:ext cx="2095200" cy="3564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flipV="1">
                          <a:off x="699120" y="868680"/>
                          <a:ext cx="1756080" cy="3702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flipV="1">
                          <a:off x="1482480" y="823680"/>
                          <a:ext cx="1018800" cy="3740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H="1" flipV="1">
                          <a:off x="1833480" y="875520"/>
                          <a:ext cx="685800" cy="3693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V="1">
                          <a:off x="2553120" y="1079280"/>
                          <a:ext cx="4320" cy="349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2573640" y="1203840"/>
                          <a:ext cx="304560" cy="3379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2585160" y="1347480"/>
                          <a:ext cx="585720" cy="324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2598480" y="1497960"/>
                          <a:ext cx="846000" cy="310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V="1">
                          <a:off x="2612160" y="1662840"/>
                          <a:ext cx="1095120" cy="2944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flipV="1">
                  <a:off x="1381680" y="6087960"/>
                  <a:ext cx="353880" cy="7351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H="1">
                    <a:off x="1972800" y="6686640"/>
                    <a:ext cx="121680" cy="13968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flipV="1">
                    <a:off x="540360" y="5792760"/>
                    <a:ext cx="844200" cy="2937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flipV="1">
                    <a:off x="377280" y="4892760"/>
                    <a:ext cx="159840" cy="900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flipV="1">
                    <a:off x="4320" y="4746600"/>
                    <a:ext cx="372600" cy="1461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86760" y="4892400"/>
                    <a:ext cx="288720" cy="3078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H="1">
                    <a:off x="534240" y="5487840"/>
                    <a:ext cx="279000" cy="3049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flipV="1">
                    <a:off x="5760" y="4316040"/>
                    <a:ext cx="21960" cy="36360"/>
                  </a:xfrm>
                  <a:prstGeom prst="line">
                    <a:avLst/>
                  </a:prstGeom>
                  <a:ln w="19080">
                    <a:solidFill>
                      <a:srgbClr val="bfbfab"/>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rot="19111200">
                <a:off x="3132360" y="3082320"/>
                <a:ext cx="21477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80" name=""/>
              <p:cNvSpPr/>
              <p:nvPr/>
            </p:nvSpPr>
            <p:spPr>
              <a:xfrm rot="16512000">
                <a:off x="3093840" y="4184640"/>
                <a:ext cx="35193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81" name=""/>
              <p:cNvSpPr/>
              <p:nvPr/>
            </p:nvSpPr>
            <p:spPr>
              <a:xfrm rot="18182400">
                <a:off x="1593000" y="4313520"/>
                <a:ext cx="42512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82" name=""/>
              <p:cNvSpPr/>
              <p:nvPr/>
            </p:nvSpPr>
            <p:spPr>
              <a:xfrm rot="20763600">
                <a:off x="1068120" y="2810880"/>
                <a:ext cx="37940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bfbfab"/>
                    </a:gs>
                    <a:gs pos="100000">
                      <a:srgbClr val="c8c8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Arial"/>
              </a:rPr>
              <a:t>Click to edit the title text format</a:t>
            </a:r>
            <a:endParaRPr b="0" lang="en-US" sz="5100" spc="-1" strike="noStrike">
              <a:solidFill>
                <a:srgbClr val="000000"/>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FA4EC-CDEA-403A-910E-5A592175FD79}" type="slidenum">
              <a:rPr b="0" lang="nl-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33660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100" spc="-1" strike="noStrike">
                <a:solidFill>
                  <a:srgbClr val="000000"/>
                </a:solidFill>
                <a:latin typeface="Arial"/>
              </a:rPr>
              <a:t>Meerjaren-plan gewasbescherming</a:t>
            </a:r>
            <a:endParaRPr b="0" lang="en-US" sz="5100" spc="-1" strike="noStrike">
              <a:solidFill>
                <a:srgbClr val="000000"/>
              </a:solidFill>
              <a:latin typeface="Arial"/>
            </a:endParaRPr>
          </a:p>
        </p:txBody>
      </p:sp>
      <p:sp>
        <p:nvSpPr>
          <p:cNvPr id="3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JPG</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 in 1987</a:t>
            </a:r>
            <a:endParaRPr b="0" lang="en-US" sz="4400" spc="-1" strike="noStrike">
              <a:solidFill>
                <a:srgbClr val="000000"/>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el milieuproblem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vervuilde lucht</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vervuild oppervlaktewater</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vervuilde grond</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én van de oorzaken: het gebruik van chemische bestrijdingsmiddelen</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leidsplannen</a:t>
            </a:r>
            <a:endParaRPr b="0" lang="en-US" sz="4400" spc="-1" strike="noStrike">
              <a:solidFill>
                <a:srgbClr val="000000"/>
              </a:solidFill>
              <a:latin typeface="Arial"/>
            </a:endParaRPr>
          </a:p>
        </p:txBody>
      </p:sp>
      <p:sp>
        <p:nvSpPr>
          <p:cNvPr id="3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Meer aandacht voor bijdrijfshygiene</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Bevorderen gebruik resistente rass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Vruchtwisseling</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Geleide bestrijding</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Geintegreerde bestrijding</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Verminderen van het aantal middelen</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itvoering richt zich op:</a:t>
            </a:r>
            <a:endParaRPr b="0" lang="en-US" sz="4400" spc="-1" strike="noStrike">
              <a:solidFill>
                <a:srgbClr val="000000"/>
              </a:solidFill>
              <a:latin typeface="Arial"/>
            </a:endParaRPr>
          </a:p>
        </p:txBody>
      </p:sp>
      <p:sp>
        <p:nvSpPr>
          <p:cNvPr id="3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oorkomen van ziekten en plagen</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rugdringen bestrijdingsmiddelen (50% vermindering in 2000 en 95% in 2001</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met grote risico’s voor mens en milieu</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vordering alternatieve vormen van bestrijding</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rbeteren toepassingstechnieken</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volgen</a:t>
            </a:r>
            <a:endParaRPr b="0" lang="en-US" sz="4400" spc="-1" strike="noStrike">
              <a:solidFill>
                <a:srgbClr val="000000"/>
              </a:solidFill>
              <a:latin typeface="Arial"/>
            </a:endParaRPr>
          </a:p>
        </p:txBody>
      </p:sp>
      <p:sp>
        <p:nvSpPr>
          <p:cNvPr id="3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meer toepassen in grondwaterbeschermingsgebied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meer toepassen in watergang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die giftig zijn voor niet schadelijke en nuttige dier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nkruidbeheer en onkruidbeheersing</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en middelen toepassen in watergangen</a:t>
            </a:r>
            <a:endParaRPr b="0" lang="en-US" sz="4000" spc="-1" strike="noStrike">
              <a:solidFill>
                <a:srgbClr val="000000"/>
              </a:solidFill>
              <a:latin typeface="Arial"/>
            </a:endParaRPr>
          </a:p>
        </p:txBody>
      </p:sp>
      <p:pic>
        <p:nvPicPr>
          <p:cNvPr id="341" name="" descr=""/>
          <p:cNvPicPr/>
          <p:nvPr/>
        </p:nvPicPr>
        <p:blipFill>
          <a:blip r:embed="rId1"/>
          <a:srcRect l="18458" t="8855" r="18801" b="33445"/>
          <a:stretch/>
        </p:blipFill>
        <p:spPr>
          <a:xfrm>
            <a:off x="1258920" y="2039760"/>
            <a:ext cx="6985080" cy="4818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3348000" y="188640"/>
            <a:ext cx="5796000" cy="666900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Grondwaterbeschermingsgebieden</a:t>
            </a:r>
            <a:br>
              <a:rPr sz="2100"/>
            </a:br>
            <a:r>
              <a:rPr b="0" lang="en-US" sz="2100" spc="-1" strike="noStrike">
                <a:solidFill>
                  <a:srgbClr val="000000"/>
                </a:solidFill>
                <a:latin typeface="Verdana"/>
              </a:rPr>
              <a:t>Het grondwaterbeschermingsgebied is een zone rondom het waterwingebied, een buffer die is ingesteld om het grondwater in het waterwingebied te beschermen. Voor deze zone zijn er minder verboden dan in het waterwingebied. In elk geval gelden er beperkingen voor:</a:t>
            </a:r>
            <a:br>
              <a:rPr sz="2100"/>
            </a:br>
            <a:r>
              <a:rPr b="0" lang="en-US" sz="2100" spc="-1" strike="noStrike">
                <a:solidFill>
                  <a:srgbClr val="000000"/>
                </a:solidFill>
                <a:latin typeface="Verdana"/>
              </a:rPr>
              <a:t>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uisleiding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cht verontreinigde grond;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verhardingen en gebouw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oorputten en boring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nd- en funderingswerken en constructies;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vloeistofinjectie;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rmte- en koudeopslag;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egraafplaatsen en uitstrooiveld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estrijdingsmiddel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zuiveringsslib;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ststoffen. </a:t>
            </a:r>
            <a:endParaRPr b="0" lang="en-US" sz="2100" spc="-1" strike="noStrike">
              <a:solidFill>
                <a:srgbClr val="000000"/>
              </a:solidFill>
              <a:latin typeface="Verdana"/>
            </a:endParaRPr>
          </a:p>
        </p:txBody>
      </p:sp>
      <p:pic>
        <p:nvPicPr>
          <p:cNvPr id="343" name="" descr=""/>
          <p:cNvPicPr/>
          <p:nvPr/>
        </p:nvPicPr>
        <p:blipFill>
          <a:blip r:embed="rId1"/>
          <a:stretch/>
        </p:blipFill>
        <p:spPr>
          <a:xfrm>
            <a:off x="0" y="1268280"/>
            <a:ext cx="3240000" cy="4537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adelijk voor nuttige organismen:</a:t>
            </a:r>
            <a:endParaRPr b="0" lang="en-US" sz="4000" spc="-1" strike="noStrike">
              <a:solidFill>
                <a:srgbClr val="000000"/>
              </a:solidFill>
              <a:latin typeface="Arial"/>
            </a:endParaRPr>
          </a:p>
        </p:txBody>
      </p:sp>
      <p:sp>
        <p:nvSpPr>
          <p:cNvPr id="3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ogels eten van bespoten plant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aterorganismen ondervinden schade van middelen die in het water terechtkom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ijen gaan dood bij gebruik van middelen op bloeiende plant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genwormen sterven door sommige middelen</a:t>
            </a:r>
            <a:endParaRPr b="0" lang="en-US" sz="3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5T19:12:53Z</dcterms:created>
  <dc:creator>Administrator</dc:creator>
  <dc:description/>
  <dc:language>en-US</dc:language>
  <cp:lastModifiedBy>Administrator</cp:lastModifiedBy>
  <dcterms:modified xsi:type="dcterms:W3CDTF">2009-12-28T17:52:07Z</dcterms:modified>
  <cp:revision>3</cp:revision>
  <dc:subject/>
  <dc:title>Meerjaren-plan gewasbescherming</dc:title>
</cp:coreProperties>
</file>