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53D-38FC-49AF-810E-6993AA88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D9C-A5DB-4D63-8B43-37B1E93E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68E4-D50E-4C81-9A28-8F0E5BA9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30B-A5BC-47F9-8A6D-89E0599F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BB4BD-9814-4900-A177-E74C0631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59CF6-28B9-4541-978E-52C1EDC1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D7054-D113-41AC-84BC-63C2535B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D52DB-5A47-4507-9C22-40993A17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5D106-4BF7-48EC-A8B7-BCC0705E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AC012-0DC8-4C38-A6BD-C26970B6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36730-2887-4A44-AC40-EE090834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A94-D97F-42F5-A8AC-B623F03F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22295-7307-412F-89DD-CC5FFAAF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7E46C-CD8C-4C73-BF26-D7156A7F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EE745-EF80-41B7-951F-9D54506C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40A94-9E9E-4137-856B-050A7137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B1BA0-E49F-4946-8CCE-C1894D3C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2C2-D42E-4E89-A36B-F18F15E2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937-1E70-41D0-9FDF-479F3BEF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569-126C-4F8B-AB2D-268693A9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C23-9748-48B7-AC35-29E9E993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913-1695-4007-8BF6-2EC6E75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C34-8D59-4510-AC80-AFF46E73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3F1-F347-445E-B73E-F7B482F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882A-6F86-4F9F-84B6-D998D3580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49F9-7DB7-4207-9EE7-A72E32F29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grodyn.org/Gewasbeschermingsplan/2009/Gewasbeschermingsplan%202009-grasland.pdf" TargetMode="External"/><Relationship Id="rId3" Type="http://schemas.openxmlformats.org/officeDocument/2006/relationships/hyperlink" Target="http://www.clm.nl/publicaties/data/gewaslogboek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m.nl/publicaties/data/gewaslogboek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ewasbeschermings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or iedere toepas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penplan in 3 del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vragen ter voorbereiding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et opstellen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t invullen van het log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teelten, dat is bij een golfba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tee, fairway, green en zelfs de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ter deze samen te voegen tot de b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ewasbeschermingsstrategie is overeenkoms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de vragen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ziekten, plagen en onkruiden zijn in de eigen baan van bel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belasting van het milieu kan voorkomen? Oppervlaktewater? Grondwat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zijn de jaarlijkse kos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arbo zaken zijn voor het personeel van bela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 effect kun je verwachten op natuurlijke vijan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ke maatregelen heb je het afgelopen jaar genom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was daarvan het eff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 heb je hiervoor gekoz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zou je nog meer of anders hebben kunnen do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2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het plan opst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wnload ëen invulformuli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agrodyn.org/Gewasbeschermingsplan/2009/Gewasbeschermingsplan%202009-grasland.pdf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ul de relevante del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 dieper in op de belangrijke probl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3; het logb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e ook de site van CLM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37:29Z</dcterms:created>
  <dc:creator>default</dc:creator>
  <dc:description/>
  <dc:language>en-US</dc:language>
  <cp:lastModifiedBy>default</cp:lastModifiedBy>
  <dcterms:modified xsi:type="dcterms:W3CDTF">2009-02-03T11:04:39Z</dcterms:modified>
  <cp:revision>2</cp:revision>
  <dc:subject/>
  <dc:title>Gewasbeschermingsplan</dc:title>
</cp:coreProperties>
</file>