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14.jpeg" ContentType="image/jpeg"/>
  <Override PartName="/ppt/media/image41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5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39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8701-90D0-4F8F-96B8-2C99D0BFE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BC38-8187-4151-BD38-BB6507A5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2A23-49CB-4C61-8752-7A0A75A85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4DC8-22E4-4C09-9548-150B6043B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1511-79DC-4388-ADF5-E3408B7FD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4ABD-7BFF-4CDC-99BA-D1E9AEFA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7DDB-CC2B-4739-B291-ECF346D2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57F6-342A-4C4E-9573-0C30AA01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E43D-D6D3-4782-8F81-1C5EEE93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DC43-4103-4AE7-977A-D12B41E7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B20E-C2DB-43CB-931E-14CD2E93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F3EF-FFAE-4A35-B88E-3A147911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81B8-BF76-4F6B-8DDD-6F59A039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53A0-784E-49DB-957C-7B081D94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B4C3-D75A-4E38-873F-7CD0D251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A49A-270B-4A68-919D-6868E2180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A355-626C-4BC6-B7A7-2D1AB74BA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C429-5397-4DCA-B74B-69F062BE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EC77-5543-4C71-98EF-61672ABC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9347-B2C3-4109-B496-928D1D2E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AE9B-1113-481E-9F50-BF4C44C4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3851-209B-4B31-832D-5901176B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4A13-2209-4EB7-87CF-B3B45C63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2047-B014-4C8F-B7C5-15B47BDD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E35F-7AAE-4717-B305-0AFD56CAE2BD}" type="slidenum">
              <a:rPr b="0" lang="nl-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4B6E-B863-4969-B677-F84552F3C5C4}" type="slidenum">
              <a:rPr b="0" lang="nl-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aterplant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Méntha aquátic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457200"/>
            <a:ext cx="3990960" cy="62485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536600" y="76212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Watermu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971440" y="1371600"/>
            <a:ext cx="5501160" cy="932400"/>
            <a:chOff x="2971440" y="1371600"/>
            <a:chExt cx="5501160" cy="932400"/>
          </a:xfrm>
        </p:grpSpPr>
        <p:sp>
          <p:nvSpPr>
            <p:cNvPr id="225" name=""/>
            <p:cNvSpPr/>
            <p:nvPr/>
          </p:nvSpPr>
          <p:spPr>
            <a:xfrm>
              <a:off x="4724280" y="1600200"/>
              <a:ext cx="3748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6-10) in een sterk ruikende, bolvormige bloeiwijz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2971440" y="1371600"/>
              <a:ext cx="1523880" cy="45720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971800" y="1143000"/>
            <a:ext cx="5756400" cy="5334120"/>
            <a:chOff x="2971800" y="1143000"/>
            <a:chExt cx="5756400" cy="5334120"/>
          </a:xfrm>
        </p:grpSpPr>
        <p:pic>
          <p:nvPicPr>
            <p:cNvPr id="228" name="" descr=""/>
            <p:cNvPicPr/>
            <p:nvPr/>
          </p:nvPicPr>
          <p:blipFill>
            <a:blip r:embed="rId2"/>
            <a:stretch/>
          </p:blipFill>
          <p:spPr>
            <a:xfrm>
              <a:off x="4495680" y="1295280"/>
              <a:ext cx="4232520" cy="518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2971800" y="1143000"/>
              <a:ext cx="15238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286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Menyánthes trifoliát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08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4647960" y="3657600"/>
            <a:ext cx="2910240" cy="1008720"/>
            <a:chOff x="4647960" y="3657600"/>
            <a:chExt cx="2910240" cy="1008720"/>
          </a:xfrm>
        </p:grpSpPr>
        <p:sp>
          <p:nvSpPr>
            <p:cNvPr id="235" name=""/>
            <p:cNvSpPr/>
            <p:nvPr/>
          </p:nvSpPr>
          <p:spPr>
            <a:xfrm>
              <a:off x="5334120" y="3657600"/>
              <a:ext cx="2224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5e855b"/>
                  </a:solidFill>
                  <a:latin typeface="Times New Roman"/>
                </a:rPr>
                <a:t>bloemen (5-6) met gefranjerde kroonslipp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4647960" y="4191120"/>
              <a:ext cx="53316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648320" y="2143080"/>
            <a:ext cx="4267080" cy="42004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360560" y="76212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8000"/>
                </a:solidFill>
                <a:latin typeface="Times New Roman"/>
              </a:rPr>
              <a:t>Waterdriebla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04920" y="0"/>
            <a:ext cx="8610480" cy="6553080"/>
            <a:chOff x="304920" y="0"/>
            <a:chExt cx="8610480" cy="6553080"/>
          </a:xfrm>
        </p:grpSpPr>
        <p:pic>
          <p:nvPicPr>
            <p:cNvPr id="240" name="" descr=""/>
            <p:cNvPicPr/>
            <p:nvPr/>
          </p:nvPicPr>
          <p:blipFill>
            <a:blip r:embed="rId3"/>
            <a:stretch/>
          </p:blipFill>
          <p:spPr>
            <a:xfrm>
              <a:off x="304920" y="1301760"/>
              <a:ext cx="8610480" cy="52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304920" y="0"/>
              <a:ext cx="3352680" cy="1295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77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Myosótis palústr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419256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5862960" y="838080"/>
            <a:ext cx="28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Moeras-vergeet-me- nietj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4343040" y="3124080"/>
            <a:ext cx="4209480" cy="398880"/>
            <a:chOff x="4343040" y="3124080"/>
            <a:chExt cx="4209480" cy="398880"/>
          </a:xfrm>
        </p:grpSpPr>
        <p:sp>
          <p:nvSpPr>
            <p:cNvPr id="248" name=""/>
            <p:cNvSpPr/>
            <p:nvPr/>
          </p:nvSpPr>
          <p:spPr>
            <a:xfrm>
              <a:off x="5630040" y="3124080"/>
              <a:ext cx="292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6) in schicht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343040" y="3352680"/>
              <a:ext cx="12193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28600" y="0"/>
            <a:ext cx="8458200" cy="6543720"/>
            <a:chOff x="228600" y="0"/>
            <a:chExt cx="8458200" cy="6543720"/>
          </a:xfrm>
        </p:grpSpPr>
        <p:pic>
          <p:nvPicPr>
            <p:cNvPr id="251" name="" descr=""/>
            <p:cNvPicPr/>
            <p:nvPr/>
          </p:nvPicPr>
          <p:blipFill>
            <a:blip r:embed="rId2"/>
            <a:stretch/>
          </p:blipFill>
          <p:spPr>
            <a:xfrm>
              <a:off x="685800" y="1295280"/>
              <a:ext cx="8001000" cy="524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685800" y="0"/>
              <a:ext cx="3581640" cy="1295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8600" y="1447920"/>
              <a:ext cx="457200" cy="190476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2438280" y="1752480"/>
            <a:ext cx="4133880" cy="4572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33"/>
                </a:solidFill>
                <a:latin typeface="Times New Roman"/>
              </a:rPr>
              <a:t>37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Núphar lúteum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80880" y="1371600"/>
            <a:ext cx="5715000" cy="50101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7543440" y="83808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Gele plomp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943240" y="1981080"/>
            <a:ext cx="2605320" cy="1313640"/>
            <a:chOff x="5943240" y="1981080"/>
            <a:chExt cx="2605320" cy="1313640"/>
          </a:xfrm>
        </p:grpSpPr>
        <p:sp>
          <p:nvSpPr>
            <p:cNvPr id="261" name=""/>
            <p:cNvSpPr/>
            <p:nvPr/>
          </p:nvSpPr>
          <p:spPr>
            <a:xfrm>
              <a:off x="6629400" y="1981080"/>
              <a:ext cx="19191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8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met kelkbladen groter dan kroonblad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5943240" y="2514600"/>
              <a:ext cx="6094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1371600"/>
            <a:ext cx="8382240" cy="52801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380880" y="1295280"/>
            <a:ext cx="8382240" cy="538488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304920" y="1295280"/>
            <a:ext cx="8534160" cy="5410440"/>
            <a:chOff x="304920" y="1295280"/>
            <a:chExt cx="8534160" cy="5410440"/>
          </a:xfrm>
        </p:grpSpPr>
        <p:pic>
          <p:nvPicPr>
            <p:cNvPr id="266" name="" descr=""/>
            <p:cNvPicPr/>
            <p:nvPr/>
          </p:nvPicPr>
          <p:blipFill>
            <a:blip r:embed="rId4"/>
            <a:stretch/>
          </p:blipFill>
          <p:spPr>
            <a:xfrm>
              <a:off x="304920" y="1295280"/>
              <a:ext cx="8534160" cy="541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453600" y="6095880"/>
              <a:ext cx="162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66"/>
                  </a:solidFill>
                  <a:latin typeface="Times New Roman"/>
                </a:rPr>
                <a:t>wortelstokk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9714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Nymphaéa álba</a:t>
            </a: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80880" y="838080"/>
            <a:ext cx="5562720" cy="51166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7391520" y="8380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Waterleli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486040" y="1981080"/>
            <a:ext cx="2833920" cy="1313640"/>
            <a:chOff x="5486040" y="1981080"/>
            <a:chExt cx="2833920" cy="1313640"/>
          </a:xfrm>
        </p:grpSpPr>
        <p:sp>
          <p:nvSpPr>
            <p:cNvPr id="274" name=""/>
            <p:cNvSpPr/>
            <p:nvPr/>
          </p:nvSpPr>
          <p:spPr>
            <a:xfrm>
              <a:off x="6248520" y="1981080"/>
              <a:ext cx="2071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8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met kroonbladen groter dan kelkblad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5486040" y="2514600"/>
              <a:ext cx="68580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80880" y="685800"/>
            <a:ext cx="8153640" cy="6019920"/>
            <a:chOff x="380880" y="685800"/>
            <a:chExt cx="8153640" cy="6019920"/>
          </a:xfrm>
        </p:grpSpPr>
        <p:pic>
          <p:nvPicPr>
            <p:cNvPr id="277" name="" descr=""/>
            <p:cNvPicPr/>
            <p:nvPr/>
          </p:nvPicPr>
          <p:blipFill>
            <a:blip r:embed="rId2"/>
            <a:stretch/>
          </p:blipFill>
          <p:spPr>
            <a:xfrm>
              <a:off x="457200" y="1219320"/>
              <a:ext cx="8077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380880" y="685800"/>
              <a:ext cx="4572000" cy="533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2666880" y="1905120"/>
            <a:ext cx="3730680" cy="38098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4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7162560" cy="44388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Ranúnculus aquátilis</a:t>
            </a: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971800" y="1371600"/>
            <a:ext cx="4392000" cy="4742280"/>
            <a:chOff x="2971800" y="1371600"/>
            <a:chExt cx="4392000" cy="4742280"/>
          </a:xfrm>
        </p:grpSpPr>
        <p:sp>
          <p:nvSpPr>
            <p:cNvPr id="285" name=""/>
            <p:cNvSpPr/>
            <p:nvPr/>
          </p:nvSpPr>
          <p:spPr>
            <a:xfrm>
              <a:off x="3499920" y="1371600"/>
              <a:ext cx="208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drijvende blader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93400" y="5715000"/>
              <a:ext cx="257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dergedoken blader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4724280" y="5257440"/>
              <a:ext cx="0" cy="68580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2971800" y="1600200"/>
              <a:ext cx="5335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228600" y="2514600"/>
            <a:ext cx="1919160" cy="1008720"/>
            <a:chOff x="228600" y="2514600"/>
            <a:chExt cx="1919160" cy="1008720"/>
          </a:xfrm>
        </p:grpSpPr>
        <p:sp>
          <p:nvSpPr>
            <p:cNvPr id="290" name=""/>
            <p:cNvSpPr/>
            <p:nvPr/>
          </p:nvSpPr>
          <p:spPr>
            <a:xfrm>
              <a:off x="228600" y="2514600"/>
              <a:ext cx="1919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8) met witte kroonblad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371600" y="3048120"/>
              <a:ext cx="6094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8610480" cy="51894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334120" y="3352680"/>
            <a:ext cx="3047760" cy="27273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6246000" y="838080"/>
            <a:ext cx="256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Gewone waterranonk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5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4870440" cy="75596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4286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Sagittária sagittifól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3885840" y="838080"/>
            <a:ext cx="3673800" cy="1999080"/>
            <a:chOff x="3885840" y="838080"/>
            <a:chExt cx="3673800" cy="1999080"/>
          </a:xfrm>
        </p:grpSpPr>
        <p:sp>
          <p:nvSpPr>
            <p:cNvPr id="300" name=""/>
            <p:cNvSpPr/>
            <p:nvPr/>
          </p:nvSpPr>
          <p:spPr>
            <a:xfrm>
              <a:off x="4716360" y="1600200"/>
              <a:ext cx="28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9) éénslachtig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21760" y="243828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mannelijk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721400" y="83808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vrouwelijk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3885840" y="1066680"/>
              <a:ext cx="7621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4114800" y="2666880"/>
              <a:ext cx="5335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0" y="0"/>
            <a:ext cx="8763120" cy="7178760"/>
            <a:chOff x="0" y="0"/>
            <a:chExt cx="8763120" cy="7178760"/>
          </a:xfrm>
        </p:grpSpPr>
        <p:pic>
          <p:nvPicPr>
            <p:cNvPr id="306" name="" descr="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4527720" cy="702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7" name=""/>
            <p:cNvGrpSpPr/>
            <p:nvPr/>
          </p:nvGrpSpPr>
          <p:grpSpPr>
            <a:xfrm>
              <a:off x="228600" y="0"/>
              <a:ext cx="8534520" cy="6561000"/>
              <a:chOff x="228600" y="0"/>
              <a:chExt cx="8534520" cy="6561000"/>
            </a:xfrm>
          </p:grpSpPr>
          <p:pic>
            <p:nvPicPr>
              <p:cNvPr id="30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28600" y="838080"/>
                <a:ext cx="8534520" cy="572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"/>
              <p:cNvSpPr/>
              <p:nvPr/>
            </p:nvSpPr>
            <p:spPr>
              <a:xfrm>
                <a:off x="228600" y="0"/>
                <a:ext cx="49528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215640" y="304920"/>
              <a:ext cx="445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diverse bladvormen, drijvend en opstaan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228600" y="762120"/>
            <a:ext cx="8686800" cy="58021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5"/>
          <a:stretch/>
        </p:blipFill>
        <p:spPr>
          <a:xfrm>
            <a:off x="1295280" y="762120"/>
            <a:ext cx="3691080" cy="57909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52280" y="304920"/>
            <a:ext cx="4803840" cy="7038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                                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Waterzuring                     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59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Scírpus lacústr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rcRect l="-1834" t="0" r="0" b="0"/>
          <a:stretch/>
        </p:blipFill>
        <p:spPr>
          <a:xfrm>
            <a:off x="0" y="685800"/>
            <a:ext cx="7238880" cy="6173640"/>
          </a:xfrm>
          <a:prstGeom prst="rect">
            <a:avLst/>
          </a:prstGeom>
          <a:ln w="0">
            <a:noFill/>
          </a:ln>
        </p:spPr>
      </p:pic>
      <p:grpSp>
        <p:nvGrpSpPr>
          <p:cNvPr id="318" name=""/>
          <p:cNvGrpSpPr/>
          <p:nvPr/>
        </p:nvGrpSpPr>
        <p:grpSpPr>
          <a:xfrm>
            <a:off x="6629400" y="1523880"/>
            <a:ext cx="2224080" cy="1008720"/>
            <a:chOff x="6629400" y="1523880"/>
            <a:chExt cx="2224080" cy="1008720"/>
          </a:xfrm>
        </p:grpSpPr>
        <p:sp>
          <p:nvSpPr>
            <p:cNvPr id="319" name=""/>
            <p:cNvSpPr/>
            <p:nvPr/>
          </p:nvSpPr>
          <p:spPr>
            <a:xfrm>
              <a:off x="7086600" y="1523880"/>
              <a:ext cx="17668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éénslachtige bloemen (7-8) in aartje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6629400" y="2057400"/>
              <a:ext cx="3808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6324480" y="4038480"/>
            <a:ext cx="2057400" cy="703800"/>
            <a:chOff x="6324480" y="4038480"/>
            <a:chExt cx="2057400" cy="703800"/>
          </a:xfrm>
        </p:grpSpPr>
        <p:sp>
          <p:nvSpPr>
            <p:cNvPr id="322" name=""/>
            <p:cNvSpPr/>
            <p:nvPr/>
          </p:nvSpPr>
          <p:spPr>
            <a:xfrm>
              <a:off x="7010280" y="403848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gelede stengel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6324480" y="4419720"/>
              <a:ext cx="60984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8686800" cy="57913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2952720" y="304920"/>
            <a:ext cx="27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Mattenbies of Stoelenbi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6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4861080" cy="731520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1905120" y="1905120"/>
            <a:ext cx="6923520" cy="1465560"/>
            <a:chOff x="1905120" y="1905120"/>
            <a:chExt cx="6923520" cy="1465560"/>
          </a:xfrm>
        </p:grpSpPr>
        <p:sp>
          <p:nvSpPr>
            <p:cNvPr id="330" name=""/>
            <p:cNvSpPr/>
            <p:nvPr/>
          </p:nvSpPr>
          <p:spPr>
            <a:xfrm>
              <a:off x="5630400" y="2971800"/>
              <a:ext cx="31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2 schutbladen (</a:t>
              </a:r>
              <a:r>
                <a:rPr b="0" i="1" lang="en-US" sz="2000" spc="-1" strike="noStrike">
                  <a:solidFill>
                    <a:srgbClr val="5e855b"/>
                  </a:solidFill>
                  <a:latin typeface="Times New Roman"/>
                </a:rPr>
                <a:t>krabbescheer</a:t>
              </a: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3581280" y="1905120"/>
              <a:ext cx="1981440" cy="129528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flipV="1">
              <a:off x="1905120" y="2590560"/>
              <a:ext cx="3657600" cy="60948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2057040" y="1066680"/>
            <a:ext cx="5882040" cy="1313640"/>
            <a:chOff x="2057040" y="1066680"/>
            <a:chExt cx="5882040" cy="1313640"/>
          </a:xfrm>
        </p:grpSpPr>
        <p:sp>
          <p:nvSpPr>
            <p:cNvPr id="334" name=""/>
            <p:cNvSpPr/>
            <p:nvPr/>
          </p:nvSpPr>
          <p:spPr>
            <a:xfrm>
              <a:off x="5562720" y="1066680"/>
              <a:ext cx="23763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7) meestal vrouwelijk, net boven het water uitsteken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2057040" y="1295280"/>
              <a:ext cx="33526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2057040" y="4572000"/>
            <a:ext cx="6263280" cy="398880"/>
            <a:chOff x="2057040" y="4572000"/>
            <a:chExt cx="6263280" cy="398880"/>
          </a:xfrm>
        </p:grpSpPr>
        <p:sp>
          <p:nvSpPr>
            <p:cNvPr id="337" name=""/>
            <p:cNvSpPr/>
            <p:nvPr/>
          </p:nvSpPr>
          <p:spPr>
            <a:xfrm>
              <a:off x="5632560" y="4572000"/>
              <a:ext cx="26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aderen scherp gezaag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2057040" y="4800600"/>
              <a:ext cx="35053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380880" y="0"/>
            <a:ext cx="8991720" cy="6858000"/>
            <a:chOff x="380880" y="0"/>
            <a:chExt cx="8991720" cy="6858000"/>
          </a:xfrm>
        </p:grpSpPr>
        <p:grpSp>
          <p:nvGrpSpPr>
            <p:cNvPr id="340" name=""/>
            <p:cNvGrpSpPr/>
            <p:nvPr/>
          </p:nvGrpSpPr>
          <p:grpSpPr>
            <a:xfrm>
              <a:off x="380880" y="0"/>
              <a:ext cx="8991720" cy="6858000"/>
              <a:chOff x="380880" y="0"/>
              <a:chExt cx="8991720" cy="6858000"/>
            </a:xfrm>
          </p:grpSpPr>
          <p:pic>
            <p:nvPicPr>
              <p:cNvPr id="34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304920"/>
                <a:ext cx="5837400" cy="640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" name=""/>
              <p:cNvSpPr/>
              <p:nvPr/>
            </p:nvSpPr>
            <p:spPr>
              <a:xfrm>
                <a:off x="6172200" y="0"/>
                <a:ext cx="3200400" cy="685800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6319080" y="6095880"/>
              <a:ext cx="227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twikkelingscyclu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228600" y="304920"/>
            <a:ext cx="8763120" cy="6292800"/>
            <a:chOff x="228600" y="304920"/>
            <a:chExt cx="8763120" cy="6292800"/>
          </a:xfrm>
        </p:grpSpPr>
        <p:pic>
          <p:nvPicPr>
            <p:cNvPr id="345" name="" descr=""/>
            <p:cNvPicPr/>
            <p:nvPr/>
          </p:nvPicPr>
          <p:blipFill>
            <a:blip r:embed="rId3"/>
            <a:stretch/>
          </p:blipFill>
          <p:spPr>
            <a:xfrm>
              <a:off x="228600" y="914400"/>
              <a:ext cx="8763120" cy="568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287280" y="395280"/>
              <a:ext cx="139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der water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438640" y="304920"/>
              <a:ext cx="1676160" cy="6094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225720" y="380880"/>
            <a:ext cx="8766000" cy="6256080"/>
            <a:chOff x="225720" y="380880"/>
            <a:chExt cx="8766000" cy="6256080"/>
          </a:xfrm>
        </p:grpSpPr>
        <p:pic>
          <p:nvPicPr>
            <p:cNvPr id="349" name="" descr=""/>
            <p:cNvPicPr/>
            <p:nvPr/>
          </p:nvPicPr>
          <p:blipFill>
            <a:blip r:embed="rId4"/>
            <a:stretch/>
          </p:blipFill>
          <p:spPr>
            <a:xfrm>
              <a:off x="228600" y="914040"/>
              <a:ext cx="8763120" cy="572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225720" y="380880"/>
              <a:ext cx="1434960" cy="398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oven water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51" name="" descr=""/>
          <p:cNvPicPr/>
          <p:nvPr/>
        </p:nvPicPr>
        <p:blipFill>
          <a:blip r:embed="rId5"/>
          <a:stretch/>
        </p:blipFill>
        <p:spPr>
          <a:xfrm>
            <a:off x="4343400" y="914400"/>
            <a:ext cx="3451320" cy="56386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4286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Stratiótes aloíde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113720" y="30492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Krabbesche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6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09480" y="228600"/>
            <a:ext cx="3467160" cy="6477120"/>
          </a:xfrm>
          <a:prstGeom prst="rect">
            <a:avLst/>
          </a:prstGeom>
          <a:ln w="0">
            <a:noFill/>
          </a:ln>
        </p:spPr>
      </p:pic>
      <p:grpSp>
        <p:nvGrpSpPr>
          <p:cNvPr id="357" name=""/>
          <p:cNvGrpSpPr/>
          <p:nvPr/>
        </p:nvGrpSpPr>
        <p:grpSpPr>
          <a:xfrm>
            <a:off x="3200040" y="1066680"/>
            <a:ext cx="3416760" cy="3004200"/>
            <a:chOff x="3200040" y="1066680"/>
            <a:chExt cx="3416760" cy="3004200"/>
          </a:xfrm>
        </p:grpSpPr>
        <p:sp>
          <p:nvSpPr>
            <p:cNvPr id="358" name=""/>
            <p:cNvSpPr/>
            <p:nvPr/>
          </p:nvSpPr>
          <p:spPr>
            <a:xfrm>
              <a:off x="4110480" y="1066680"/>
              <a:ext cx="243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mannelijke bloeiwijz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095360" y="3672000"/>
              <a:ext cx="252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vrouwelijke bloeiwijz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200040" y="1295280"/>
              <a:ext cx="7621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352320" y="3886200"/>
              <a:ext cx="7621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200040" y="1828800"/>
            <a:ext cx="5585760" cy="398880"/>
            <a:chOff x="3200040" y="1828800"/>
            <a:chExt cx="5585760" cy="398880"/>
          </a:xfrm>
        </p:grpSpPr>
        <p:sp>
          <p:nvSpPr>
            <p:cNvPr id="363" name=""/>
            <p:cNvSpPr/>
            <p:nvPr/>
          </p:nvSpPr>
          <p:spPr>
            <a:xfrm flipH="1">
              <a:off x="3200040" y="2057400"/>
              <a:ext cx="7621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03280" y="1828800"/>
              <a:ext cx="468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géén of weinig ruimte tussen de bloeiwijz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200400" y="304920"/>
            <a:ext cx="5486400" cy="6172200"/>
            <a:chOff x="3200400" y="304920"/>
            <a:chExt cx="5486400" cy="6172200"/>
          </a:xfrm>
        </p:grpSpPr>
        <p:pic>
          <p:nvPicPr>
            <p:cNvPr id="366" name="" descr=""/>
            <p:cNvPicPr/>
            <p:nvPr/>
          </p:nvPicPr>
          <p:blipFill>
            <a:blip r:embed="rId2"/>
            <a:stretch/>
          </p:blipFill>
          <p:spPr>
            <a:xfrm>
              <a:off x="4572000" y="304920"/>
              <a:ext cx="4114800" cy="617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3200400" y="914400"/>
              <a:ext cx="1371600" cy="1295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52680" y="3657600"/>
              <a:ext cx="1219320" cy="380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4114800" cy="6172200"/>
          </a:xfrm>
          <a:prstGeom prst="rect">
            <a:avLst/>
          </a:prstGeom>
          <a:ln w="0">
            <a:noFill/>
          </a:ln>
        </p:spPr>
      </p:pic>
      <p:grpSp>
        <p:nvGrpSpPr>
          <p:cNvPr id="370" name=""/>
          <p:cNvGrpSpPr/>
          <p:nvPr/>
        </p:nvGrpSpPr>
        <p:grpSpPr>
          <a:xfrm>
            <a:off x="304920" y="0"/>
            <a:ext cx="8381880" cy="6477120"/>
            <a:chOff x="304920" y="0"/>
            <a:chExt cx="8381880" cy="6477120"/>
          </a:xfrm>
        </p:grpSpPr>
        <p:pic>
          <p:nvPicPr>
            <p:cNvPr id="371" name="" descr=""/>
            <p:cNvPicPr/>
            <p:nvPr/>
          </p:nvPicPr>
          <p:blipFill>
            <a:blip r:embed="rId4"/>
            <a:stretch/>
          </p:blipFill>
          <p:spPr>
            <a:xfrm>
              <a:off x="4572000" y="1143000"/>
              <a:ext cx="4114800" cy="53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5"/>
            <a:stretch/>
          </p:blipFill>
          <p:spPr>
            <a:xfrm>
              <a:off x="304920" y="1143000"/>
              <a:ext cx="411480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4419720" y="1143000"/>
              <a:ext cx="152280" cy="53341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4920" y="0"/>
              <a:ext cx="8381880" cy="11430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9714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Týpha latifól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738160" y="304920"/>
            <a:ext cx="289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Grote lisdodde, Rietsiga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67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132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Alísma plantágo-aquátic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2200" y="83808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Waterweegbre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114440" y="1981080"/>
            <a:ext cx="3491280" cy="1295280"/>
            <a:chOff x="4114440" y="1981080"/>
            <a:chExt cx="3491280" cy="1295280"/>
          </a:xfrm>
        </p:grpSpPr>
        <p:sp>
          <p:nvSpPr>
            <p:cNvPr id="119" name=""/>
            <p:cNvSpPr/>
            <p:nvPr/>
          </p:nvSpPr>
          <p:spPr>
            <a:xfrm>
              <a:off x="5410080" y="1981080"/>
              <a:ext cx="2195640" cy="7038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6-9) in pluim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114440" y="2590560"/>
              <a:ext cx="1143000" cy="68580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114800" y="1371600"/>
            <a:ext cx="4664160" cy="5257800"/>
            <a:chOff x="4114800" y="1371600"/>
            <a:chExt cx="4664160" cy="525780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5334120" y="1371600"/>
              <a:ext cx="344484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114800" y="2438280"/>
              <a:ext cx="1219320" cy="9144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257800" y="1371600"/>
            <a:ext cx="3529080" cy="5334120"/>
            <a:chOff x="5257800" y="1371600"/>
            <a:chExt cx="3529080" cy="5334120"/>
          </a:xfrm>
        </p:grpSpPr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5257800" y="1371600"/>
              <a:ext cx="352908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7389000" y="6172200"/>
              <a:ext cx="138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66"/>
                  </a:solidFill>
                  <a:latin typeface="Times New Roman"/>
                </a:rPr>
                <a:t>winterbeel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834400" y="66135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67080" y="0"/>
            <a:ext cx="4267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Cáltha palústr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57200" y="152280"/>
            <a:ext cx="4854600" cy="6705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085880" y="83808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Dotterbloe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343040" y="914040"/>
            <a:ext cx="3711960" cy="1161360"/>
            <a:chOff x="4343040" y="914040"/>
            <a:chExt cx="3711960" cy="1161360"/>
          </a:xfrm>
        </p:grpSpPr>
        <p:sp>
          <p:nvSpPr>
            <p:cNvPr id="133" name=""/>
            <p:cNvSpPr/>
            <p:nvPr/>
          </p:nvSpPr>
          <p:spPr>
            <a:xfrm>
              <a:off x="5562720" y="1676520"/>
              <a:ext cx="2492280" cy="398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5-6 bloembladen (4-5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4343040" y="914040"/>
              <a:ext cx="1066680" cy="76212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33520" y="0"/>
            <a:ext cx="8001000" cy="6629400"/>
            <a:chOff x="533520" y="0"/>
            <a:chExt cx="8001000" cy="6629400"/>
          </a:xfrm>
        </p:grpSpPr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533520" y="1295280"/>
              <a:ext cx="800100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33520" y="0"/>
              <a:ext cx="4876920" cy="1295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33520" y="1295280"/>
            <a:ext cx="8001000" cy="5334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533520" y="1295280"/>
            <a:ext cx="8001000" cy="534672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599760" y="457200"/>
            <a:ext cx="3362760" cy="3276360"/>
            <a:chOff x="599760" y="457200"/>
            <a:chExt cx="3362760" cy="3276360"/>
          </a:xfrm>
        </p:grpSpPr>
        <p:pic>
          <p:nvPicPr>
            <p:cNvPr id="141" name="" descr=""/>
            <p:cNvPicPr/>
            <p:nvPr/>
          </p:nvPicPr>
          <p:blipFill>
            <a:blip r:embed="rId5"/>
            <a:stretch/>
          </p:blipFill>
          <p:spPr>
            <a:xfrm>
              <a:off x="609480" y="533160"/>
              <a:ext cx="318636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99760" y="457200"/>
              <a:ext cx="336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5e855b"/>
                  </a:solidFill>
                  <a:latin typeface="Times New Roman"/>
                </a:rPr>
                <a:t>zaden in bootvormige vrucht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77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Elodéa canadéns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4516560" cy="70340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029200" y="1219320"/>
            <a:ext cx="3657600" cy="5209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780960" y="685800"/>
            <a:ext cx="184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Brede waterpes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78400" y="457200"/>
            <a:ext cx="143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855b"/>
                </a:solidFill>
                <a:latin typeface="Times New Roman"/>
              </a:rPr>
              <a:t>bloei (6-8)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855b"/>
                </a:solidFill>
                <a:latin typeface="Times New Roman"/>
              </a:rPr>
              <a:t>boven wat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2372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Filipéndula ulmár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98600" y="228600"/>
            <a:ext cx="3755880" cy="647712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2133360" y="2514600"/>
            <a:ext cx="6016320" cy="1479960"/>
            <a:chOff x="2133360" y="2514600"/>
            <a:chExt cx="6016320" cy="1479960"/>
          </a:xfrm>
        </p:grpSpPr>
        <p:sp>
          <p:nvSpPr>
            <p:cNvPr id="155" name=""/>
            <p:cNvSpPr/>
            <p:nvPr/>
          </p:nvSpPr>
          <p:spPr>
            <a:xfrm>
              <a:off x="5019480" y="2514600"/>
              <a:ext cx="279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6-7) in ‘speren’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133360" y="2743200"/>
              <a:ext cx="28954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06160" y="3290760"/>
              <a:ext cx="314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aderen afgebroken geveer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derzijde witviltig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191120" y="3581280"/>
              <a:ext cx="76176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7160760" y="76212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Moerasspire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80880" y="304920"/>
            <a:ext cx="8382240" cy="6324480"/>
            <a:chOff x="380880" y="304920"/>
            <a:chExt cx="8382240" cy="6324480"/>
          </a:xfrm>
        </p:grpSpPr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380880" y="1219320"/>
              <a:ext cx="838224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380880" y="304920"/>
              <a:ext cx="3657600" cy="9144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2372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Iris pseudácoru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80880" y="380880"/>
            <a:ext cx="3409920" cy="6248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849080" y="762120"/>
            <a:ext cx="9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Gele li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362320" y="1523880"/>
            <a:ext cx="4814640" cy="703800"/>
            <a:chOff x="2362320" y="1523880"/>
            <a:chExt cx="4814640" cy="703800"/>
          </a:xfrm>
        </p:grpSpPr>
        <p:sp>
          <p:nvSpPr>
            <p:cNvPr id="169" name=""/>
            <p:cNvSpPr/>
            <p:nvPr/>
          </p:nvSpPr>
          <p:spPr>
            <a:xfrm>
              <a:off x="4267080" y="1523880"/>
              <a:ext cx="290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5e855b"/>
                  </a:solidFill>
                  <a:latin typeface="Times New Roman"/>
                </a:rPr>
                <a:t>drietallige bloemen (5-7) met duidelijk honingmerk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362320" y="2057400"/>
              <a:ext cx="182880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590920" y="3809880"/>
            <a:ext cx="4572000" cy="2470680"/>
            <a:chOff x="2590920" y="3809880"/>
            <a:chExt cx="4572000" cy="2470680"/>
          </a:xfrm>
        </p:grpSpPr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4648320" y="3809880"/>
              <a:ext cx="251460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633200" y="5881680"/>
              <a:ext cx="77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zad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90920" y="4876920"/>
              <a:ext cx="228600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80880" y="228600"/>
            <a:ext cx="8323560" cy="6629400"/>
            <a:chOff x="380880" y="228600"/>
            <a:chExt cx="8323560" cy="6629400"/>
          </a:xfrm>
        </p:grpSpPr>
        <p:pic>
          <p:nvPicPr>
            <p:cNvPr id="176" name="" descr=""/>
            <p:cNvPicPr/>
            <p:nvPr/>
          </p:nvPicPr>
          <p:blipFill>
            <a:blip r:embed="rId3">
              <a:lum bright="24000"/>
            </a:blip>
            <a:stretch/>
          </p:blipFill>
          <p:spPr>
            <a:xfrm>
              <a:off x="380880" y="228600"/>
              <a:ext cx="4395960" cy="647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4"/>
            <a:stretch/>
          </p:blipFill>
          <p:spPr>
            <a:xfrm>
              <a:off x="5410080" y="1371600"/>
              <a:ext cx="329436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724280" y="228600"/>
              <a:ext cx="762120" cy="66294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Lysimáchia nummulár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04920" y="228600"/>
            <a:ext cx="3851280" cy="66294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010280" y="76212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Penningkrui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038480" y="1905120"/>
            <a:ext cx="4395960" cy="398880"/>
            <a:chOff x="4038480" y="1905120"/>
            <a:chExt cx="4395960" cy="398880"/>
          </a:xfrm>
        </p:grpSpPr>
        <p:sp>
          <p:nvSpPr>
            <p:cNvPr id="185" name=""/>
            <p:cNvSpPr/>
            <p:nvPr/>
          </p:nvSpPr>
          <p:spPr>
            <a:xfrm>
              <a:off x="5478480" y="1905120"/>
              <a:ext cx="29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6-7) alleenstaan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4038480" y="2133720"/>
              <a:ext cx="137160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038480" y="1600200"/>
            <a:ext cx="4641840" cy="4610160"/>
            <a:chOff x="4038480" y="1600200"/>
            <a:chExt cx="4641840" cy="4610160"/>
          </a:xfrm>
        </p:grpSpPr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4419720" y="1600200"/>
              <a:ext cx="4260600" cy="461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038480" y="1905120"/>
              <a:ext cx="381240" cy="53316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927000"/>
            <a:ext cx="4297320" cy="5931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191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Lysimáchia thyrsifól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04640" y="83808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Moeraswederik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428640" y="4114800"/>
            <a:ext cx="4875480" cy="703800"/>
            <a:chOff x="3428640" y="4114800"/>
            <a:chExt cx="4875480" cy="703800"/>
          </a:xfrm>
        </p:grpSpPr>
        <p:sp>
          <p:nvSpPr>
            <p:cNvPr id="196" name=""/>
            <p:cNvSpPr/>
            <p:nvPr/>
          </p:nvSpPr>
          <p:spPr>
            <a:xfrm>
              <a:off x="5638680" y="4114800"/>
              <a:ext cx="2665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in trossen (5-6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3428640" y="4343400"/>
              <a:ext cx="19810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352680" y="1295280"/>
            <a:ext cx="5029200" cy="5257800"/>
            <a:chOff x="3352680" y="1295280"/>
            <a:chExt cx="5029200" cy="5257800"/>
          </a:xfrm>
        </p:grpSpPr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4419720" y="1295280"/>
              <a:ext cx="396216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352680" y="4191120"/>
              <a:ext cx="1067040" cy="380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Lýthrum salicár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28600" y="0"/>
            <a:ext cx="4492800" cy="66294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7466400" y="7621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Kattenstaar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3080" y="6172200"/>
            <a:ext cx="336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855b"/>
                </a:solidFill>
                <a:latin typeface="Times New Roman"/>
              </a:rPr>
              <a:t>bloemen (6-7) in schijnkrans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114440" y="1905120"/>
            <a:ext cx="5029560" cy="3523680"/>
            <a:chOff x="4114440" y="1905120"/>
            <a:chExt cx="5029560" cy="3523680"/>
          </a:xfrm>
        </p:grpSpPr>
        <p:sp>
          <p:nvSpPr>
            <p:cNvPr id="208" name=""/>
            <p:cNvSpPr/>
            <p:nvPr/>
          </p:nvSpPr>
          <p:spPr>
            <a:xfrm>
              <a:off x="5410080" y="2895480"/>
              <a:ext cx="373392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opmerkelijk: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NL" sz="2000" spc="-1" strike="noStrike">
                  <a:solidFill>
                    <a:srgbClr val="990033"/>
                  </a:solidFill>
                  <a:latin typeface="Times New Roman"/>
                </a:rPr>
                <a:t>trimorfie:</a:t>
              </a: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drie verschillende stijl- en meeldraadlengte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(per plant één bepaalde lengte).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Hierdoor is kruisbestuiving gegarandeerd.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114440" y="3124080"/>
              <a:ext cx="1143000" cy="304920"/>
            </a:xfrm>
            <a:prstGeom prst="line">
              <a:avLst/>
            </a:prstGeom>
            <a:ln w="158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4267080" y="1905120"/>
              <a:ext cx="990720" cy="1218960"/>
            </a:xfrm>
            <a:prstGeom prst="line">
              <a:avLst/>
            </a:prstGeom>
            <a:ln w="158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114440" y="3124080"/>
              <a:ext cx="1143000" cy="1600200"/>
            </a:xfrm>
            <a:prstGeom prst="line">
              <a:avLst/>
            </a:prstGeom>
            <a:ln w="158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80880" y="0"/>
            <a:ext cx="4953240" cy="6858000"/>
            <a:chOff x="380880" y="0"/>
            <a:chExt cx="4953240" cy="6858000"/>
          </a:xfrm>
        </p:grpSpPr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>
              <a:off x="380880" y="0"/>
              <a:ext cx="37306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4114800" y="0"/>
              <a:ext cx="1219320" cy="68580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04920" y="0"/>
            <a:ext cx="8610480" cy="6858000"/>
            <a:chOff x="304920" y="0"/>
            <a:chExt cx="8610480" cy="6858000"/>
          </a:xfrm>
        </p:grpSpPr>
        <p:pic>
          <p:nvPicPr>
            <p:cNvPr id="216" name="" descr=""/>
            <p:cNvPicPr/>
            <p:nvPr/>
          </p:nvPicPr>
          <p:blipFill>
            <a:blip r:embed="rId3"/>
            <a:stretch/>
          </p:blipFill>
          <p:spPr>
            <a:xfrm>
              <a:off x="304920" y="1219320"/>
              <a:ext cx="8610480" cy="535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304920" y="0"/>
              <a:ext cx="3962160" cy="12193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4920" y="6553080"/>
              <a:ext cx="3962160" cy="3049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1:48:51Z</dcterms:created>
  <dc:creator>default</dc:creator>
  <dc:description/>
  <dc:language>en-US</dc:language>
  <cp:lastModifiedBy>Administrator</cp:lastModifiedBy>
  <dcterms:modified xsi:type="dcterms:W3CDTF">2011-01-18T20:20:44Z</dcterms:modified>
  <cp:revision>12</cp:revision>
  <dc:subject/>
  <dc:title>Dia 1</dc:title>
</cp:coreProperties>
</file>