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2D7B-4A02-4939-A125-F3835ABF4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73AA-7CA3-4CBA-9594-3CB3D7F3E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DDB0-9EA6-498F-B5F8-94B7764CF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5A97-F8E2-4F76-A84A-BDDEC26A5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7633F-6D9A-41E3-B6A1-EBD481574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690D7-EABA-48E2-8E0F-F6B74D02B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14BE2-518E-4490-B1D1-49F1B1D2D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D38F2-EB2E-4E4F-AE91-135F220AC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EE5DE-8D55-4162-A481-19D3C13DD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DD7EC-BB89-4AA9-AD86-D7CDA3D73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0DE88-FB39-4C1F-8886-827F38B8D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9CDF-9018-4178-AE76-C95535844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BBAF8-E11E-4BF8-B0CF-62598CDF3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38405-FEAF-4939-B510-08C28290B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C0E64-59CC-407C-A34D-D1A752227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ED7A0-2EC2-451E-8169-F36E09034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A894A-7D6E-4F7A-8A20-ED682C2D6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96BF-0AC6-48AD-8F30-C89AD18D1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8A4D-9CAA-4A1E-9DF4-DBF690ED0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9358-B119-43E3-A2D8-885F26FBB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A18C-F152-4828-A56B-312B126B7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A00B-8522-4236-B8D6-817366E25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F9FF-DF7F-41DB-8B58-B08EF8D5B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816F-88DC-4905-8DC6-998D5A874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4c3d8"/>
                </a:gs>
                <a:gs pos="100000">
                  <a:srgbClr val="b8b7d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c4c3d8"/>
                </a:gs>
                <a:gs pos="100000">
                  <a:srgbClr val="b8b7d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1bcf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a6f8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51CF5-6D93-409E-A5AE-639E30BCFABC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4c3d8"/>
                </a:gs>
                <a:gs pos="100000">
                  <a:srgbClr val="b8b7d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c4c3d8"/>
                </a:gs>
                <a:gs pos="100000">
                  <a:srgbClr val="b8b7d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B1D29-206C-4190-8F3D-BA10FC5E07E9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1bcf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a6f86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s://livelink.groenkennisnet.nl/livelink/llisapi.dll/fetch/93689552/93691489/t-gewasbescherming.htm.html?nodeid=93689073&amp;vernum=-2" TargetMode="External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Gewasbescherm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t eti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ing van de midde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Systemische werking, wordt in de sapstroom opgenom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Contactmiddelen, werkt alleen waar het gewas wordt geraak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Selectieve middelen, doodt alleen een soort of groep insecten of onkruid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Allesdoders, maakt geen ondershe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Preventieve middelen voorkomt een plaa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Curatieve middelen genez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evaarsymbole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0" descr=""/>
          <p:cNvPicPr/>
          <p:nvPr/>
        </p:nvPicPr>
        <p:blipFill>
          <a:blip r:embed="rId1"/>
          <a:stretch/>
        </p:blipFill>
        <p:spPr>
          <a:xfrm>
            <a:off x="0" y="1125360"/>
            <a:ext cx="666720" cy="657360"/>
          </a:xfrm>
          <a:prstGeom prst="rect">
            <a:avLst/>
          </a:prstGeom>
          <a:ln w="0">
            <a:noFill/>
          </a:ln>
        </p:spPr>
      </p:pic>
      <p:pic>
        <p:nvPicPr>
          <p:cNvPr id="184" name="0" descr=""/>
          <p:cNvPicPr/>
          <p:nvPr/>
        </p:nvPicPr>
        <p:blipFill>
          <a:blip r:embed="rId2"/>
          <a:stretch/>
        </p:blipFill>
        <p:spPr>
          <a:xfrm>
            <a:off x="0" y="1916280"/>
            <a:ext cx="666720" cy="657000"/>
          </a:xfrm>
          <a:prstGeom prst="rect">
            <a:avLst/>
          </a:prstGeom>
          <a:ln w="0">
            <a:noFill/>
          </a:ln>
        </p:spPr>
      </p:pic>
      <p:pic>
        <p:nvPicPr>
          <p:cNvPr id="185" name="0" descr=""/>
          <p:cNvPicPr/>
          <p:nvPr/>
        </p:nvPicPr>
        <p:blipFill>
          <a:blip r:embed="rId3"/>
          <a:stretch/>
        </p:blipFill>
        <p:spPr>
          <a:xfrm>
            <a:off x="0" y="2708280"/>
            <a:ext cx="666720" cy="657360"/>
          </a:xfrm>
          <a:prstGeom prst="rect">
            <a:avLst/>
          </a:prstGeom>
          <a:ln w="0">
            <a:noFill/>
          </a:ln>
        </p:spPr>
      </p:pic>
      <p:pic>
        <p:nvPicPr>
          <p:cNvPr id="186" name="0" descr=""/>
          <p:cNvPicPr/>
          <p:nvPr/>
        </p:nvPicPr>
        <p:blipFill>
          <a:blip r:embed="rId4"/>
          <a:stretch/>
        </p:blipFill>
        <p:spPr>
          <a:xfrm>
            <a:off x="0" y="3500280"/>
            <a:ext cx="666720" cy="657360"/>
          </a:xfrm>
          <a:prstGeom prst="rect">
            <a:avLst/>
          </a:prstGeom>
          <a:ln w="0">
            <a:noFill/>
          </a:ln>
        </p:spPr>
      </p:pic>
      <p:pic>
        <p:nvPicPr>
          <p:cNvPr id="187" name="0" descr=""/>
          <p:cNvPicPr/>
          <p:nvPr/>
        </p:nvPicPr>
        <p:blipFill>
          <a:blip r:embed="rId5"/>
          <a:stretch/>
        </p:blipFill>
        <p:spPr>
          <a:xfrm>
            <a:off x="0" y="5013360"/>
            <a:ext cx="666720" cy="657360"/>
          </a:xfrm>
          <a:prstGeom prst="rect">
            <a:avLst/>
          </a:prstGeom>
          <a:ln w="0">
            <a:noFill/>
          </a:ln>
        </p:spPr>
      </p:pic>
      <p:pic>
        <p:nvPicPr>
          <p:cNvPr id="188" name="0" descr=""/>
          <p:cNvPicPr/>
          <p:nvPr/>
        </p:nvPicPr>
        <p:blipFill>
          <a:blip r:embed="rId6"/>
          <a:stretch/>
        </p:blipFill>
        <p:spPr>
          <a:xfrm>
            <a:off x="0" y="5805360"/>
            <a:ext cx="666720" cy="657360"/>
          </a:xfrm>
          <a:prstGeom prst="rect">
            <a:avLst/>
          </a:prstGeom>
          <a:ln w="0">
            <a:noFill/>
          </a:ln>
        </p:spPr>
      </p:pic>
      <p:pic>
        <p:nvPicPr>
          <p:cNvPr id="189" name="0" descr=""/>
          <p:cNvPicPr/>
          <p:nvPr/>
        </p:nvPicPr>
        <p:blipFill>
          <a:blip r:embed="rId7"/>
          <a:stretch/>
        </p:blipFill>
        <p:spPr>
          <a:xfrm>
            <a:off x="0" y="4292640"/>
            <a:ext cx="666720" cy="65736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886680" y="1216080"/>
            <a:ext cx="700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odshoofd”. Symbool voor zeer vergiftige en vergiftige middel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45200" y="2008080"/>
            <a:ext cx="850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askruis”. Voor middelen die irriterend zijn of schadelijk voor de gezondhei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39800" y="2800440"/>
            <a:ext cx="436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lam”. Voor licht ontvlambare middel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813960" y="3592440"/>
            <a:ext cx="511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lam boven cirkel”. Voor oxyderende middel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900000" y="45086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817200" y="4384800"/>
            <a:ext cx="811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b. van inwerkend zuur op materiaal of lichaamsdeel. Voor bijtende middel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40520" y="5105520"/>
            <a:ext cx="501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tploffende bom”. Voor explosieve middel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38720" y="5897520"/>
            <a:ext cx="28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vaarlijk voor het milie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tiketinforma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Merkna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Toelatingsnummer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Aard van het prepara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Werkzame sto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Gehal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Inhoud van de verpakk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Waarschuwingszinn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Veligheidsaanbeveling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184560" y="1576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t wettelijk gebruiksvoorschrift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t soort schadelijke organis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t soort gewas of gewasgroe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elt- of verzorgingssituati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 omgeving waar de teelt plaatsvind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t tijdstip van bestrijd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Alle andere toepassingen zijn verboden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 veiligheidstermij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 tijd tussen de laatste toepassing en de oogs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t is afhankelijk van de afbraaksnelhe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t afvoeren van restanten en verpakking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3 mogelijkhede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5454c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Terug naar de leverancier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5454c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Naar KCA-depot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5454c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Bedrijfsafv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De STORL aanduiding geeft hierover informati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3564000" y="4552920"/>
            <a:ext cx="39607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en oefening etiketlez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632320" y="3068640"/>
            <a:ext cx="296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5454c6"/>
                </a:solidFill>
                <a:uFillTx/>
                <a:latin typeface="Arial"/>
                <a:hlinkClick r:id="rId1"/>
              </a:rPr>
              <a:t>klik hier voor een voorbee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istentie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rfelijk overdraagba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iddelen afwissel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iddelen in blokken afwissel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ever niet meng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eltmaatregelen en bedrijfshygië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uttige insec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seringen en spuitintervall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t aanmaken van de spuitvloeisto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het etiket lezen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hoeveelheid middel berekenen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persoonlijke beschermingsmiddelen aandoen/aanbrengen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spuitapparatuur/toedieningsapparatuur klaarmaken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middel klaarmaken voor gebruik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fustreinigen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verantwoord opruimen van de verpakking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toedienen middel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spuitrestant verantwoord afvoeren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schoonmaken van apparatuur en beschermingsmiddele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 afbraak van midde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Bacteriën, zonlicht, microorganismen, chemische reac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Afbraaksnelheid aangeduid met DT-50 waarde = halfwaardetijd in 30 dag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DT-waarde van meer dan 60 dagen = een moeilijk afbreekbaar product = per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Komt op plaatsen terecht zoals grond- en regenwa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enstelling van de midde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rkzame stof (W.S. of A.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 verpakking aangegeven als percent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aak vaste stoffen of olieachtige stoff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oit als pure stof in verband met allerlei bezwar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 vorm waarin de stof is gebracht is de “formulering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aruit bestaan de middelen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Oplosmid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Draagstof of vulsto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Dispergeermiddel (de w.s. blijft zweve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Emulgator (het w.s. blijft gemeng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Uitvloei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Hecht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Anti-schuimmiddel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Kleur- en geurstoff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ispergeermidde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22878" t="18276" r="27257" b="8480"/>
          <a:stretch/>
        </p:blipFill>
        <p:spPr>
          <a:xfrm>
            <a:off x="1258920" y="1768320"/>
            <a:ext cx="5977080" cy="48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en emulg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47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 formulering van de midde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Spuitpoed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Spuitkorr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Flow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Mengbare olië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Waterige oplossing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Stuifpoed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Granula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Strooimiddel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Rookmiddel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Gasnevelformulering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Aerosol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2124000" y="4307040"/>
            <a:ext cx="2808360" cy="25509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048360" cy="172728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4751280" y="5200560"/>
            <a:ext cx="4392720" cy="165744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4"/>
          <a:stretch/>
        </p:blipFill>
        <p:spPr>
          <a:xfrm>
            <a:off x="6840360" y="0"/>
            <a:ext cx="2303640" cy="273672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2846160" y="609300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uitkorr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5"/>
          <a:stretch/>
        </p:blipFill>
        <p:spPr>
          <a:xfrm>
            <a:off x="0" y="2421000"/>
            <a:ext cx="2149560" cy="44370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6"/>
          <a:stretch/>
        </p:blipFill>
        <p:spPr>
          <a:xfrm>
            <a:off x="2195640" y="1773360"/>
            <a:ext cx="2065320" cy="23050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3422160" y="2205000"/>
            <a:ext cx="11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nula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877080" y="2924280"/>
            <a:ext cx="1295280" cy="5760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258920" y="2421000"/>
            <a:ext cx="914400" cy="6490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7"/>
          <a:stretch/>
        </p:blipFill>
        <p:spPr>
          <a:xfrm>
            <a:off x="4716360" y="1628640"/>
            <a:ext cx="2087640" cy="172908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8"/>
          <a:stretch/>
        </p:blipFill>
        <p:spPr>
          <a:xfrm>
            <a:off x="4162320" y="3357720"/>
            <a:ext cx="49816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0" y="206064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en waterige oplos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7T12:58:26Z</dcterms:created>
  <dc:creator>Peter</dc:creator>
  <dc:description/>
  <dc:language>en-US</dc:language>
  <cp:lastModifiedBy>Administrator</cp:lastModifiedBy>
  <dcterms:modified xsi:type="dcterms:W3CDTF">2009-12-28T17:39:34Z</dcterms:modified>
  <cp:revision>7</cp:revision>
  <dc:subject/>
  <dc:title>Gewasbescherming</dc:title>
</cp:coreProperties>
</file>