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8C5D-5645-42D9-9732-75F961B8C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7527-9639-44D4-8BEF-032214B0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C0FC-A651-465D-B913-7C18A60C7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6843-52AF-41BD-9267-C3ED2B7C9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9271-DA4C-4E83-A6E1-A3ABC62B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F5E7-54CB-4664-9C3C-4F6EEEFB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4B2C-F60C-41F0-995D-AF8FFDB4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75CB-A518-44C9-A156-BF5F4DB9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E0AD-B7D2-401D-AE31-6B877ED0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2C3D-C651-4CC4-8A20-41B470C2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BB93-A516-4F77-AA4F-6D24BC67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A35E-820C-4283-9C33-BF96664A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DEB6-9A51-4B69-A9BC-149DB68D116A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Schimmelziekten in grassportvegetaties</a:t>
            </a: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en andere aantasting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6535800" y="5896080"/>
            <a:ext cx="123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Samenstelling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P. Nug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7"/>
          <p:cNvSpPr/>
          <p:nvPr/>
        </p:nvSpPr>
        <p:spPr>
          <a:xfrm>
            <a:off x="2058840" y="403200"/>
            <a:ext cx="597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ladvlekkenziek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rechsleria poae/Helminosporium fragr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8" descr="helminthosporiumbladvlek"/>
          <p:cNvPicPr/>
          <p:nvPr/>
        </p:nvPicPr>
        <p:blipFill>
          <a:blip r:embed="rId1"/>
          <a:stretch/>
        </p:blipFill>
        <p:spPr>
          <a:xfrm>
            <a:off x="2843280" y="22860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bladvlekkena"/>
          <p:cNvPicPr/>
          <p:nvPr/>
        </p:nvPicPr>
        <p:blipFill>
          <a:blip r:embed="rId2"/>
          <a:stretch/>
        </p:blipFill>
        <p:spPr>
          <a:xfrm>
            <a:off x="0" y="1341360"/>
            <a:ext cx="2819520" cy="1905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bladvlekkenziekte"/>
          <p:cNvPicPr/>
          <p:nvPr/>
        </p:nvPicPr>
        <p:blipFill>
          <a:blip r:embed="rId3"/>
          <a:stretch/>
        </p:blipFill>
        <p:spPr>
          <a:xfrm>
            <a:off x="0" y="3716280"/>
            <a:ext cx="2808360" cy="21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eldbeemdgras en Engels raaig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erfst en voorja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roge of erg natte gro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lempgevoelige gro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pspattend 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chadu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Kort maaien of beschadigin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oge stikstofgif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Kalitek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fvoeren van besmet maais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odemwater beheers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emes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noeien omringende beplan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Maaihoogte aanpass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-69840" y="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ladvlekkenziek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738360" y="488880"/>
            <a:ext cx="40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tracn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Collectotrichum graminico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5" descr="antracnose3"/>
          <p:cNvPicPr/>
          <p:nvPr/>
        </p:nvPicPr>
        <p:blipFill>
          <a:blip r:embed="rId1"/>
          <a:stretch/>
        </p:blipFill>
        <p:spPr>
          <a:xfrm>
            <a:off x="0" y="1589040"/>
            <a:ext cx="6335640" cy="5268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antracnose1"/>
          <p:cNvPicPr/>
          <p:nvPr/>
        </p:nvPicPr>
        <p:blipFill>
          <a:blip r:embed="rId2"/>
          <a:stretch/>
        </p:blipFill>
        <p:spPr>
          <a:xfrm>
            <a:off x="6400800" y="0"/>
            <a:ext cx="274320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 gevoel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ok veldbeemd 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ate zomer en ein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i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lechte verdich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temperatu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lucht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Arme bod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ntensief gebrui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n de zomer wat stikst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 verbet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-47520" y="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antracno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6"/>
          <p:cNvSpPr/>
          <p:nvPr/>
        </p:nvSpPr>
        <p:spPr>
          <a:xfrm>
            <a:off x="3930120" y="115920"/>
            <a:ext cx="35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8" descr="DollarSpota"/>
          <p:cNvPicPr/>
          <p:nvPr/>
        </p:nvPicPr>
        <p:blipFill>
          <a:blip r:embed="rId1"/>
          <a:stretch/>
        </p:blipFill>
        <p:spPr>
          <a:xfrm>
            <a:off x="2843280" y="1844640"/>
            <a:ext cx="6121440" cy="4773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dollarspot"/>
          <p:cNvPicPr/>
          <p:nvPr/>
        </p:nvPicPr>
        <p:blipFill>
          <a:blip r:embed="rId2"/>
          <a:stretch/>
        </p:blipFill>
        <p:spPr>
          <a:xfrm>
            <a:off x="0" y="0"/>
            <a:ext cx="3425760" cy="25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dollarspotb"/>
          <p:cNvPicPr/>
          <p:nvPr/>
        </p:nvPicPr>
        <p:blipFill>
          <a:blip r:embed="rId1"/>
          <a:stretch/>
        </p:blipFill>
        <p:spPr>
          <a:xfrm>
            <a:off x="539640" y="1154160"/>
            <a:ext cx="8280360" cy="54673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3930120" y="115920"/>
            <a:ext cx="35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DollarSpot1"/>
          <p:cNvPicPr/>
          <p:nvPr/>
        </p:nvPicPr>
        <p:blipFill>
          <a:blip r:embed="rId1"/>
          <a:stretch/>
        </p:blipFill>
        <p:spPr>
          <a:xfrm>
            <a:off x="0" y="1133640"/>
            <a:ext cx="7620120" cy="57243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3642840" y="189000"/>
            <a:ext cx="50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tbare rassen van Agrostis en Festu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ikstoftek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tek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mer/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luchtvochtigheid en hoge temperatu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esistente rass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oed bemestingsreg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 in voorjaar werkt positie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we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jzerchela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-49320" y="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Dollarspo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sneeuwskimmel3"/>
          <p:cNvPicPr/>
          <p:nvPr/>
        </p:nvPicPr>
        <p:blipFill>
          <a:blip r:embed="rId1"/>
          <a:stretch/>
        </p:blipFill>
        <p:spPr>
          <a:xfrm>
            <a:off x="324000" y="1541520"/>
            <a:ext cx="8424720" cy="53164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2756520" y="423720"/>
            <a:ext cx="29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euwschimm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icrodochium niva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382800" y="344520"/>
            <a:ext cx="29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etr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Fusarium culmor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sneeuwschimmel2"/>
          <p:cNvPicPr/>
          <p:nvPr/>
        </p:nvPicPr>
        <p:blipFill>
          <a:blip r:embed="rId1"/>
          <a:stretch/>
        </p:blipFill>
        <p:spPr>
          <a:xfrm>
            <a:off x="0" y="2914560"/>
            <a:ext cx="5715000" cy="3943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sneeuwschimmel3"/>
          <p:cNvPicPr/>
          <p:nvPr/>
        </p:nvPicPr>
        <p:blipFill>
          <a:blip r:embed="rId2"/>
          <a:stretch/>
        </p:blipFill>
        <p:spPr>
          <a:xfrm>
            <a:off x="4343400" y="189000"/>
            <a:ext cx="4800600" cy="48974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740520" y="711360"/>
            <a:ext cx="29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euwschimm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icrodochium niva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785160" y="1700280"/>
            <a:ext cx="29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etr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Fusarium culmor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10" descr="028%20sneeuwschimmel-028%20sneeuwschimmel-1"/>
          <p:cNvPicPr/>
          <p:nvPr/>
        </p:nvPicPr>
        <p:blipFill>
          <a:blip r:embed="rId3"/>
          <a:stretch/>
        </p:blipFill>
        <p:spPr>
          <a:xfrm>
            <a:off x="3419640" y="4762440"/>
            <a:ext cx="2771640" cy="20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Bronn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wasbeschermingsgids 2.10.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eldbank gewasbescherm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eenkeep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arenbru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opgreen/Advan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sectconsulta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tern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zwakt gew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-door lang doorgroeien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-door late stikstofgif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spreiding door versl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interperiode en warme vochtige zo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dichte gr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iltlaa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ras droog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ntilatie bevord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litten om zode droog te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zichtig met stikstofgift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giften, vooral einde groeiseizo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we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sel afrui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ilt bestrij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eritage, Signum Caramb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-103680" y="0"/>
            <a:ext cx="29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Sneeuwschimmel/voetro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heksenkring5"/>
          <p:cNvPicPr/>
          <p:nvPr/>
        </p:nvPicPr>
        <p:blipFill>
          <a:blip r:embed="rId1"/>
          <a:stretch/>
        </p:blipFill>
        <p:spPr>
          <a:xfrm>
            <a:off x="250920" y="2967120"/>
            <a:ext cx="5184720" cy="3890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heksenkring4"/>
          <p:cNvPicPr/>
          <p:nvPr/>
        </p:nvPicPr>
        <p:blipFill>
          <a:blip r:embed="rId2"/>
          <a:stretch/>
        </p:blipFill>
        <p:spPr>
          <a:xfrm>
            <a:off x="3048120" y="0"/>
            <a:ext cx="6095880" cy="40640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9"/>
          <p:cNvSpPr/>
          <p:nvPr/>
        </p:nvSpPr>
        <p:spPr>
          <a:xfrm>
            <a:off x="3240" y="549360"/>
            <a:ext cx="285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ksenkr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rasmius ore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12" descr="030%20weidekring-030%20weidekring-1"/>
          <p:cNvPicPr/>
          <p:nvPr/>
        </p:nvPicPr>
        <p:blipFill>
          <a:blip r:embed="rId3"/>
          <a:stretch/>
        </p:blipFill>
        <p:spPr>
          <a:xfrm>
            <a:off x="5724360" y="3402000"/>
            <a:ext cx="341964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ruchtlichamen in de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strijding is moeil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agelijks prikken en vochtig ma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1 maand vol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ringen verdwijnen vaak vanz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-57240" y="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Heksenkr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rondeplekken"/>
          <p:cNvPicPr/>
          <p:nvPr/>
        </p:nvPicPr>
        <p:blipFill>
          <a:blip r:embed="rId1"/>
          <a:stretch/>
        </p:blipFill>
        <p:spPr>
          <a:xfrm>
            <a:off x="0" y="0"/>
            <a:ext cx="4957920" cy="6543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3423960" y="2565360"/>
            <a:ext cx="397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ondeplekkenziek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hiobol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Gaeumannomyces grami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7" descr="takealltpddl_3057021"/>
          <p:cNvPicPr/>
          <p:nvPr/>
        </p:nvPicPr>
        <p:blipFill>
          <a:blip r:embed="rId2"/>
          <a:stretch/>
        </p:blipFill>
        <p:spPr>
          <a:xfrm>
            <a:off x="5364000" y="4022640"/>
            <a:ext cx="3780000" cy="2835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rondeplekken1"/>
          <p:cNvPicPr/>
          <p:nvPr/>
        </p:nvPicPr>
        <p:blipFill>
          <a:blip r:embed="rId3"/>
          <a:stretch/>
        </p:blipFill>
        <p:spPr>
          <a:xfrm>
            <a:off x="6066000" y="0"/>
            <a:ext cx="3078000" cy="25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take all"/>
          <p:cNvPicPr/>
          <p:nvPr/>
        </p:nvPicPr>
        <p:blipFill>
          <a:blip r:embed="rId1"/>
          <a:stretch/>
        </p:blipFill>
        <p:spPr>
          <a:xfrm>
            <a:off x="250920" y="1150920"/>
            <a:ext cx="8569080" cy="5707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1315080" y="135000"/>
            <a:ext cx="273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gnaporthe po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TakeAll1"/>
          <p:cNvPicPr/>
          <p:nvPr/>
        </p:nvPicPr>
        <p:blipFill>
          <a:blip r:embed="rId1"/>
          <a:stretch/>
        </p:blipFill>
        <p:spPr>
          <a:xfrm>
            <a:off x="250920" y="3538440"/>
            <a:ext cx="4249800" cy="2962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takeall3"/>
          <p:cNvPicPr/>
          <p:nvPr/>
        </p:nvPicPr>
        <p:blipFill>
          <a:blip r:embed="rId2"/>
          <a:stretch/>
        </p:blipFill>
        <p:spPr>
          <a:xfrm>
            <a:off x="3348000" y="189000"/>
            <a:ext cx="5508720" cy="3668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Take All patch_news_6905"/>
          <p:cNvPicPr/>
          <p:nvPr/>
        </p:nvPicPr>
        <p:blipFill>
          <a:blip r:embed="rId3"/>
          <a:stretch/>
        </p:blipFill>
        <p:spPr>
          <a:xfrm>
            <a:off x="395280" y="404640"/>
            <a:ext cx="3529080" cy="26514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9"/>
          <p:cNvSpPr/>
          <p:nvPr/>
        </p:nvSpPr>
        <p:spPr>
          <a:xfrm>
            <a:off x="5583960" y="4724280"/>
            <a:ext cx="273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gnaporthe po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403848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oodzwenkgras is resist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p jonge 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oel w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- e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Ph en zandgr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 control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nodig zure meststoff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vt. ammoniumsulfaat of 4,2 g/m ijzersulfa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khoudende meststoffen en dressings voorko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-122760" y="0"/>
            <a:ext cx="38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Rondeplekkenziekte/takeall pat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rooddraad"/>
          <p:cNvPicPr/>
          <p:nvPr/>
        </p:nvPicPr>
        <p:blipFill>
          <a:blip r:embed="rId1"/>
          <a:stretch/>
        </p:blipFill>
        <p:spPr>
          <a:xfrm>
            <a:off x="468360" y="404640"/>
            <a:ext cx="4044960" cy="6093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4862520" y="403200"/>
            <a:ext cx="289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ooddra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Laetisaria fuciform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9" descr="rooddraad1"/>
          <p:cNvPicPr/>
          <p:nvPr/>
        </p:nvPicPr>
        <p:blipFill>
          <a:blip r:embed="rId2"/>
          <a:stretch/>
        </p:blipFill>
        <p:spPr>
          <a:xfrm>
            <a:off x="5219640" y="1628640"/>
            <a:ext cx="3353040" cy="476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403848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al in Engels raaigras en roodzwemk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oms in veldbeem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Nat weer gevoel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erder in nazomer en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r nu ook het hele 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ekort aan stikst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esistente rass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egelmatige aanvoer van stikstof (zwavelzure ammoniak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chimmel verdwijnt vanzelf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-52920" y="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Roodddra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patch"/>
          <p:cNvPicPr/>
          <p:nvPr/>
        </p:nvPicPr>
        <p:blipFill>
          <a:blip r:embed="rId1"/>
          <a:stretch/>
        </p:blipFill>
        <p:spPr>
          <a:xfrm>
            <a:off x="1547640" y="1700280"/>
            <a:ext cx="6624720" cy="4968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742680" y="488880"/>
            <a:ext cx="1948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mvalziek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ffffff"/>
                </a:solidFill>
                <a:latin typeface="Tahoma"/>
              </a:rPr>
              <a:t>Pythium Sp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Wanneer treden schimmelziekten op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schimmel moet aanwezig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waardplant moet er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waardplant moet ontvankelijk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groeiomstandigheden moeten goed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wakteparasi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iemplan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Jonge plan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Evenwichtige bemesting en bereg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rain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ctuurbederf vermij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-47520" y="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Omvalziek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kroonroest"/>
          <p:cNvPicPr/>
          <p:nvPr/>
        </p:nvPicPr>
        <p:blipFill>
          <a:blip r:embed="rId1"/>
          <a:stretch/>
        </p:blipFill>
        <p:spPr>
          <a:xfrm>
            <a:off x="0" y="1268280"/>
            <a:ext cx="6227640" cy="41101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63080" y="135000"/>
            <a:ext cx="26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roonro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uccinia coron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7" descr="kroonroest2"/>
          <p:cNvPicPr/>
          <p:nvPr/>
        </p:nvPicPr>
        <p:blipFill>
          <a:blip r:embed="rId2"/>
          <a:stretch/>
        </p:blipFill>
        <p:spPr>
          <a:xfrm>
            <a:off x="6410160" y="1773360"/>
            <a:ext cx="2733840" cy="433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ind juni tot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ngels raai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Goed aan de groei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ak maai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-54720" y="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Kroonroe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bruinevlekroest"/>
          <p:cNvPicPr/>
          <p:nvPr/>
        </p:nvPicPr>
        <p:blipFill>
          <a:blip r:embed="rId1"/>
          <a:stretch/>
        </p:blipFill>
        <p:spPr>
          <a:xfrm>
            <a:off x="395280" y="4221000"/>
            <a:ext cx="3889440" cy="2551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puccinia poaenemo"/>
          <p:cNvPicPr/>
          <p:nvPr/>
        </p:nvPicPr>
        <p:blipFill>
          <a:blip r:embed="rId2"/>
          <a:stretch/>
        </p:blipFill>
        <p:spPr>
          <a:xfrm>
            <a:off x="395280" y="1341360"/>
            <a:ext cx="3887640" cy="2567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rust1"/>
          <p:cNvPicPr/>
          <p:nvPr/>
        </p:nvPicPr>
        <p:blipFill>
          <a:blip r:embed="rId3"/>
          <a:stretch/>
        </p:blipFill>
        <p:spPr>
          <a:xfrm>
            <a:off x="4551480" y="0"/>
            <a:ext cx="45925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762480" y="260280"/>
            <a:ext cx="351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uinevlekkenro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uccinia poae-nemoral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ldbeemd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naf apr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-87120" y="0"/>
            <a:ext cx="22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ruinevlekkenroe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oor ontbreken van bestijdingsmiddelen wordt het vakmanschap sterker dan ooit aangesprok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ek het antwoord op de onderstaande fout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njuiste voeding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eroverlast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ctuurfouten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 fouten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njuist ontworpen beplanting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250920" y="1341360"/>
          <a:ext cx="8424720" cy="4794480"/>
        </p:xfrm>
        <a:graphic>
          <a:graphicData uri="http://schemas.openxmlformats.org/drawingml/2006/table">
            <a:tbl>
              <a:tblPr/>
              <a:tblGrid>
                <a:gridCol w="1225440"/>
                <a:gridCol w="792000"/>
                <a:gridCol w="719280"/>
                <a:gridCol w="576360"/>
                <a:gridCol w="936720"/>
                <a:gridCol w="718920"/>
                <a:gridCol w="647640"/>
                <a:gridCol w="895320"/>
                <a:gridCol w="636840"/>
                <a:gridCol w="639720"/>
                <a:gridCol w="63648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neeu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imm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etr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o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a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ndep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thra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lla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adv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ks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r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w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t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mv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cht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pera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chtighei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nd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ere voed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ai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regen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in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onwer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ruc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lucht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Text Box 232"/>
          <p:cNvSpPr/>
          <p:nvPr/>
        </p:nvSpPr>
        <p:spPr>
          <a:xfrm>
            <a:off x="267840" y="27936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Oorzaak en gevolg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233"/>
          <p:cNvSpPr/>
          <p:nvPr/>
        </p:nvSpPr>
        <p:spPr>
          <a:xfrm>
            <a:off x="1996920" y="0"/>
            <a:ext cx="683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ef met een kruisje aan welke omstandigheden een aantasting van onderstaade schimme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kunnen veroorzaken of vererger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250920" y="1341360"/>
          <a:ext cx="8424720" cy="4794480"/>
        </p:xfrm>
        <a:graphic>
          <a:graphicData uri="http://schemas.openxmlformats.org/drawingml/2006/table">
            <a:tbl>
              <a:tblPr/>
              <a:tblGrid>
                <a:gridCol w="1225440"/>
                <a:gridCol w="792000"/>
                <a:gridCol w="719280"/>
                <a:gridCol w="576360"/>
                <a:gridCol w="936720"/>
                <a:gridCol w="718920"/>
                <a:gridCol w="647640"/>
                <a:gridCol w="895320"/>
                <a:gridCol w="636840"/>
                <a:gridCol w="639720"/>
                <a:gridCol w="63648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neeu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imm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etr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o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a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ndep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thra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lla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adv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ks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r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w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t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mv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cht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pera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chtighei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nd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ere voed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ai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regen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in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onwer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ruc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lucht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Text Box 1356"/>
          <p:cNvSpPr/>
          <p:nvPr/>
        </p:nvSpPr>
        <p:spPr>
          <a:xfrm>
            <a:off x="267840" y="27936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Oorzaak en gevolg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1358"/>
          <p:cNvSpPr/>
          <p:nvPr/>
        </p:nvSpPr>
        <p:spPr>
          <a:xfrm>
            <a:off x="1996920" y="0"/>
            <a:ext cx="683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ef met een kruisje aan welke omstandigheden een aantasting van onderstaade schimme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kunnen veroorzaken of vererger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Plagen in de gras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5"/>
          <p:cNvSpPr/>
          <p:nvPr/>
        </p:nvSpPr>
        <p:spPr>
          <a:xfrm>
            <a:off x="1013760" y="3445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engerlin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7" descr="Engerlingen_buitendienstwk42"/>
          <p:cNvPicPr/>
          <p:nvPr/>
        </p:nvPicPr>
        <p:blipFill>
          <a:blip r:embed="rId1"/>
          <a:stretch/>
        </p:blipFill>
        <p:spPr>
          <a:xfrm>
            <a:off x="0" y="1413000"/>
            <a:ext cx="3708360" cy="2781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101%20engerling%20algemeen%20d-101%20engerling%20algemeen%20d-1"/>
          <p:cNvPicPr/>
          <p:nvPr/>
        </p:nvPicPr>
        <p:blipFill>
          <a:blip r:embed="rId2"/>
          <a:stretch/>
        </p:blipFill>
        <p:spPr>
          <a:xfrm>
            <a:off x="5148360" y="3860640"/>
            <a:ext cx="3995640" cy="2997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mais_engerlingen_1-mais_engerlingen_1-1"/>
          <p:cNvPicPr/>
          <p:nvPr/>
        </p:nvPicPr>
        <p:blipFill>
          <a:blip r:embed="rId3"/>
          <a:stretch/>
        </p:blipFill>
        <p:spPr>
          <a:xfrm>
            <a:off x="4610160" y="0"/>
            <a:ext cx="453384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Groeiomstandighed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ic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emperatu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ucht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voc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lant met weinig weerst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i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tr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osse bodemstructuu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srijke omgeving of extensief beheerde grasvel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regelmatig rollen belemmert de larve in zijn beweg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un bosrijke omgeving 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758880" y="27288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emel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6" descr="emeltenschade"/>
          <p:cNvPicPr/>
          <p:nvPr/>
        </p:nvPicPr>
        <p:blipFill>
          <a:blip r:embed="rId1"/>
          <a:stretch/>
        </p:blipFill>
        <p:spPr>
          <a:xfrm>
            <a:off x="0" y="1978200"/>
            <a:ext cx="6659640" cy="4879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102%20emelt-102%20emelt-1"/>
          <p:cNvPicPr/>
          <p:nvPr/>
        </p:nvPicPr>
        <p:blipFill>
          <a:blip r:embed="rId2"/>
          <a:stretch/>
        </p:blipFill>
        <p:spPr>
          <a:xfrm>
            <a:off x="2268360" y="0"/>
            <a:ext cx="4319640" cy="1728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emelten1-emelten1-1"/>
          <p:cNvPicPr/>
          <p:nvPr/>
        </p:nvPicPr>
        <p:blipFill>
          <a:blip r:embed="rId3"/>
          <a:stretch/>
        </p:blipFill>
        <p:spPr>
          <a:xfrm>
            <a:off x="6686640" y="0"/>
            <a:ext cx="2457360" cy="3714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langpootmug%20gr-langpootmug%20gr-1"/>
          <p:cNvPicPr/>
          <p:nvPr/>
        </p:nvPicPr>
        <p:blipFill>
          <a:blip r:embed="rId4"/>
          <a:stretch/>
        </p:blipFill>
        <p:spPr>
          <a:xfrm>
            <a:off x="6026040" y="4519440"/>
            <a:ext cx="311796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os en vochtig bodemoppervla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rme en vochtige perio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zorg voor een goede ontwatering van de gro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ichte bovenlaag door veel betreden of rollen beperkt de scha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rouwvlieg"/>
          <p:cNvPicPr/>
          <p:nvPr/>
        </p:nvPicPr>
        <p:blipFill>
          <a:blip r:embed="rId1"/>
          <a:stretch/>
        </p:blipFill>
        <p:spPr>
          <a:xfrm>
            <a:off x="5580000" y="549360"/>
            <a:ext cx="2519280" cy="19000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676800" y="633240"/>
            <a:ext cx="15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ouwvlie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6" descr="rouwvlieg1"/>
          <p:cNvPicPr/>
          <p:nvPr/>
        </p:nvPicPr>
        <p:blipFill>
          <a:blip r:embed="rId2"/>
          <a:stretch/>
        </p:blipFill>
        <p:spPr>
          <a:xfrm>
            <a:off x="250920" y="2924280"/>
            <a:ext cx="579600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el organische resten in de bovenlaa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chtige omstandighe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door de mat te rollen verbetert het contact tussen wortels en gro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ien stikstof toe om grasgroei te bevord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chemische bestrijding heeft alleen zin als de larven jong zij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regenworm"/>
          <p:cNvPicPr/>
          <p:nvPr/>
        </p:nvPicPr>
        <p:blipFill>
          <a:blip r:embed="rId1"/>
          <a:stretch/>
        </p:blipFill>
        <p:spPr>
          <a:xfrm>
            <a:off x="6192720" y="0"/>
            <a:ext cx="2951280" cy="22226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947160" y="849240"/>
            <a:ext cx="186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egenwor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6" descr="regenworm1"/>
          <p:cNvPicPr/>
          <p:nvPr/>
        </p:nvPicPr>
        <p:blipFill>
          <a:blip r:embed="rId2"/>
          <a:stretch/>
        </p:blipFill>
        <p:spPr>
          <a:xfrm>
            <a:off x="755640" y="1773360"/>
            <a:ext cx="496872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pH-waar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ebruik van veel organische me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sel blijft ligg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verschraling met zand in najaar en voorjaar na vochtige omstandighe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-verlaging met zuurwerkende meststoff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Verzwakte plant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tr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en en maaiw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(te) veel bemest (hierdoor grotere cellen met zwakkere celwande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arm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roogtest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uurstof tekort in de g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eroverla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Beheersing van schimmels is het toepassen van kennis over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assoorten en ra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odem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oei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limatologische 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- en afvoer van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echanisat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volgen betredingsintensite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brown_patch_rotting_for_web_at_sheath_closeup"/>
          <p:cNvPicPr/>
          <p:nvPr/>
        </p:nvPicPr>
        <p:blipFill>
          <a:blip r:embed="rId1"/>
          <a:stretch/>
        </p:blipFill>
        <p:spPr>
          <a:xfrm>
            <a:off x="324000" y="260280"/>
            <a:ext cx="2268360" cy="1833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4911480" y="260280"/>
            <a:ext cx="264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own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Rhizoctonia sola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11" descr="brownpatch5"/>
          <p:cNvPicPr/>
          <p:nvPr/>
        </p:nvPicPr>
        <p:blipFill>
          <a:blip r:embed="rId2"/>
          <a:stretch/>
        </p:blipFill>
        <p:spPr>
          <a:xfrm>
            <a:off x="2124000" y="1838160"/>
            <a:ext cx="7020000" cy="501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brownpatch6"/>
          <p:cNvPicPr/>
          <p:nvPr/>
        </p:nvPicPr>
        <p:blipFill>
          <a:blip r:embed="rId1"/>
          <a:stretch/>
        </p:blipFill>
        <p:spPr>
          <a:xfrm>
            <a:off x="826920" y="1413000"/>
            <a:ext cx="7643880" cy="5005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4911480" y="260280"/>
            <a:ext cx="264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own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Rhizoctonia sola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Juni tot septe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ngels raaigras, Veldbeemd, Roodzwenk en 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dag- en nachttem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(lucht)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inig ventilat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 morgens beregen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lu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inig stikstof en goede kaligif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opbouw 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rain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-54360" y="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rownpat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19:02:40Z</dcterms:created>
  <dc:creator>Peter</dc:creator>
  <dc:description/>
  <dc:language>en-US</dc:language>
  <cp:lastModifiedBy>nugter</cp:lastModifiedBy>
  <dcterms:modified xsi:type="dcterms:W3CDTF">2011-02-02T09:26:26Z</dcterms:modified>
  <cp:revision>31</cp:revision>
  <dc:subject/>
  <dc:title>Schimmelziekten op de baan</dc:title>
</cp:coreProperties>
</file>