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D5978-7BDB-471C-8D60-0A009AF88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C73DF-5593-4A5E-AECA-2488ADE71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D9833-726E-4BC6-BF44-B559F2F6A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1A958-000F-4772-8093-DE549E950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F1BDB-94D3-47A2-868F-FDDD5F40A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FB5D1-C6B4-4999-BDB8-1B0143902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2038A3-67F8-41DD-990D-BBD37DE68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8D994-0A9B-4484-9845-06A2792E7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F37AD-D63C-430F-9D8F-03E88A577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240C0-05A9-4031-915E-E4557FB8C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7636A-FDE5-47B2-942C-7CB2513DD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6397B-D0C3-4EB9-92E7-7763597B3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F91B5-8FE5-46A4-98A0-BAF87DAE4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4A05C-015B-45AE-9D3A-5BB56BC11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2434C-8548-4077-ADB7-5EC7C0B93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77D9D-5AED-42D7-A8B2-EA90F4DD5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C04CE3-D530-4673-B5B2-9D71C53F3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9674B-2CC4-4F46-B4E0-CB9EAC8C6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45C58-F2A1-4B2D-9784-83D9D8C77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0862C-2E0F-486E-ADBF-87EE7D9A4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400A9-C28D-413A-A80E-E74DF1580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EAFEB-2A0A-4B49-8E15-852901C54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A6FF5-04DC-4FE8-8B3E-C0184E9CA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24668-5969-4F56-9A8B-FC649BDC3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flipH="1" flipV="1">
                          <a:off x="11520" y="261396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flipH="1" flipV="1">
                          <a:off x="25920" y="222696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flipH="1" flipV="1">
                          <a:off x="25200" y="174096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flipV="1">
                          <a:off x="40320" y="117108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flipV="1">
                          <a:off x="1109880" y="76932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flipV="1">
                          <a:off x="27000" y="297612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flipV="1">
                          <a:off x="23040" y="328680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669960" y="474480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flipV="1">
                          <a:off x="203760" y="452520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flipV="1">
                          <a:off x="26640" y="382104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1557360" y="482112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flipH="1">
                          <a:off x="1686240" y="483192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1805760" y="483264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1935000" y="483768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2082960" y="484812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2230920" y="485172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flipH="1">
                          <a:off x="2595240" y="487188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615400" y="487548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633040" y="488520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653560" y="488664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673720" y="488664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684880" y="488556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709720" y="489168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2726640" y="488412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487980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60840" y="486468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66960" y="485172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79200" y="484128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85320" y="482436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86400" y="480744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89280" y="478980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80280" y="474624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V="1">
                          <a:off x="2741400" y="379872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2728800" y="327996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8780000">
                            <a:off x="2382120" y="429228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18780000">
                            <a:off x="2262960" y="399528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18780000">
                            <a:off x="2170800" y="373644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8780000">
                            <a:off x="2071800" y="342036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18780000">
                            <a:off x="1981080" y="316584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8780000">
                            <a:off x="1850760" y="289188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8780000">
                            <a:off x="1738800" y="262260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8780000">
                            <a:off x="1602000" y="236880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8780000">
                            <a:off x="1498680" y="208476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8734400">
                            <a:off x="1408320" y="181224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819600">
                            <a:off x="1313280" y="152136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flipV="1">
                          <a:off x="2654280" y="178092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666520" y="213300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2668320" y="193608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676960" y="229320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683800" y="246852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2703960" y="288504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716920" y="309600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737800" y="355716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2750040" y="404424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754720" y="437760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2752920" y="470376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 name=""/>
                        <p:cNvSpPr/>
                        <p:nvPr/>
                      </p:nvSpPr>
                      <p:spPr>
                        <a:xfrm>
                          <a:off x="2769840" y="472464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787840" y="476856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2415240" y="486252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447920" y="480960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1337040" y="479772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218960" y="478944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115640" y="477864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009440" y="477144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897480" y="476136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783000" y="475200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66280" y="473364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43520" y="472392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17880" y="471096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 name=""/>
                        <p:cNvSpPr/>
                        <p:nvPr/>
                      </p:nvSpPr>
                      <p:spPr>
                        <a:xfrm flipH="1" flipV="1">
                          <a:off x="65880" y="429768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flipV="1">
                          <a:off x="25560" y="406296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23760" y="355932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362880" y="97200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722880" y="83232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1506240" y="78732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1857240" y="83916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2576880" y="104292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597400" y="116748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608920" y="131112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622240" y="146160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2635920" y="162648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1405440" y="605160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996560" y="665028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564120" y="575640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flipV="1">
                    <a:off x="401040" y="485640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8080" y="471024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110520" y="485604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58000" y="545148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29520" y="427968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19111200">
                <a:off x="3156120" y="304596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5" name=""/>
              <p:cNvSpPr/>
              <p:nvPr/>
            </p:nvSpPr>
            <p:spPr>
              <a:xfrm rot="16512000">
                <a:off x="3117600" y="414828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6" name=""/>
              <p:cNvSpPr/>
              <p:nvPr/>
            </p:nvSpPr>
            <p:spPr>
              <a:xfrm rot="18182400">
                <a:off x="1616760" y="427716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7" name=""/>
              <p:cNvSpPr/>
              <p:nvPr/>
            </p:nvSpPr>
            <p:spPr>
              <a:xfrm rot="20763600">
                <a:off x="1091880" y="277452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89AEC-51C1-474D-A0F0-36A0BA756E69}"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33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flipV="1">
                          <a:off x="-12240" y="265032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2160" y="226332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1440" y="177732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16560" y="120744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1086120" y="80568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3240" y="301248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720" y="332316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46200" y="478116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180000" y="456156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2880" y="385740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33600" y="485748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1662480" y="486828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782000" y="486900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911240" y="487404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2059200" y="488448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2207160" y="488808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571480" y="490824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91640" y="491184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609280" y="492156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629800" y="492300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649960" y="492300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661120" y="492192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685960" y="492804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702880" y="492048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725560" y="491616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737080" y="490104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43200" y="488808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755440" y="487764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61560" y="486072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62640" y="484380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765520" y="482616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756520" y="478260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717640" y="383508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05040" y="331632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18780000">
                            <a:off x="2358360" y="432864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18780000">
                            <a:off x="2239200" y="403164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18780000">
                            <a:off x="2147040" y="377280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8780000">
                            <a:off x="2048040" y="345672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8780000">
                            <a:off x="1957320" y="320220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780000">
                            <a:off x="1827000" y="292824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18780000">
                            <a:off x="1715040" y="265896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8780000">
                            <a:off x="1578240" y="240516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18780000">
                            <a:off x="1474920" y="212112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18734400">
                            <a:off x="1384560" y="184860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rot="18819600">
                            <a:off x="1289520" y="155772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flipV="1">
                          <a:off x="2630520" y="181728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2642760" y="216936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2644560" y="197244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653200" y="232956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660040" y="250488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680200" y="292140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2693160" y="313236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714040" y="359352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2726280" y="408060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2730960" y="441396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2729160" y="474012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8" name=""/>
                        <p:cNvSpPr/>
                        <p:nvPr/>
                      </p:nvSpPr>
                      <p:spPr>
                        <a:xfrm>
                          <a:off x="2746080" y="476100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764080" y="480492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2391480" y="489888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424160" y="484596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1313280" y="483408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195200" y="482580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091880" y="481500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985680" y="480780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873720" y="479772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59240" y="478836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542520" y="477000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419760" y="476028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294120" y="474732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1" name=""/>
                        <p:cNvSpPr/>
                        <p:nvPr/>
                      </p:nvSpPr>
                      <p:spPr>
                        <a:xfrm flipH="1" flipV="1">
                          <a:off x="42120" y="433404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1800" y="409932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0" y="359568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339120" y="100836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flipV="1">
                          <a:off x="699120" y="86868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1482480" y="82368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flipV="1">
                          <a:off x="1833480" y="87552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2553120" y="107928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573640" y="120384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2585160" y="134748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2598480" y="149796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2612160" y="166284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1381680" y="608796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1972800" y="668664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540360" y="579276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flipV="1">
                    <a:off x="377280" y="489276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flipV="1">
                    <a:off x="4320" y="474660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86760" y="489240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534240" y="548784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5760" y="431604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19111200">
                <a:off x="3132360" y="308232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0" name=""/>
              <p:cNvSpPr/>
              <p:nvPr/>
            </p:nvSpPr>
            <p:spPr>
              <a:xfrm rot="16512000">
                <a:off x="3093840" y="418464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1" name=""/>
              <p:cNvSpPr/>
              <p:nvPr/>
            </p:nvSpPr>
            <p:spPr>
              <a:xfrm rot="18182400">
                <a:off x="1593000" y="431352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2" name=""/>
              <p:cNvSpPr/>
              <p:nvPr/>
            </p:nvSpPr>
            <p:spPr>
              <a:xfrm rot="20763600">
                <a:off x="1068120" y="281088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C3AA6-8FC0-4DAF-A412-D2B00EBF798C}"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3366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100" spc="-1" strike="noStrike">
                <a:solidFill>
                  <a:srgbClr val="000000"/>
                </a:solidFill>
                <a:latin typeface="Arial"/>
              </a:rPr>
              <a:t>Meerjaren-plan gewasbescherming</a:t>
            </a:r>
            <a:endParaRPr b="0" lang="en-US" sz="5100" spc="-1" strike="noStrike">
              <a:solidFill>
                <a:srgbClr val="000000"/>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JPG</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in 1987</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el milieuproble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lucht</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 oppervlaktewater</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gron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én van de oorzaken: het gebruik van chemische bestrijdingsmiddelen</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eidsplannen</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Meer aandacht voor bijdrijfshygiene</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Bevorderen gebruik resistente rass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ruchtwissel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lei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integreer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erminderen van het aantal middelen</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voering richt zich op:</a:t>
            </a:r>
            <a:endParaRPr b="0" lang="en-US" sz="4400" spc="-1" strike="noStrike">
              <a:solidFill>
                <a:srgbClr val="000000"/>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orkomen van ziekten en plagen</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ugdringen bestrijdingsmiddelen (50% vermindering in 2000 en 95% in 2001</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t grote risico’s voor mens en milieu</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vordering alternatieve vormen van bestrijding</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beteren toepassingstechnieken</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volgen</a:t>
            </a: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grondwaterbeschermingsgebied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watergang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die giftig zijn voor niet schadelijke en nuttige dier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kruidbeheer en onkruidbeheersing</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en middelen toepassen in watergangen</a:t>
            </a:r>
            <a:endParaRPr b="0" lang="en-US" sz="4000" spc="-1" strike="noStrike">
              <a:solidFill>
                <a:srgbClr val="000000"/>
              </a:solidFill>
              <a:latin typeface="Arial"/>
            </a:endParaRPr>
          </a:p>
        </p:txBody>
      </p:sp>
      <p:pic>
        <p:nvPicPr>
          <p:cNvPr id="341" name="" descr=""/>
          <p:cNvPicPr/>
          <p:nvPr/>
        </p:nvPicPr>
        <p:blipFill>
          <a:blip r:embed="rId1"/>
          <a:srcRect l="18458" t="8855" r="18801" b="33445"/>
          <a:stretch/>
        </p:blipFill>
        <p:spPr>
          <a:xfrm>
            <a:off x="1258920" y="2039760"/>
            <a:ext cx="6985080" cy="4818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3348000" y="188640"/>
            <a:ext cx="5796000" cy="66690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rondwaterbeschermingsgebieden</a:t>
            </a:r>
            <a:br>
              <a:rPr sz="2100"/>
            </a:br>
            <a:r>
              <a:rPr b="0" lang="en-US" sz="2100" spc="-1" strike="noStrike">
                <a:solidFill>
                  <a:srgbClr val="000000"/>
                </a:solidFill>
                <a:latin typeface="Verdana"/>
              </a:rPr>
              <a:t>Het grondwaterbeschermingsgebied is een zone rondom het waterwingebied, een buffer die is ingesteld om het grondwater in het waterwingebied te beschermen. Voor deze zone zijn er minder verboden dan in het waterwingebied. In elk geval gelden er beperkingen voor:</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isleid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cht verontreinigde grond;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rhardingen en gebouw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orputten en bor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nd- en funderingswerken en constructies;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loeistofinjectie;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rmte- en koudeopslag;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graafplaatsen en uitstrooiveld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strijdingsmiddel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zuiveringsslib;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ststoffen. </a:t>
            </a:r>
            <a:endParaRPr b="0" lang="en-US" sz="2100" spc="-1" strike="noStrike">
              <a:solidFill>
                <a:srgbClr val="000000"/>
              </a:solidFill>
              <a:latin typeface="Verdana"/>
            </a:endParaRPr>
          </a:p>
        </p:txBody>
      </p:sp>
      <p:pic>
        <p:nvPicPr>
          <p:cNvPr id="343" name="" descr=""/>
          <p:cNvPicPr/>
          <p:nvPr/>
        </p:nvPicPr>
        <p:blipFill>
          <a:blip r:embed="rId1"/>
          <a:stretch/>
        </p:blipFill>
        <p:spPr>
          <a:xfrm>
            <a:off x="0" y="1268280"/>
            <a:ext cx="3240000" cy="453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adelijk voor nuttige organismen:</a:t>
            </a:r>
            <a:endParaRPr b="0" lang="en-US" sz="4000" spc="-1" strike="noStrike">
              <a:solidFill>
                <a:srgbClr val="000000"/>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gels eten van bespoten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terorganismen ondervinden schade van middelen die in het water terechtko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jen gaan dood bij gebruik van middelen op bloeiende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enwormen sterven door sommige middelen</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9:12:53Z</dcterms:created>
  <dc:creator>Administrator</dc:creator>
  <dc:description/>
  <dc:language>en-US</dc:language>
  <cp:lastModifiedBy>Administrator</cp:lastModifiedBy>
  <dcterms:modified xsi:type="dcterms:W3CDTF">2009-12-28T17:52:07Z</dcterms:modified>
  <cp:revision>3</cp:revision>
  <dc:subject/>
  <dc:title>Meerjaren-plan gewasbescherming</dc:title>
</cp:coreProperties>
</file>