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440-E04D-42B2-82CF-2005E6F8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D6DB-BD1C-4537-846E-FA3625F1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75D-02B6-413A-B904-91A73A74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7D9-7E7E-42BD-8358-92DBEE8D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3A7F-AFBA-42AA-9495-E33BEC15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E4D6-A1A6-4A69-9D04-EA204B25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ECFA-671D-411C-88BD-C53F2054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F24C-BDC3-493D-878D-2166BCD5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26B7-5B48-4B7A-AC2A-D91A2926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7C11-6DB9-4407-9E23-386BBF4E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B934-7BEC-4F1B-9517-CA03A4AE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74D9-F9B9-4670-9198-E40424E1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8D36-492E-4BED-BF60-2C457919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D8C1-4F24-4863-9758-656FF7B4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3159C-4B27-4F3B-BF9B-BE9FE7CF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109E1-6D6A-4C4B-B086-971BB5D7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B4D9-7914-450B-B045-BEC20479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B356-3B43-456E-A7BF-5C4987F0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9C0-1FC1-48CB-B4AF-0C8150D9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10F-0E0A-454F-A125-AB81505D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E1F-6DE2-45C1-BCF9-783C21C3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F8A0-F667-4E46-AA73-DB0F1764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9722-3274-4D31-9D7E-7937B5B4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1D3-66BE-4D72-9162-6DD92B7C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B8D5-959D-4E98-B520-71132ABBC8D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1C03-340F-444D-9A6A-6694A8F707D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JP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5: 21.000.000 kg actieve stof afgezet in de landbou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 gehal­veerd moet zijn in verge­lijking met het gebruik in de periode 1984-198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 is een akkoord bereikt over vermindering van de milieulast van 95% in 2010 ten opzicht van 19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Administrator</cp:lastModifiedBy>
  <dcterms:modified xsi:type="dcterms:W3CDTF">2010-01-06T20:30:55Z</dcterms:modified>
  <cp:revision>2</cp:revision>
  <dc:subject/>
  <dc:title>Uitvoeren gewasbescherming</dc:title>
</cp:coreProperties>
</file>