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8E32-11E9-4EBD-9D4C-8BBB54120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15F5-23CD-4308-A34F-0048C20B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D02E-7738-4082-B132-FEA41899F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2A52-5F15-4060-97D5-669CFEE38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6FBB-404C-4B77-A645-1C5757F2F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DD60-DDE2-4DFC-A5CC-8979758E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ABCF-4075-4131-8713-5265AB54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0EED-CB0E-4EBA-80E4-8882A4E7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9EEC-D4D2-4885-B61A-C369B6C9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60B5-10C1-4159-89CB-FAEA9F1E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E350-12A0-4712-B52B-B85613AB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5866-28EC-4502-ACA6-51DA11A1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23D8-C2C0-4BE5-B39D-C81E2954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F26D-A6BC-4F40-A160-78FC3AAB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511B-3670-4768-B86B-B7D882C6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2274-1F7A-4EE2-997C-0613FA832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8BEC-2822-4D1A-854E-6B9CFD362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CB56-AF06-40D6-8975-97F0C80C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C88B-3DEF-491B-8299-C18ED4B2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044B-697B-4493-9D38-D88C0435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5977-6365-4368-AE80-9089FF1A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5445-98AC-4A0C-8E64-4682FF34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80D8-6C6F-4539-A398-3BA67E29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4624-C352-44EA-A74E-834D1933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4ECD-F44C-4E3D-A8DF-C8CD712B8F34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8620-AF71-42E2-8C35-CBD98D449FDF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11280" y="596880"/>
            <a:ext cx="8037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Gewasbescherming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 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missieget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2401920"/>
            <a:ext cx="91440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Figuur bij indicator Uitspoeling en drainage van bestrijdingsmiddelen, 2000"/>
          <p:cNvPicPr/>
          <p:nvPr/>
        </p:nvPicPr>
        <p:blipFill>
          <a:blip r:embed="rId1"/>
          <a:stretch/>
        </p:blipFill>
        <p:spPr>
          <a:xfrm>
            <a:off x="539640" y="0"/>
            <a:ext cx="788508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ngs welke rou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damping van grondontsmettingsmidd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damping overige midd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Uitspoeling naar grond en drain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rif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inigen van spuitapparatu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fspoelen naar het oppervlakte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inderos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pecifieke rou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0" y="798480"/>
            <a:ext cx="914400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volgen voor het mili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Persistente middelen verdwijnen ni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rins, DDT, HCB, γ-HCH en β-hepta-chloor-epoxide zijn nóg beruc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rinkwatervervu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Oppervlaktewatervervu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oor verdamping ongewenste verspreid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oden van nuttige insect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l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bod op persistente middel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Op lange termijn bereiken van de streefwaarden voor water, bodem en luc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spreidingsbron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0" y="1270080"/>
            <a:ext cx="914400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ojecten in de landb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Telen met toekom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Committed to gre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nieuwe stoffenbel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implementatie van het voorzorgprincipe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penbaar maken van informatie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p zeer korte termijn verzamelen van gegevens over gevaarlijke eigenschappen van stoffen en producten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kwaliteitsverbetering van stoffenbeleid op ondernemingsniveau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invulling van ketenverantwoordelijkheid (communicatie over gevaren, risico's en beheersmaatregelen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het niet meer gebruiken van stoffen of producten, die een onaanvaardbaar gevaar of risico met zich meedragen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geen carcinogenen, mutagene, reprotoxische (CMR-) stoffen of zeer persistente, bioaccumulerende, toxische (PBT-) stoffen in consumentenproducten en open toepassingen en zoveel mogelijk vermijden van dergelijke stoffen in industriële toepassingen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treven naar beëindiging van emissies van PBT-stoffen binnen één generatie, uiterlijk 2020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is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gecontroleerd weglekken van gewasbeschermingsmiddelen do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vo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sla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ng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verdadige toepass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tant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volgen van Emis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vuiling oppervlaktewa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vuiling drinkwa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Milieuvervu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Gevaar voor mens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Gevaar voor hiusdier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enz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ar gaat het he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1280" y="912960"/>
            <a:ext cx="7848360" cy="58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in de landbouw stab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Gebruik chemische bestrijdingsmiddelen, sectoren"/>
          <p:cNvPicPr/>
          <p:nvPr/>
        </p:nvPicPr>
        <p:blipFill>
          <a:blip r:embed="rId1"/>
          <a:stretch/>
        </p:blipFill>
        <p:spPr>
          <a:xfrm>
            <a:off x="0" y="1538280"/>
            <a:ext cx="914400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afzet in de landb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0" y="1628640"/>
          <a:ext cx="9143640" cy="5228640"/>
        </p:xfrm>
        <a:graphic>
          <a:graphicData uri="http://schemas.openxmlformats.org/drawingml/2006/table">
            <a:tbl>
              <a:tblPr/>
              <a:tblGrid>
                <a:gridCol w="516600"/>
                <a:gridCol w="2481840"/>
                <a:gridCol w="838800"/>
                <a:gridCol w="838080"/>
                <a:gridCol w="838800"/>
                <a:gridCol w="840240"/>
                <a:gridCol w="839880"/>
                <a:gridCol w="877680"/>
                <a:gridCol w="1071720"/>
              </a:tblGrid>
              <a:tr h="52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000 kg actieve st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1 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 8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 9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6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3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ct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ung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1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4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1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erb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9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4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0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6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4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4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5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rondontsmettingsmidd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 7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 9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3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4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1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3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4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verige midd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5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2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nerale ol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2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on: Nefyt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BS/MNC/jun07/0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door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468360" y="1214280"/>
          <a:ext cx="8229600" cy="5643720"/>
        </p:xfrm>
        <a:graphic>
          <a:graphicData uri="http://schemas.openxmlformats.org/drawingml/2006/table">
            <a:tbl>
              <a:tblPr/>
              <a:tblGrid>
                <a:gridCol w="641520"/>
                <a:gridCol w="1892160"/>
                <a:gridCol w="942840"/>
                <a:gridCol w="1065240"/>
                <a:gridCol w="1629000"/>
                <a:gridCol w="885600"/>
                <a:gridCol w="117324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ducti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.o.v. 1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g werkzame st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al gebrui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6 9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0 6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0 3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 1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edelijke beplan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6 2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 0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 0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 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ortvel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 5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 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1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rhardin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9 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 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 6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 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oorban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 8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 1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8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 0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aterl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 8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 7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1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ebruikte stoff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mi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 3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 5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 9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alap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5 7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 4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chloben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 0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 0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 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 3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u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 9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 9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 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yfosa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 7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8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 6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 5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C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0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 9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 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maz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4 0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1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 2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on: CB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BS/MC/okt02/00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door particul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457200" y="1600200"/>
          <a:ext cx="8229600" cy="4678200"/>
        </p:xfrm>
        <a:graphic>
          <a:graphicData uri="http://schemas.openxmlformats.org/drawingml/2006/table">
            <a:tbl>
              <a:tblPr/>
              <a:tblGrid>
                <a:gridCol w="584280"/>
                <a:gridCol w="2423880"/>
                <a:gridCol w="2525760"/>
                <a:gridCol w="2695680"/>
              </a:tblGrid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rk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 van totale verk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000 kg actieve stof                             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ung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zwa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erb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jzer(II)sulfa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yfosa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naanzu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4-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C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ct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iperonylbutox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llusc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ldehy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ntsmettingsmidd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on: CB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BS/MNC/mrt06/05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in andere l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Figuur bij indicator Afzet gewasbeschermingsmiddelen voor landbouwkundig gebruik in enkele landen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6:12:05Z</dcterms:created>
  <dc:creator>Peter</dc:creator>
  <dc:description/>
  <dc:language>en-US</dc:language>
  <cp:lastModifiedBy>Administrator</cp:lastModifiedBy>
  <dcterms:modified xsi:type="dcterms:W3CDTF">2009-12-28T17:45:33Z</dcterms:modified>
  <cp:revision>4</cp:revision>
  <dc:subject/>
  <dc:title>Gewasbescherming</dc:title>
</cp:coreProperties>
</file>