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405-13A0-4CB2-A033-F2623534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B70-9E05-4E1C-AAB4-EE462918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568-53F1-4BF7-97C5-BC6DCD6F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B610-A1CC-4F76-9C3F-A433F155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8294-A04D-49A3-9FD2-D9452769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3DD4-50B9-43E4-9019-5E30F492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1A30-935C-4D91-8533-3C5DEF4C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02DA-8AFE-4C05-A817-EAEDABC2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CE04-745C-4DB1-9F1C-304E0872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408B-2FDA-480D-96F9-BFA6EDCB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3918-17A3-4339-8791-B1DFC33D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81F-036E-4EFC-9FB9-6DC3D3DC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D749-BF83-4B8B-88BB-C83A1DAF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55CB-2888-4B3D-8F40-A4235C83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FFBF-14D8-40C7-A49D-ECBD693F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9BE4-63C7-42F1-8391-DACEFCE8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A8CE-56CE-4F07-BAC1-B2C8C6C4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2DE-E3D1-4960-BC8D-EE9BCE92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AE6-7B05-463B-9110-A3EC277D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4AB-EE35-4C18-98CD-131651F3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F3A-152A-4091-AD5B-9FFF3E52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DF0-0E78-4273-9808-2028EDAD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C6E-CCDB-4B0E-BF2D-E9BB6814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81F-FA7A-45EF-AE5A-8A2E0CE8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9DD2-73F1-4896-BDAB-55AF6F7FF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ADD1-3E5B-4D25-B066-E4E6B1DB2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9257"/>
                </a:solidFill>
                <a:latin typeface="Arial"/>
              </a:rPr>
              <a:t>Opslag van gewasbeschermingsmiddelen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3483000" cy="360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3110040"/>
            <a:ext cx="40989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2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og, koel en uit de 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s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blu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rbtie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gekeurde instructie (P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ctra (NEN 1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 op roken en open v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Nieuwe AMVB (2006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’s bep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olgen van eventuele calamiteit beheersbaar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voor is kennis van de regels van be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Opsla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ingericht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voldoen aa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en voor opslag van gewasbescherming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bare middelen ond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door geen verontreiniging ander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utel bezit 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2861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regelgev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instaties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ID: gewasbescherming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-SZW: gewasbeschermingswet en gewasbeschermingsmiddelen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ente: AMvB’s en plaatselijke verord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veiligheid/Eurep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39257"/>
                </a:solidFill>
                <a:latin typeface="Arial"/>
              </a:rPr>
              <a:t>Eisen aan oplslag van gewasbeschermingsmiddelen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 25 kg opslag: gee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5 kg tot max 400 kg: afgesloten ruimte of k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en die binnen 48 uur worden gebruikt: op 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Eisen aan de berg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veilig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1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e bouw en stand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uis)d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ting van d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 voor de schap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ingsbord op de d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42920" y="981000"/>
            <a:ext cx="7200720" cy="4895640"/>
            <a:chOff x="1042920" y="981000"/>
            <a:chExt cx="7200720" cy="4895640"/>
          </a:xfrm>
        </p:grpSpPr>
        <p:sp>
          <p:nvSpPr>
            <p:cNvPr id="228" name=""/>
            <p:cNvSpPr/>
            <p:nvPr/>
          </p:nvSpPr>
          <p:spPr>
            <a:xfrm>
              <a:off x="1042920" y="981000"/>
              <a:ext cx="7200720" cy="489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ewasbeschermingsmiddel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PIC 201 Vuur, open vlam en roken verboden * Ø 100 mm uitgevoerd in  Aluminium plaat"/>
            <p:cNvPicPr/>
            <p:nvPr/>
          </p:nvPicPr>
          <p:blipFill>
            <a:blip r:embed="rId1"/>
            <a:stretch/>
          </p:blipFill>
          <p:spPr>
            <a:xfrm>
              <a:off x="4907880" y="1905120"/>
              <a:ext cx="2265840" cy="23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MINIPIC 0704 Giftige Stoffen"/>
            <p:cNvPicPr/>
            <p:nvPr/>
          </p:nvPicPr>
          <p:blipFill>
            <a:blip r:embed="rId2"/>
            <a:stretch/>
          </p:blipFill>
          <p:spPr>
            <a:xfrm>
              <a:off x="1974600" y="1956960"/>
              <a:ext cx="2401200" cy="21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1906920" y="501336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oden voor onbevoe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39:42Z</dcterms:created>
  <dc:creator>default</dc:creator>
  <dc:description/>
  <dc:language>en-US</dc:language>
  <cp:lastModifiedBy>Administrator</cp:lastModifiedBy>
  <dcterms:modified xsi:type="dcterms:W3CDTF">2009-12-28T17:50:09Z</dcterms:modified>
  <cp:revision>3</cp:revision>
  <dc:subject/>
  <dc:title>Opslag van gewasbeschermingsmiddelen</dc:title>
</cp:coreProperties>
</file>