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3142-1C5E-4DAC-9177-781B920A6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E10A-A67F-4452-A0CD-F6FDBF64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E851-A26E-419E-B4AE-04C144C2E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F7DE-5489-4125-8ED5-8C8A9AF68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29D1-8102-49DE-904C-FA0AB8A0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EBD0-C0BF-48D7-85A7-D807BC6C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A7DB-AA32-4948-A1B8-7685290F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533A-1B09-4B05-967E-8716B9AE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44CB-FC52-4820-99BC-38D22289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FA46-6CA7-4D30-961E-267EE455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D849-970D-41A3-8E9B-58EC45F3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3128-4086-4FC2-AF31-1044925B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72C1-1592-4FBA-AA24-A721EA68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9AA8-437B-4F50-8519-C9071899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0724-B62A-4816-9390-1FDCCF31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616C-6B41-492D-BE5E-CDF64156D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E2B3-49B5-435E-9CCF-B46DF4DCB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7189-F568-442B-B6DD-6BC15825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585D-6640-44F1-BC7E-AE2B24AD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D067-4A4A-450B-AE11-6708BDA7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E0D4-9CF8-42B3-8C73-E98308BF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C6B8-5A34-43D7-B6BD-5D717D51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435E-B6AE-457B-A32B-CF9BDD9E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38C9-34CD-4847-A280-F53C9E35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3D84-00F6-496B-96C3-67C64D470DA6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A121-D673-4180-A988-2AB5ED695CEF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Uitvoeren gewasbescherming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JP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85: 21.000.000 kg actieve stof afgezet in de landbou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0 gehal­veerd moet zijn in verge­lijking met het gebruik in de periode 1984-198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3 is een akkoord bereikt over vermindering van de milieulast van 95% in 2010 ten opzicht van 199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e kom je aan een licenti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drijfsvoerder en de distribuant van gewasbeschermingsmiddelen over de nodige kennis beschikk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men bepaalde cursussen met goed gevolg heeft doorlopen of bepaalde certificaten heeft behaald, kan men in het bezit komen van de wettelijk vereiste licen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elke licenties zijn er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uit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heeft iedereen nodig die gewasbeschermings ­ 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bedrijfs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is bestemd voor de bedrijfsvoerder van een loonwerkbedrijf of bedrijf in de groenvoorziening die in opdracht van anderen gewas- beschermings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distribueren gewasbescherm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iedere beheerder van een verkooppunt van gewasbeschermingsmiddelen moet deze licentie in zijn bezit heb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e wet, welke we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 gebruiker van gewasbeschermingsmiddelen is het goed om te weten dat er per oktober 2007 het een en ander is veranderd in de regelgeving. Op die datum is de nieuw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werking getreden. Deze wet vervangt de Bestrijdingsmiddelenwet uit 196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Professionele en niet professionele gebruiker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nieuwe wet maakt onderscheid tussen professionele en niet-professionele gebruikers van gewasbeschermings- middelen. Ook kent de wet een categorie middelen geschikt voor niet professioneel gebruik. Andere middelen mag u slechts ontvangen, voorhanden hebben of gebruiken als u een (professionele) gebruiker bent die een bewijs van vakbekwaamheid hee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Professionele gebruikers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everanciers en gebruikers van gewasbeschermingsmiddelen hebben een bewijs nodig van vakbekwaamheid (spuitlicenti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et bewijs blijft 5 jaar geld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erlenging is mogelijk door het volgen van verlengingscursuss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Niet-professionele gebruikers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-professionele gebruikers hebben geen bewijs van vakbekwaamheid nodi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ij mogen ook maar een beperkt aantal middelen gebruik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lijk die middelen waarvan expliciet is aangegeven (op het etiket) dat ze geschikt zijn voor niet-professioneel gebru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Geïntegreerde bestrij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 ben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pli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m een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gewasbeschermingspla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zie bijlage 1) te maken. Dit is niet nieuw. Wel nieuw is dat elke gebruiker van gewasbeschermingsmiddelen zo’n plan moet maken, dus ook wanneer u alleen maar bijv.verharde oppervlakten bewerk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plaats van de verplichting tot het bijhouden van een logboek moet u het gebruik van gewasbeschermingsmiddelen verantwoorden in uw administratie. U neemt daarin op welk middel u in welke hoeveelheid op welk perceel hebt gebruikt, wanneer u het middel heeft gekocht, van wie en in welke hoeveelhe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20:22:13Z</dcterms:created>
  <dc:creator>Administrator</dc:creator>
  <dc:description/>
  <dc:language>en-US</dc:language>
  <cp:lastModifiedBy>Administrator</cp:lastModifiedBy>
  <dcterms:modified xsi:type="dcterms:W3CDTF">2010-01-06T20:30:55Z</dcterms:modified>
  <cp:revision>2</cp:revision>
  <dc:subject/>
  <dc:title>Uitvoeren gewasbescherming</dc:title>
</cp:coreProperties>
</file>