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1419-064D-4375-ABCE-EE041699A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B71E-A3F5-4D2D-9BAC-40A71E7A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4DD8-B881-4E74-A26A-B62857C0B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045A-48B7-49BF-BAB5-EA0DFC746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CD02-749D-4597-9EE6-92A870DE2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CDB0-875E-42CA-8FB5-02B6E13A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E87B-23E6-4318-A24C-A52BBD0B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3E4EE-CA0C-48F2-98FE-6A47219A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F625-620E-48A7-9783-55AD412A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A266-A0B7-412B-AC58-23E8209A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ACFE-CA3C-4E10-9737-E68415EA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FA84-285E-4E4F-9DAB-FCCEACCB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8725-A712-410A-98A0-7128D262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A1B6-9CEB-4431-AD6D-28C5732D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896F-E9D8-4E51-8686-AF2BAD5B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AE89-25B6-4B00-ADA9-E56EFE584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57CF6-D991-405C-A908-AFDCD955A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39DF-6D2B-498C-AC59-F9904DDA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4356-C2B4-494F-B1F5-F491F7F6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6126-79C4-4B68-95EA-60B04109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60D5-4CF4-47A1-A5BA-EDB52A65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093B-94B4-46C4-BD52-AB4550F7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02EB-EB3C-460A-964E-29EF3C9C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080F-C6CF-4535-95F7-09F231CF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CEAA-79DE-47C3-B2B7-BB7099FF4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5C5C-27BF-4132-90D9-8F5263EB2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128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39257"/>
                </a:solidFill>
                <a:latin typeface="Arial"/>
              </a:rPr>
              <a:t>Opslag van gewasbeschermingsmiddelen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24000" y="3068640"/>
            <a:ext cx="3483000" cy="36021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643280" y="3110040"/>
            <a:ext cx="4098960" cy="32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Algemene eisen 2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oog, koel en uit de z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spla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ndblu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bsorbtiemateri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edgekeurde instructie (P7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lectra (NEN 10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oezicht op roken en open v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Nieuwe AMVB (2006)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co’s bep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volgen van eventuele calamiteit beheersbaar ma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voor is kennis van de regels van be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Opslag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al ingerichte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et voldoen aan ei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en voor opslag van gewasbeschermingsmid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loeibare middelen onde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door geen verontreiniging andere mid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utel bezit 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484360" y="549360"/>
            <a:ext cx="4286160" cy="57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regelgeving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lende instaties controler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ID: gewasbeschermings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-SZW: gewasbeschermingswet en gewasbeschermingsmiddelenbesl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meente: AMvB’s en plaatselijke verord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edselveiligheid/EurepG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b39257"/>
                </a:solidFill>
                <a:latin typeface="Arial"/>
              </a:rPr>
              <a:t>Eisen aan oplslag van gewasbeschermingsmiddelen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 25 kg opslag: geen ei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5 kg tot max 400 kg: afgesloten ruimte of k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ddelen die binnen 48 uur worden gebruikt: op vloeistofdichte vlo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Eisen aan de berging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dveiligheidsei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loeistofdichte vlo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lic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wa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Algemene eisen 1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slu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e bouw en standpla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uis)d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ting van de 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al voor de schapp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arschuwingsbord op de d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1042920" y="981000"/>
            <a:ext cx="7200720" cy="4895640"/>
            <a:chOff x="1042920" y="981000"/>
            <a:chExt cx="7200720" cy="4895640"/>
          </a:xfrm>
        </p:grpSpPr>
        <p:sp>
          <p:nvSpPr>
            <p:cNvPr id="228" name=""/>
            <p:cNvSpPr/>
            <p:nvPr/>
          </p:nvSpPr>
          <p:spPr>
            <a:xfrm>
              <a:off x="1042920" y="981000"/>
              <a:ext cx="7200720" cy="489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Gewasbeschermingsmiddele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" descr="PIC 201 Vuur, open vlam en roken verboden * Ø 100 mm uitgevoerd in  Aluminium plaat"/>
            <p:cNvPicPr/>
            <p:nvPr/>
          </p:nvPicPr>
          <p:blipFill>
            <a:blip r:embed="rId1"/>
            <a:stretch/>
          </p:blipFill>
          <p:spPr>
            <a:xfrm>
              <a:off x="4907880" y="1905120"/>
              <a:ext cx="2265840" cy="235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MINIPIC 0704 Giftige Stoffen"/>
            <p:cNvPicPr/>
            <p:nvPr/>
          </p:nvPicPr>
          <p:blipFill>
            <a:blip r:embed="rId2"/>
            <a:stretch/>
          </p:blipFill>
          <p:spPr>
            <a:xfrm>
              <a:off x="1974600" y="1956960"/>
              <a:ext cx="2401200" cy="219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"/>
          <p:cNvSpPr/>
          <p:nvPr/>
        </p:nvSpPr>
        <p:spPr>
          <a:xfrm>
            <a:off x="1906920" y="5013360"/>
            <a:ext cx="541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oden voor onbevoeg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0:39:42Z</dcterms:created>
  <dc:creator>default</dc:creator>
  <dc:description/>
  <dc:language>en-US</dc:language>
  <cp:lastModifiedBy>Administrator</cp:lastModifiedBy>
  <dcterms:modified xsi:type="dcterms:W3CDTF">2009-12-28T17:50:09Z</dcterms:modified>
  <cp:revision>3</cp:revision>
  <dc:subject/>
  <dc:title>Opslag van gewasbeschermingsmiddelen</dc:title>
</cp:coreProperties>
</file>