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48E-27C7-426F-A9E9-2F32B2E2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67D0-9A0F-4F01-B166-01A7C48F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CDB-8BD0-491E-993E-669D5636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0DF-1871-4CF6-B023-BE1DF4CB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2CD1-CD69-43FC-B95C-89F13F0B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EB4E-74CD-45C7-9578-C90A0880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175A-7DC2-424E-BB75-F16ACF84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ADF3-4D44-450D-AFFA-FF05C2AD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90C1-117E-456A-8AB4-2B8B2908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58EB-6484-4D95-B2B7-821BACB4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4BBA-AF0A-4643-8F61-6A7CC81D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5C6-DE69-4DF9-90F0-76D6C4D5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A581-2565-4B09-BD20-6A8BA110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FEE0-B101-46A5-A93C-BD53E43D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0049-FB1A-4BDB-BE39-70018C8C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7C39-59D3-4169-A157-7F066456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E483-71B8-4484-8C4B-D6EC33D2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7D6C-37E3-478A-A8ED-2B84072B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B4FB-1E8A-4B60-91F3-9C8FA49C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E2A1-A20C-4510-BDEA-27ADB152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A358-B182-4144-99FC-6EB57F25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EA3F-358E-490A-AD2F-272FE271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0D11-D2ED-43FE-B14E-23E48FEA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6CC-5E28-4C9A-BAFA-35E9F2EB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410E-F21A-4DE1-8E18-C15235CA92CC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E72D-7865-460B-A8D4-8EDF50679830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596880"/>
            <a:ext cx="8037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issieget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2401920"/>
            <a:ext cx="91440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Figuur bij indicator Uitspoeling en drainage van bestrijdingsmiddelen, 2000"/>
          <p:cNvPicPr/>
          <p:nvPr/>
        </p:nvPicPr>
        <p:blipFill>
          <a:blip r:embed="rId1"/>
          <a:stretch/>
        </p:blipFill>
        <p:spPr>
          <a:xfrm>
            <a:off x="539640" y="0"/>
            <a:ext cx="78850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ngs welke rou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van grondontsmettings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overige 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Uitspoeling naar grond en drain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rif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inigen van spuitapparatu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fspoelen naar het oppervlakte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indero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ecifieke ro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79848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voor het mili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ersistente middelen verdwijnen ni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s, DDT, HCB, γ-HCH en β-hepta-chloor-epoxide zijn nóg ber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k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pervlakte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or verdamping ongewenste versprei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den van nuttige insec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bod op persistente midde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 lange termijn bereiken van de streefwaarden voor water, bodem en l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spreidingsbro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en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Telen met toekom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Committed to gre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nieuwe stoffen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mplementatie van het voorzorgprincip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enbaar maken van informati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 zeer korte termijn verzamelen van gegevens over gevaarlijke eigenschappen van stoffen en product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kwaliteitsverbetering van stoffenbeleid op ondernemingsniveau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vulling van ketenverantwoordelijkheid (communicatie over gevaren, risico's en beheersmaatregelen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et niet meer gebruiken van stoffen of producten, die een onaanvaardbaar gevaar of risico met zich meedra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geen carcinogenen, mutagene, reprotoxische (CMR-) stoffen of zeer persistente, bioaccumulerende, toxische (PBT-) stoffen in consumentenproducten en open toepassingen en zoveel mogelijk vermijden van dergelijke stoffen in industriële toepassin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reven naar beëindiging van emissies van PBT-stoffen binnen één generatie, uiterlijk 202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gecontroleerd weglekken van gewasbeschermingsmiddelen do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vo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sl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n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erdadige toepas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tan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olgen van 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oppervlakte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drink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ilieu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mens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hiusdier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 gaat het he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1280" y="912960"/>
            <a:ext cx="7848360" cy="58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in de landbouw stab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Gebruik chemische bestrijdingsmiddelen, sectoren"/>
          <p:cNvPicPr/>
          <p:nvPr/>
        </p:nvPicPr>
        <p:blipFill>
          <a:blip r:embed="rId1"/>
          <a:stretch/>
        </p:blipFill>
        <p:spPr>
          <a:xfrm>
            <a:off x="0" y="1538280"/>
            <a:ext cx="9144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zet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0" y="1628640"/>
          <a:ext cx="9143640" cy="5228640"/>
        </p:xfrm>
        <a:graphic>
          <a:graphicData uri="http://schemas.openxmlformats.org/drawingml/2006/table">
            <a:tbl>
              <a:tblPr/>
              <a:tblGrid>
                <a:gridCol w="516600"/>
                <a:gridCol w="2481840"/>
                <a:gridCol w="838800"/>
                <a:gridCol w="838080"/>
                <a:gridCol w="838800"/>
                <a:gridCol w="840240"/>
                <a:gridCol w="839880"/>
                <a:gridCol w="877680"/>
                <a:gridCol w="1071720"/>
              </a:tblGrid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 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 8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3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4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ond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7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 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3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verige 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5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erale o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Nefy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jun07/0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68360" y="1214280"/>
          <a:ext cx="8229600" cy="5643720"/>
        </p:xfrm>
        <a:graphic>
          <a:graphicData uri="http://schemas.openxmlformats.org/drawingml/2006/table">
            <a:tbl>
              <a:tblPr/>
              <a:tblGrid>
                <a:gridCol w="641520"/>
                <a:gridCol w="1892160"/>
                <a:gridCol w="942840"/>
                <a:gridCol w="1065240"/>
                <a:gridCol w="1629000"/>
                <a:gridCol w="885600"/>
                <a:gridCol w="117324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ducti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.o.v. 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 werkzam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 gebru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 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0 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 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edelijke beplan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 2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 0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0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rtvel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hardin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 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 6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orba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0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aterl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 8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ebruikte stoff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mi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3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alap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 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chloben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 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0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u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 6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5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maz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 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C/okt02/0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partic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" y="1600200"/>
          <a:ext cx="8229600" cy="4678200"/>
        </p:xfrm>
        <a:graphic>
          <a:graphicData uri="http://schemas.openxmlformats.org/drawingml/2006/table">
            <a:tbl>
              <a:tblPr/>
              <a:tblGrid>
                <a:gridCol w="584280"/>
                <a:gridCol w="2423880"/>
                <a:gridCol w="2525760"/>
                <a:gridCol w="2695680"/>
              </a:tblGrid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 van totale 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                             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wa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jzer(II)sulf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naanzu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iperonylbutox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llusc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ldehy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mrt06/0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in andere l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Figuur bij indicator Afzet gewasbeschermingsmiddelen voor landbouwkundig gebruik in enkele landen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6:12:05Z</dcterms:created>
  <dc:creator>Peter</dc:creator>
  <dc:description/>
  <dc:language>en-US</dc:language>
  <cp:lastModifiedBy>Administrator</cp:lastModifiedBy>
  <dcterms:modified xsi:type="dcterms:W3CDTF">2009-12-28T17:45:33Z</dcterms:modified>
  <cp:revision>4</cp:revision>
  <dc:subject/>
  <dc:title>Gewasbescherming</dc:title>
</cp:coreProperties>
</file>