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6AD5-006F-4FD6-8BC6-6C7ADE42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2E9-E083-4C77-8A08-68EDEE7B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6FD-70F0-4A49-BF13-C57ECB75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1F2-F2A4-43BB-9398-3B1D332E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29E2-56CB-4A3C-AF97-E9CE8312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E616-2657-4282-BE28-774B3F56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01C0-338A-4154-A3AA-DF5BC82E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C66D-663C-4099-B89C-F1F1E136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FB2B-BC24-4F32-BB96-F695C4D9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10DD-C41C-4308-96BD-C639490B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F9A4-7E97-4059-9B60-EF462927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5FE-EBA2-495A-829C-B355A106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3A07-B36E-48BB-8A15-4CE6414F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2A44-45D2-41AD-AD99-CF26C79A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8F49-2830-4ECC-80A7-894DC987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5B2F-9EF3-4FEC-A32A-2B33C2BA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F098-A094-4987-8301-0252980E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71B-824A-4A27-BC44-085F3E5E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543D-E68D-4EBF-B56D-A9E1003B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2FC-E246-4521-907C-82F19F8F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2FC-E979-487E-9E46-3225BCED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EC8-290F-4D81-9253-700A40C4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74A-4E79-49CC-8FFD-7B1D76D7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759-42C0-4362-9464-2CD69B54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7920-122A-42F0-9BBF-21615F24B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4D2E-5AC3-479A-AE79-9534BB2E8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9257"/>
                </a:solidFill>
                <a:latin typeface="Arial"/>
              </a:rPr>
              <a:t>Opslag van gewasbeschermingsmiddelen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3483000" cy="360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3110040"/>
            <a:ext cx="40989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2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og, koel en uit de 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s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blu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rbtie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gekeurde instructie (P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ctra (NEN 1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 op roken en open v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Nieuwe AMVB (2006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’s bep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olgen van eventuele calamiteit beheersbaar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voor is kennis van de regels van be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Opsla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ingericht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voldoen aa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en voor opslag van gewasbescherming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bare middelen ond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door geen verontreiniging ander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utel bezit 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2861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regelgev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instaties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ID: gewasbescherming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-SZW: gewasbeschermingswet en gewasbeschermingsmiddelen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ente: AMvB’s en plaatselijke verord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veiligheid/Eurep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39257"/>
                </a:solidFill>
                <a:latin typeface="Arial"/>
              </a:rPr>
              <a:t>Eisen aan oplslag van gewasbeschermingsmiddelen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 25 kg opslag: gee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5 kg tot max 400 kg: afgesloten ruimte of k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en die binnen 48 uur worden gebruikt: op 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Eisen aan de berg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veilig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1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e bouw en stand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uis)d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ting van d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 voor de schap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ingsbord op de d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42920" y="981000"/>
            <a:ext cx="7200720" cy="4895640"/>
            <a:chOff x="1042920" y="981000"/>
            <a:chExt cx="7200720" cy="4895640"/>
          </a:xfrm>
        </p:grpSpPr>
        <p:sp>
          <p:nvSpPr>
            <p:cNvPr id="228" name=""/>
            <p:cNvSpPr/>
            <p:nvPr/>
          </p:nvSpPr>
          <p:spPr>
            <a:xfrm>
              <a:off x="1042920" y="981000"/>
              <a:ext cx="7200720" cy="489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ewasbeschermingsmiddel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PIC 201 Vuur, open vlam en roken verboden * Ø 100 mm uitgevoerd in  Aluminium plaat"/>
            <p:cNvPicPr/>
            <p:nvPr/>
          </p:nvPicPr>
          <p:blipFill>
            <a:blip r:embed="rId1"/>
            <a:stretch/>
          </p:blipFill>
          <p:spPr>
            <a:xfrm>
              <a:off x="4907880" y="1905120"/>
              <a:ext cx="2265840" cy="23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MINIPIC 0704 Giftige Stoffen"/>
            <p:cNvPicPr/>
            <p:nvPr/>
          </p:nvPicPr>
          <p:blipFill>
            <a:blip r:embed="rId2"/>
            <a:stretch/>
          </p:blipFill>
          <p:spPr>
            <a:xfrm>
              <a:off x="1974600" y="1956960"/>
              <a:ext cx="2401200" cy="21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1906920" y="501336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oden voor onbevoe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39:42Z</dcterms:created>
  <dc:creator>default</dc:creator>
  <dc:description/>
  <dc:language>en-US</dc:language>
  <cp:lastModifiedBy>Administrator</cp:lastModifiedBy>
  <dcterms:modified xsi:type="dcterms:W3CDTF">2009-12-28T17:50:09Z</dcterms:modified>
  <cp:revision>3</cp:revision>
  <dc:subject/>
  <dc:title>Opslag van gewasbeschermingsmiddelen</dc:title>
</cp:coreProperties>
</file>