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1F99-A18E-4A77-BBFA-6B76FF62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AB6D-BED0-4309-B1AA-60D60EE2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138E-EC7A-4F25-A48C-36613CCA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FC00-A9B3-4836-A67A-FD35CE3F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944C6-87BD-4201-8D0F-34CF9A11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3D436-E7F6-4EFC-8DEA-2E86B46C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F3E90-B0CC-45E2-813E-D8EECEFF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2B0DA-697E-4FC7-9F22-8A50339E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98528-FA8F-4E85-96BF-61D40E31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D533A-7CC9-4077-BF2F-0B17934C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70388-3BC0-4343-8ECB-44D7EF98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81CD-1D64-4393-8B61-B3DCDA7D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21185-7A4F-44EA-9CB3-637573E7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B8C08-14E4-4A69-8F18-F67B3687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9A787-E342-4E2E-87B2-BB7ED7D1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8F17B-4FA7-4F84-838D-410AF235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9E1F9-ED2A-41E3-8BC2-67354AEB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A78A-2535-40AE-B57F-37FE05F4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2F2D-CA16-400D-A883-99177033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0E86-38D8-4453-83AE-5BFAD417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E75A-68E3-480A-8151-85767EB0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A27F-78DE-46F1-9DE6-C049D491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BB03-7688-4235-88A3-DF3E8FEE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39CE-1E30-4B29-A264-931A5D86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6267-46DF-47F8-919A-7DA872FFB7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209C-73FD-448F-AF22-F212FBAB7A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grodyn.org/Gewasbeschermingsplan/2009/Gewasbeschermingsplan%202009-grasland.pdf" TargetMode="External"/><Relationship Id="rId3" Type="http://schemas.openxmlformats.org/officeDocument/2006/relationships/hyperlink" Target="http://www.clm.nl/publicaties/data/gewaslogboek.doc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lm.nl/publicaties/data/gewaslogboek.doc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Gewasbeschermingspl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or iedere toepass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ppenplan in 3 del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vragen ter voorbereiding van het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het opstellen van het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het invullen van het logb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 de vragen (1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teelten, dat is bij een golfba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tee, fairway, green en zelfs de r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ter deze samen te voegen tot de ba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gewasbeschermingsstrategie is overeenkomst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de vragen (2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ziekten, plagen en onkruiden zijn in de eigen baan van bela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belasting van het milieu kan voorkomen? Oppervlaktewater? Grondwater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zijn de jaarlijkse kost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arbo zaken zijn voor het personeel van bela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 effect kun je verwachten op natuurlijke vijand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 de vragen (3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ke maatregelen heb je het afgelopen jaar genom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 was daarvan het effec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arom heb je hiervoor gekoz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 zou je nog meer of anders hebben kunnen do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2;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het plan opstell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ownload ëen invulformuli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agrodyn.org/Gewasbeschermingsplan/2009/Gewasbeschermingsplan%202009-grasland.pdf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of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www.clm.nl/publicaties/data/gewaslogboek.d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ul de relevante delen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a dieper in op de belangrijke proble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3; het logboe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a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nn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e ook de site van CLM: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clm.nl/publicaties/data/gewaslogboek.d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0:37:29Z</dcterms:created>
  <dc:creator>default</dc:creator>
  <dc:description/>
  <dc:language>en-US</dc:language>
  <cp:lastModifiedBy>default</cp:lastModifiedBy>
  <dcterms:modified xsi:type="dcterms:W3CDTF">2009-02-03T11:04:39Z</dcterms:modified>
  <cp:revision>2</cp:revision>
  <dc:subject/>
  <dc:title>Gewasbeschermingsplan</dc:title>
</cp:coreProperties>
</file>