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28D690-2E46-4556-911D-FB0A80DAA8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235490-E36D-4B39-BF33-A6E79A306E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EFD9A8-8CA1-41B9-A0FC-0FC5B9D651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152F97-B32D-46F0-A27C-5790684929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FB3616-D321-4ED2-AD81-4E567E5FBB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6E055E-A9E6-4251-B867-4FA89A24EA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1E77ED-C03D-4176-B4E6-4C5C12267D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E25E6B-5393-4B5B-BFA6-DA856C0F37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BA752B-62D1-4B01-B4A3-76DD1DDD8C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F7F573-3A4E-45FD-B5E6-9B6EB101D1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4809CB-3539-4D62-8B70-A8F9C115BD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6BEE5B-0DB0-4384-B854-8B0F944774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CBC6FC-22B4-46ED-9CBF-2C0D4ADE69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6B9B75-E1DD-4436-849D-919CA12F7D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4A1ED0-7C69-4E3A-8B2F-3C36A46557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3516A7-282A-4DEB-B010-32AC63F472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F16805-738F-445B-8D7C-1E1D2E45B9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8C8F48-F01D-4C2D-BB64-660234EE46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31C425-99B4-477B-B625-98076BC79D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5B26EA-AA3F-4F14-8244-616720B43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28F94D-991C-442A-B4E4-390C5F6147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013CA-FA13-4FAE-8ECA-78F0E73C0F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85304-B7C5-4AC6-8BC7-70E2AC90E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1F068-40DC-4C71-89C9-59DE1D351B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grpSp>
        <p:nvGrpSpPr>
          <p:cNvPr id="0" name=""/>
          <p:cNvGrpSpPr/>
          <p:nvPr/>
        </p:nvGrpSpPr>
        <p:grpSpPr>
          <a:xfrm>
            <a:off x="-291600" y="762120"/>
            <a:ext cx="7085520" cy="6863040"/>
            <a:chOff x="-291600" y="762120"/>
            <a:chExt cx="7085520" cy="6863040"/>
          </a:xfrm>
        </p:grpSpPr>
        <p:grpSp>
          <p:nvGrpSpPr>
            <p:cNvPr id="1" name=""/>
            <p:cNvGrpSpPr/>
            <p:nvPr/>
          </p:nvGrpSpPr>
          <p:grpSpPr>
            <a:xfrm>
              <a:off x="-291600" y="762120"/>
              <a:ext cx="7085520" cy="6863040"/>
              <a:chOff x="-291600" y="762120"/>
              <a:chExt cx="7085520" cy="6863040"/>
            </a:xfrm>
          </p:grpSpPr>
          <p:grpSp>
            <p:nvGrpSpPr>
              <p:cNvPr id="2" name=""/>
              <p:cNvGrpSpPr/>
              <p:nvPr/>
            </p:nvGrpSpPr>
            <p:grpSpPr>
              <a:xfrm>
                <a:off x="-291600" y="762120"/>
                <a:ext cx="7085520" cy="6863040"/>
                <a:chOff x="-291600" y="762120"/>
                <a:chExt cx="7085520" cy="6863040"/>
              </a:xfrm>
            </p:grpSpPr>
            <p:sp>
              <p:nvSpPr>
                <p:cNvPr id="3" name=""/>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 name=""/>
                <p:cNvGrpSpPr/>
                <p:nvPr/>
              </p:nvGrpSpPr>
              <p:grpSpPr>
                <a:xfrm>
                  <a:off x="-291600" y="762120"/>
                  <a:ext cx="7085520" cy="6863040"/>
                  <a:chOff x="-291600" y="762120"/>
                  <a:chExt cx="7085520" cy="6863040"/>
                </a:xfrm>
              </p:grpSpPr>
              <p:sp>
                <p:nvSpPr>
                  <p:cNvPr id="5" name=""/>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291600" y="762120"/>
                    <a:ext cx="7085520" cy="6863040"/>
                    <a:chOff x="-291600" y="762120"/>
                    <a:chExt cx="7085520" cy="6863040"/>
                  </a:xfrm>
                </p:grpSpPr>
                <p:sp>
                  <p:nvSpPr>
                    <p:cNvPr id="9" name=""/>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 name=""/>
                    <p:cNvGrpSpPr/>
                    <p:nvPr/>
                  </p:nvGrpSpPr>
                  <p:grpSpPr>
                    <a:xfrm>
                      <a:off x="-291600" y="769320"/>
                      <a:ext cx="7075800" cy="6855840"/>
                      <a:chOff x="-291600" y="769320"/>
                      <a:chExt cx="7075800" cy="6855840"/>
                    </a:xfrm>
                  </p:grpSpPr>
                  <p:sp>
                    <p:nvSpPr>
                      <p:cNvPr id="11" name=""/>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 name=""/>
                      <p:cNvGrpSpPr/>
                      <p:nvPr/>
                    </p:nvGrpSpPr>
                    <p:grpSpPr>
                      <a:xfrm>
                        <a:off x="-291600" y="769320"/>
                        <a:ext cx="7075800" cy="6855840"/>
                        <a:chOff x="-291600" y="769320"/>
                        <a:chExt cx="7075800" cy="6855840"/>
                      </a:xfrm>
                    </p:grpSpPr>
                    <p:sp>
                      <p:nvSpPr>
                        <p:cNvPr id="13" name=""/>
                        <p:cNvSpPr/>
                        <p:nvPr/>
                      </p:nvSpPr>
                      <p:spPr>
                        <a:xfrm flipH="1" flipV="1">
                          <a:off x="2242080" y="932040"/>
                          <a:ext cx="318960" cy="3602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flipH="1" flipV="1">
                          <a:off x="11520" y="2613960"/>
                          <a:ext cx="2410560" cy="19620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flipH="1" flipV="1">
                          <a:off x="25920" y="2226960"/>
                          <a:ext cx="2404080" cy="2339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flipH="1" flipV="1">
                          <a:off x="25200" y="1740960"/>
                          <a:ext cx="2414880" cy="28137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flipH="1" flipV="1">
                          <a:off x="40320" y="1171080"/>
                          <a:ext cx="2404800" cy="3370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flipH="1" flipV="1">
                          <a:off x="1109880" y="769320"/>
                          <a:ext cx="1399320" cy="3764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flipH="1" flipV="1">
                          <a:off x="27000" y="2976120"/>
                          <a:ext cx="2387160" cy="16167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flipH="1" flipV="1">
                          <a:off x="23040" y="3286800"/>
                          <a:ext cx="2388960" cy="1322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flipH="1">
                          <a:off x="669960" y="4744800"/>
                          <a:ext cx="1787400" cy="492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flipH="1" flipV="1">
                          <a:off x="203760" y="4525200"/>
                          <a:ext cx="2232000" cy="179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flipH="1" flipV="1">
                          <a:off x="26640" y="3821040"/>
                          <a:ext cx="2391840" cy="8301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flipH="1">
                          <a:off x="1557360" y="4821120"/>
                          <a:ext cx="972720" cy="1354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flipH="1">
                          <a:off x="1686240" y="4831920"/>
                          <a:ext cx="853920" cy="1448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flipH="1">
                          <a:off x="1805760" y="4832640"/>
                          <a:ext cx="739080" cy="1550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flipH="1">
                          <a:off x="1935000" y="4837680"/>
                          <a:ext cx="617040" cy="1651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flipH="1">
                          <a:off x="2082960" y="4848120"/>
                          <a:ext cx="479880" cy="1765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flipH="1">
                          <a:off x="2230920" y="4851720"/>
                          <a:ext cx="339480" cy="18741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flipH="1">
                          <a:off x="2595240" y="4871880"/>
                          <a:ext cx="4680" cy="19263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2615400" y="4875480"/>
                          <a:ext cx="170280" cy="19220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2633040" y="4885200"/>
                          <a:ext cx="331920" cy="1896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2653560" y="4886640"/>
                          <a:ext cx="513360" cy="19065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2673720" y="4886640"/>
                          <a:ext cx="694080" cy="1907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
                        <p:cNvSpPr/>
                        <p:nvPr/>
                      </p:nvSpPr>
                      <p:spPr>
                        <a:xfrm>
                          <a:off x="2684880" y="4885560"/>
                          <a:ext cx="893520" cy="1891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
                        <p:cNvSpPr/>
                        <p:nvPr/>
                      </p:nvSpPr>
                      <p:spPr>
                        <a:xfrm>
                          <a:off x="2709720" y="4891680"/>
                          <a:ext cx="1103040" cy="18928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a:off x="2726640" y="4884120"/>
                          <a:ext cx="1348200" cy="1911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 name=""/>
                        <p:cNvSpPr/>
                        <p:nvPr/>
                      </p:nvSpPr>
                      <p:spPr>
                        <a:xfrm>
                          <a:off x="2749320" y="4879800"/>
                          <a:ext cx="1623960" cy="19134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
                        <p:cNvSpPr/>
                        <p:nvPr/>
                      </p:nvSpPr>
                      <p:spPr>
                        <a:xfrm>
                          <a:off x="2760840" y="4864680"/>
                          <a:ext cx="1943280" cy="1921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
                        <p:cNvSpPr/>
                        <p:nvPr/>
                      </p:nvSpPr>
                      <p:spPr>
                        <a:xfrm>
                          <a:off x="2766960" y="4851720"/>
                          <a:ext cx="2359800" cy="1936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 name=""/>
                        <p:cNvSpPr/>
                        <p:nvPr/>
                      </p:nvSpPr>
                      <p:spPr>
                        <a:xfrm>
                          <a:off x="2779200" y="4841280"/>
                          <a:ext cx="2860560" cy="19508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2785320" y="4824360"/>
                          <a:ext cx="3499560" cy="19659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2786400" y="4807440"/>
                          <a:ext cx="3958200" cy="17859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789280" y="4789800"/>
                          <a:ext cx="3994920" cy="1396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2780280" y="4746240"/>
                          <a:ext cx="3909960" cy="6591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flipV="1">
                          <a:off x="2741400" y="3798720"/>
                          <a:ext cx="3219480" cy="883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flipV="1">
                          <a:off x="2728800" y="3279960"/>
                          <a:ext cx="2922120" cy="13759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bfbfab"/>
                        </a:solidFill>
                        <a:ln w="9360">
                          <a:solidFill>
                            <a:srgbClr val="bfbfa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 name=""/>
                        <p:cNvGrpSpPr/>
                        <p:nvPr/>
                      </p:nvGrpSpPr>
                      <p:grpSpPr>
                        <a:xfrm>
                          <a:off x="-291600" y="1247400"/>
                          <a:ext cx="6462720" cy="6377760"/>
                          <a:chOff x="-291600" y="1247400"/>
                          <a:chExt cx="6462720" cy="6377760"/>
                        </a:xfrm>
                      </p:grpSpPr>
                      <p:sp>
                        <p:nvSpPr>
                          <p:cNvPr id="50" name=""/>
                          <p:cNvSpPr/>
                          <p:nvPr/>
                        </p:nvSpPr>
                        <p:spPr>
                          <a:xfrm rot="18780000">
                            <a:off x="2468520" y="4485600"/>
                            <a:ext cx="255600" cy="4442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rot="18780000">
                            <a:off x="2382120" y="4292280"/>
                            <a:ext cx="446040" cy="79812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rot="18780000">
                            <a:off x="2262960" y="3995280"/>
                            <a:ext cx="747720" cy="12902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rot="18780000">
                            <a:off x="2170800" y="3736440"/>
                            <a:ext cx="988920" cy="179208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rot="18780000">
                            <a:off x="2071800" y="3420360"/>
                            <a:ext cx="1247760" cy="232848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rot="18780000">
                            <a:off x="1981080" y="3165840"/>
                            <a:ext cx="1543320" cy="28238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rot="18780000">
                            <a:off x="1850760" y="2891880"/>
                            <a:ext cx="1852560" cy="332352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rot="18780000">
                            <a:off x="1738800" y="2622600"/>
                            <a:ext cx="2136960" cy="38066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rot="18780000">
                            <a:off x="1602000" y="2368800"/>
                            <a:ext cx="2481480" cy="427968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rot="18780000">
                            <a:off x="1498680" y="2084760"/>
                            <a:ext cx="2716200" cy="47876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rot="18734400">
                            <a:off x="1408320" y="1812240"/>
                            <a:ext cx="2984400" cy="531000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rot="18819600">
                            <a:off x="1313280" y="1521360"/>
                            <a:ext cx="3252960" cy="582912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2" name=""/>
                        <p:cNvSpPr/>
                        <p:nvPr/>
                      </p:nvSpPr>
                      <p:spPr>
                        <a:xfrm flipV="1">
                          <a:off x="2654280" y="1780920"/>
                          <a:ext cx="1318680" cy="2809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V="1">
                          <a:off x="2666520" y="2133000"/>
                          <a:ext cx="1767600" cy="24642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flipV="1">
                          <a:off x="2668320" y="1936080"/>
                          <a:ext cx="1554120" cy="2647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flipV="1">
                          <a:off x="2676960" y="2293200"/>
                          <a:ext cx="1976760" cy="2312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flipV="1">
                          <a:off x="2683800" y="2468520"/>
                          <a:ext cx="2215080" cy="21448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V="1">
                          <a:off x="2703960" y="2885040"/>
                          <a:ext cx="2536920" cy="1747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flipV="1">
                          <a:off x="2716920" y="3096000"/>
                          <a:ext cx="2707560" cy="1547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flipV="1">
                          <a:off x="2737800" y="3557160"/>
                          <a:ext cx="3031200" cy="11149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flipV="1">
                          <a:off x="2750040" y="4044240"/>
                          <a:ext cx="3373200" cy="645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V="1">
                          <a:off x="2754720" y="4377600"/>
                          <a:ext cx="3548160" cy="317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V="1">
                          <a:off x="2752920" y="4703760"/>
                          <a:ext cx="3704040" cy="2520"/>
                        </a:xfrm>
                        <a:prstGeom prst="line">
                          <a:avLst/>
                        </a:prstGeom>
                        <a:ln w="9360">
                          <a:solidFill>
                            <a:srgbClr val="bfbfab"/>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73" name=""/>
                        <p:cNvSpPr/>
                        <p:nvPr/>
                      </p:nvSpPr>
                      <p:spPr>
                        <a:xfrm>
                          <a:off x="2769840" y="4724640"/>
                          <a:ext cx="3829320" cy="3164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2787840" y="4768560"/>
                          <a:ext cx="3989880" cy="10155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flipH="1">
                          <a:off x="2415240" y="4862520"/>
                          <a:ext cx="172080" cy="1921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flipH="1">
                          <a:off x="1447920" y="4809600"/>
                          <a:ext cx="1061640" cy="1255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H="1">
                          <a:off x="1337040" y="4797720"/>
                          <a:ext cx="1163160" cy="11613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1218960" y="4789440"/>
                          <a:ext cx="1275480" cy="10681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a:off x="1115640" y="4778640"/>
                          <a:ext cx="1371600" cy="966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1009440" y="4771440"/>
                          <a:ext cx="1464120" cy="858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flipH="1">
                          <a:off x="897480" y="4761360"/>
                          <a:ext cx="1573200" cy="742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flipH="1">
                          <a:off x="783000" y="4752000"/>
                          <a:ext cx="1680840" cy="620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flipH="1">
                          <a:off x="566280" y="4733640"/>
                          <a:ext cx="1885320" cy="348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443520" y="4723920"/>
                          <a:ext cx="2001240" cy="1879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H="1">
                          <a:off x="317880" y="4710960"/>
                          <a:ext cx="2119320" cy="17640"/>
                        </a:xfrm>
                        <a:prstGeom prst="line">
                          <a:avLst/>
                        </a:prstGeom>
                        <a:ln w="9360">
                          <a:solidFill>
                            <a:srgbClr val="bfbfab"/>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6" name=""/>
                        <p:cNvSpPr/>
                        <p:nvPr/>
                      </p:nvSpPr>
                      <p:spPr>
                        <a:xfrm flipH="1" flipV="1">
                          <a:off x="65880" y="4297680"/>
                          <a:ext cx="2364120" cy="391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flipH="1" flipV="1">
                          <a:off x="25560" y="4062960"/>
                          <a:ext cx="2397240" cy="6066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H="1" flipV="1">
                          <a:off x="23760" y="3559320"/>
                          <a:ext cx="2390040" cy="1077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H="1" flipV="1">
                          <a:off x="362880" y="972000"/>
                          <a:ext cx="2095200" cy="35643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flipH="1" flipV="1">
                          <a:off x="722880" y="832320"/>
                          <a:ext cx="1756080" cy="37029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H="1" flipV="1">
                          <a:off x="1506240" y="787320"/>
                          <a:ext cx="1018800" cy="37404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H="1" flipV="1">
                          <a:off x="1857240" y="839160"/>
                          <a:ext cx="685800" cy="3693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flipV="1">
                          <a:off x="2576880" y="1042920"/>
                          <a:ext cx="4320" cy="3493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flipV="1">
                          <a:off x="2597400" y="1167480"/>
                          <a:ext cx="304560" cy="3379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flipV="1">
                          <a:off x="2608920" y="1311120"/>
                          <a:ext cx="585720" cy="3244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V="1">
                          <a:off x="2622240" y="1461600"/>
                          <a:ext cx="846000" cy="3106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flipV="1">
                          <a:off x="2635920" y="1626480"/>
                          <a:ext cx="1095120" cy="2944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grpSp>
          <p:grpSp>
            <p:nvGrpSpPr>
              <p:cNvPr id="98" name=""/>
              <p:cNvGrpSpPr/>
              <p:nvPr/>
            </p:nvGrpSpPr>
            <p:grpSpPr>
              <a:xfrm>
                <a:off x="28080" y="2679120"/>
                <a:ext cx="5018040" cy="4112280"/>
                <a:chOff x="28080" y="2679120"/>
                <a:chExt cx="5018040" cy="4112280"/>
              </a:xfrm>
            </p:grpSpPr>
            <p:sp>
              <p:nvSpPr>
                <p:cNvPr id="99" name=""/>
                <p:cNvSpPr/>
                <p:nvPr/>
              </p:nvSpPr>
              <p:spPr>
                <a:xfrm flipV="1">
                  <a:off x="2696040" y="2679120"/>
                  <a:ext cx="2350080" cy="19476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H="1" flipV="1">
                  <a:off x="1405440" y="6051600"/>
                  <a:ext cx="353880" cy="73512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1" name=""/>
                <p:cNvGrpSpPr/>
                <p:nvPr/>
              </p:nvGrpSpPr>
              <p:grpSpPr>
                <a:xfrm>
                  <a:off x="28080" y="4279680"/>
                  <a:ext cx="2090160" cy="2511720"/>
                  <a:chOff x="28080" y="4279680"/>
                  <a:chExt cx="2090160" cy="2511720"/>
                </a:xfrm>
              </p:grpSpPr>
              <p:sp>
                <p:nvSpPr>
                  <p:cNvPr id="102" name=""/>
                  <p:cNvSpPr/>
                  <p:nvPr/>
                </p:nvSpPr>
                <p:spPr>
                  <a:xfrm flipH="1">
                    <a:off x="1131120" y="6053040"/>
                    <a:ext cx="273960" cy="29700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bfbfa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flipH="1">
                    <a:off x="1996560" y="6650280"/>
                    <a:ext cx="121680" cy="13968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H="1" flipV="1">
                    <a:off x="564120" y="5756400"/>
                    <a:ext cx="844200" cy="29376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H="1" flipV="1">
                    <a:off x="401040" y="4856400"/>
                    <a:ext cx="159840" cy="90000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H="1" flipV="1">
                    <a:off x="28080" y="4710240"/>
                    <a:ext cx="372600" cy="14616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flipV="1">
                    <a:off x="110520" y="4856040"/>
                    <a:ext cx="288720" cy="30780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H="1">
                    <a:off x="558000" y="5451480"/>
                    <a:ext cx="279000" cy="30492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V="1">
                    <a:off x="29520" y="4279680"/>
                    <a:ext cx="21960" cy="36360"/>
                  </a:xfrm>
                  <a:prstGeom prst="line">
                    <a:avLst/>
                  </a:prstGeom>
                  <a:ln w="19080">
                    <a:solidFill>
                      <a:srgbClr val="bfbfab"/>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grpSp>
        </p:grpSp>
        <p:grpSp>
          <p:nvGrpSpPr>
            <p:cNvPr id="111" name=""/>
            <p:cNvGrpSpPr/>
            <p:nvPr/>
          </p:nvGrpSpPr>
          <p:grpSpPr>
            <a:xfrm>
              <a:off x="25560" y="2104920"/>
              <a:ext cx="5221080" cy="4680000"/>
              <a:chOff x="25560" y="2104920"/>
              <a:chExt cx="5221080" cy="4680000"/>
            </a:xfrm>
          </p:grpSpPr>
          <p:sp>
            <p:nvSpPr>
              <p:cNvPr id="112" name=""/>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rot="19111200">
                <a:off x="3156120" y="3045960"/>
                <a:ext cx="214776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15" name=""/>
              <p:cNvSpPr/>
              <p:nvPr/>
            </p:nvSpPr>
            <p:spPr>
              <a:xfrm rot="16512000">
                <a:off x="3117600" y="4148280"/>
                <a:ext cx="351936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16" name=""/>
              <p:cNvSpPr/>
              <p:nvPr/>
            </p:nvSpPr>
            <p:spPr>
              <a:xfrm rot="18182400">
                <a:off x="1616760" y="4277160"/>
                <a:ext cx="425124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17" name=""/>
              <p:cNvSpPr/>
              <p:nvPr/>
            </p:nvSpPr>
            <p:spPr>
              <a:xfrm rot="20763600">
                <a:off x="1091880" y="2774520"/>
                <a:ext cx="379404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grpSp>
            <p:nvGrpSpPr>
              <p:cNvPr id="118" name=""/>
              <p:cNvGrpSpPr/>
              <p:nvPr/>
            </p:nvGrpSpPr>
            <p:grpSpPr>
              <a:xfrm>
                <a:off x="4752000" y="2104920"/>
                <a:ext cx="494640" cy="493560"/>
                <a:chOff x="4752000" y="2104920"/>
                <a:chExt cx="494640" cy="493560"/>
              </a:xfrm>
            </p:grpSpPr>
            <p:sp>
              <p:nvSpPr>
                <p:cNvPr id="119" name=""/>
                <p:cNvSpPr/>
                <p:nvPr/>
              </p:nvSpPr>
              <p:spPr>
                <a:xfrm rot="2828400">
                  <a:off x="4767480" y="2331360"/>
                  <a:ext cx="315720" cy="180000"/>
                </a:xfrm>
                <a:prstGeom prst="ellipse">
                  <a:avLst/>
                </a:prstGeom>
                <a:gradFill rotWithShape="0">
                  <a:gsLst>
                    <a:gs pos="0">
                      <a:srgbClr val="bfbfab"/>
                    </a:gs>
                    <a:gs pos="100000">
                      <a:srgbClr val="c8c8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E762E-5AE2-4F98-8B3B-9E0DC5E10156}" type="slidenum">
              <a:rPr b="0" lang="nl-NL"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33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grpSp>
        <p:nvGrpSpPr>
          <p:cNvPr id="165" name=""/>
          <p:cNvGrpSpPr/>
          <p:nvPr/>
        </p:nvGrpSpPr>
        <p:grpSpPr>
          <a:xfrm>
            <a:off x="-315360" y="798480"/>
            <a:ext cx="7085520" cy="6863040"/>
            <a:chOff x="-315360" y="798480"/>
            <a:chExt cx="7085520" cy="6863040"/>
          </a:xfrm>
        </p:grpSpPr>
        <p:grpSp>
          <p:nvGrpSpPr>
            <p:cNvPr id="166" name=""/>
            <p:cNvGrpSpPr/>
            <p:nvPr/>
          </p:nvGrpSpPr>
          <p:grpSpPr>
            <a:xfrm>
              <a:off x="-315360" y="798480"/>
              <a:ext cx="7085520" cy="6863040"/>
              <a:chOff x="-315360" y="798480"/>
              <a:chExt cx="7085520" cy="6863040"/>
            </a:xfrm>
          </p:grpSpPr>
          <p:grpSp>
            <p:nvGrpSpPr>
              <p:cNvPr id="167" name=""/>
              <p:cNvGrpSpPr/>
              <p:nvPr/>
            </p:nvGrpSpPr>
            <p:grpSpPr>
              <a:xfrm>
                <a:off x="-315360" y="798480"/>
                <a:ext cx="7085520" cy="6863040"/>
                <a:chOff x="-315360" y="798480"/>
                <a:chExt cx="7085520" cy="6863040"/>
              </a:xfrm>
            </p:grpSpPr>
            <p:sp>
              <p:nvSpPr>
                <p:cNvPr id="168" name=""/>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9" name=""/>
                <p:cNvGrpSpPr/>
                <p:nvPr/>
              </p:nvGrpSpPr>
              <p:grpSpPr>
                <a:xfrm>
                  <a:off x="-315360" y="798480"/>
                  <a:ext cx="7085520" cy="6863040"/>
                  <a:chOff x="-315360" y="798480"/>
                  <a:chExt cx="7085520" cy="6863040"/>
                </a:xfrm>
              </p:grpSpPr>
              <p:sp>
                <p:nvSpPr>
                  <p:cNvPr id="170" name=""/>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3" name=""/>
                  <p:cNvGrpSpPr/>
                  <p:nvPr/>
                </p:nvGrpSpPr>
                <p:grpSpPr>
                  <a:xfrm>
                    <a:off x="-315360" y="798480"/>
                    <a:ext cx="7085520" cy="6863040"/>
                    <a:chOff x="-315360" y="798480"/>
                    <a:chExt cx="7085520" cy="6863040"/>
                  </a:xfrm>
                </p:grpSpPr>
                <p:sp>
                  <p:nvSpPr>
                    <p:cNvPr id="174" name=""/>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5" name=""/>
                    <p:cNvGrpSpPr/>
                    <p:nvPr/>
                  </p:nvGrpSpPr>
                  <p:grpSpPr>
                    <a:xfrm>
                      <a:off x="-315360" y="805680"/>
                      <a:ext cx="7075800" cy="6855840"/>
                      <a:chOff x="-315360" y="805680"/>
                      <a:chExt cx="7075800" cy="6855840"/>
                    </a:xfrm>
                  </p:grpSpPr>
                  <p:sp>
                    <p:nvSpPr>
                      <p:cNvPr id="176" name=""/>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7" name=""/>
                      <p:cNvGrpSpPr/>
                      <p:nvPr/>
                    </p:nvGrpSpPr>
                    <p:grpSpPr>
                      <a:xfrm>
                        <a:off x="-315360" y="805680"/>
                        <a:ext cx="7075800" cy="6855840"/>
                        <a:chOff x="-315360" y="805680"/>
                        <a:chExt cx="7075800" cy="6855840"/>
                      </a:xfrm>
                    </p:grpSpPr>
                    <p:sp>
                      <p:nvSpPr>
                        <p:cNvPr id="178" name=""/>
                        <p:cNvSpPr/>
                        <p:nvPr/>
                      </p:nvSpPr>
                      <p:spPr>
                        <a:xfrm flipH="1" flipV="1">
                          <a:off x="2218320" y="968400"/>
                          <a:ext cx="318960" cy="3602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flipH="1" flipV="1">
                          <a:off x="-12240" y="2650320"/>
                          <a:ext cx="2410560" cy="19620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flipH="1" flipV="1">
                          <a:off x="2160" y="2263320"/>
                          <a:ext cx="2404080" cy="2339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H="1" flipV="1">
                          <a:off x="1440" y="1777320"/>
                          <a:ext cx="2414880" cy="28137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flipH="1" flipV="1">
                          <a:off x="16560" y="1207440"/>
                          <a:ext cx="2404800" cy="3370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flipH="1" flipV="1">
                          <a:off x="1086120" y="805680"/>
                          <a:ext cx="1399320" cy="3764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flipH="1" flipV="1">
                          <a:off x="3240" y="3012480"/>
                          <a:ext cx="2387160" cy="16167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flipV="1">
                          <a:off x="-720" y="3323160"/>
                          <a:ext cx="2388960" cy="1322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H="1">
                          <a:off x="646200" y="4781160"/>
                          <a:ext cx="1787400" cy="492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H="1" flipV="1">
                          <a:off x="180000" y="4561560"/>
                          <a:ext cx="2232000" cy="179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flipH="1" flipV="1">
                          <a:off x="2880" y="3857400"/>
                          <a:ext cx="2391840" cy="8301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H="1">
                          <a:off x="1533600" y="4857480"/>
                          <a:ext cx="972720" cy="1354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flipH="1">
                          <a:off x="1662480" y="4868280"/>
                          <a:ext cx="853920" cy="1448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flipH="1">
                          <a:off x="1782000" y="4869000"/>
                          <a:ext cx="739080" cy="1550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flipH="1">
                          <a:off x="1911240" y="4874040"/>
                          <a:ext cx="617040" cy="1651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flipH="1">
                          <a:off x="2059200" y="4884480"/>
                          <a:ext cx="479880" cy="1765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H="1">
                          <a:off x="2207160" y="4888080"/>
                          <a:ext cx="339480" cy="18741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H="1">
                          <a:off x="2571480" y="4908240"/>
                          <a:ext cx="4680" cy="19263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2591640" y="4911840"/>
                          <a:ext cx="170280" cy="19220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2609280" y="4921560"/>
                          <a:ext cx="331920" cy="1896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2629800" y="4923000"/>
                          <a:ext cx="513360" cy="19065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2649960" y="4923000"/>
                          <a:ext cx="694080" cy="1907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661120" y="4921920"/>
                          <a:ext cx="893520" cy="1891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2685960" y="4928040"/>
                          <a:ext cx="1103040" cy="18928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2702880" y="4920480"/>
                          <a:ext cx="1348200" cy="1911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2725560" y="4916160"/>
                          <a:ext cx="1623960" cy="19134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2737080" y="4901040"/>
                          <a:ext cx="1943280" cy="1921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2743200" y="4888080"/>
                          <a:ext cx="2359800" cy="1936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2755440" y="4877640"/>
                          <a:ext cx="2860560" cy="19508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2761560" y="4860720"/>
                          <a:ext cx="3499560" cy="19659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762640" y="4843800"/>
                          <a:ext cx="3958200" cy="17859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2765520" y="4826160"/>
                          <a:ext cx="3994920" cy="1396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756520" y="4782600"/>
                          <a:ext cx="3909960" cy="6591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flipV="1">
                          <a:off x="2717640" y="3835080"/>
                          <a:ext cx="3219480" cy="883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flipV="1">
                          <a:off x="2705040" y="3316320"/>
                          <a:ext cx="2922120" cy="13759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bfbfab"/>
                        </a:solidFill>
                        <a:ln w="9360">
                          <a:solidFill>
                            <a:srgbClr val="bfbfa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4" name=""/>
                        <p:cNvGrpSpPr/>
                        <p:nvPr/>
                      </p:nvGrpSpPr>
                      <p:grpSpPr>
                        <a:xfrm>
                          <a:off x="-315360" y="1283760"/>
                          <a:ext cx="6462720" cy="6377760"/>
                          <a:chOff x="-315360" y="1283760"/>
                          <a:chExt cx="6462720" cy="6377760"/>
                        </a:xfrm>
                      </p:grpSpPr>
                      <p:sp>
                        <p:nvSpPr>
                          <p:cNvPr id="215" name=""/>
                          <p:cNvSpPr/>
                          <p:nvPr/>
                        </p:nvSpPr>
                        <p:spPr>
                          <a:xfrm rot="18780000">
                            <a:off x="2444760" y="4521960"/>
                            <a:ext cx="255600" cy="4442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rot="18780000">
                            <a:off x="2358360" y="4328640"/>
                            <a:ext cx="446040" cy="79812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rot="18780000">
                            <a:off x="2239200" y="4031640"/>
                            <a:ext cx="747720" cy="12902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rot="18780000">
                            <a:off x="2147040" y="3772800"/>
                            <a:ext cx="988920" cy="179208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rot="18780000">
                            <a:off x="2048040" y="3456720"/>
                            <a:ext cx="1247760" cy="232848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18780000">
                            <a:off x="1957320" y="3202200"/>
                            <a:ext cx="1543320" cy="28238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18780000">
                            <a:off x="1827000" y="2928240"/>
                            <a:ext cx="1852560" cy="332352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rot="18780000">
                            <a:off x="1715040" y="2658960"/>
                            <a:ext cx="2136960" cy="38066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rot="18780000">
                            <a:off x="1578240" y="2405160"/>
                            <a:ext cx="2481480" cy="427968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rot="18780000">
                            <a:off x="1474920" y="2121120"/>
                            <a:ext cx="2716200" cy="47876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18734400">
                            <a:off x="1384560" y="1848600"/>
                            <a:ext cx="2984400" cy="531000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rot="18819600">
                            <a:off x="1289520" y="1557720"/>
                            <a:ext cx="3252960" cy="582912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7" name=""/>
                        <p:cNvSpPr/>
                        <p:nvPr/>
                      </p:nvSpPr>
                      <p:spPr>
                        <a:xfrm flipV="1">
                          <a:off x="2630520" y="1817280"/>
                          <a:ext cx="1318680" cy="2809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flipV="1">
                          <a:off x="2642760" y="2169360"/>
                          <a:ext cx="1767600" cy="24642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flipV="1">
                          <a:off x="2644560" y="1972440"/>
                          <a:ext cx="1554120" cy="2647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flipV="1">
                          <a:off x="2653200" y="2329560"/>
                          <a:ext cx="1976760" cy="2312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flipV="1">
                          <a:off x="2660040" y="2504880"/>
                          <a:ext cx="2215080" cy="21448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flipV="1">
                          <a:off x="2680200" y="2921400"/>
                          <a:ext cx="2536920" cy="1747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flipV="1">
                          <a:off x="2693160" y="3132360"/>
                          <a:ext cx="2707560" cy="1547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2714040" y="3593520"/>
                          <a:ext cx="3031200" cy="11149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V="1">
                          <a:off x="2726280" y="4080600"/>
                          <a:ext cx="3373200" cy="645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V="1">
                          <a:off x="2730960" y="4413960"/>
                          <a:ext cx="3548160" cy="317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V="1">
                          <a:off x="2729160" y="4740120"/>
                          <a:ext cx="3704040" cy="2520"/>
                        </a:xfrm>
                        <a:prstGeom prst="line">
                          <a:avLst/>
                        </a:prstGeom>
                        <a:ln w="9360">
                          <a:solidFill>
                            <a:srgbClr val="bfbfab"/>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38" name=""/>
                        <p:cNvSpPr/>
                        <p:nvPr/>
                      </p:nvSpPr>
                      <p:spPr>
                        <a:xfrm>
                          <a:off x="2746080" y="4761000"/>
                          <a:ext cx="3829320" cy="3164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2764080" y="4804920"/>
                          <a:ext cx="3989880" cy="10155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flipH="1">
                          <a:off x="2391480" y="4898880"/>
                          <a:ext cx="172080" cy="1921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flipH="1">
                          <a:off x="1424160" y="4845960"/>
                          <a:ext cx="1061640" cy="1255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flipH="1">
                          <a:off x="1313280" y="4834080"/>
                          <a:ext cx="1163160" cy="11613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flipH="1">
                          <a:off x="1195200" y="4825800"/>
                          <a:ext cx="1275480" cy="10681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H="1">
                          <a:off x="1091880" y="4815000"/>
                          <a:ext cx="1371600" cy="966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H="1">
                          <a:off x="985680" y="4807800"/>
                          <a:ext cx="1464120" cy="858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flipH="1">
                          <a:off x="873720" y="4797720"/>
                          <a:ext cx="1573200" cy="742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H="1">
                          <a:off x="759240" y="4788360"/>
                          <a:ext cx="1680840" cy="620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H="1">
                          <a:off x="542520" y="4770000"/>
                          <a:ext cx="1885320" cy="348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H="1">
                          <a:off x="419760" y="4760280"/>
                          <a:ext cx="2001240" cy="1879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flipH="1">
                          <a:off x="294120" y="4747320"/>
                          <a:ext cx="2119320" cy="17640"/>
                        </a:xfrm>
                        <a:prstGeom prst="line">
                          <a:avLst/>
                        </a:prstGeom>
                        <a:ln w="9360">
                          <a:solidFill>
                            <a:srgbClr val="bfbfab"/>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51" name=""/>
                        <p:cNvSpPr/>
                        <p:nvPr/>
                      </p:nvSpPr>
                      <p:spPr>
                        <a:xfrm flipH="1" flipV="1">
                          <a:off x="42120" y="4334040"/>
                          <a:ext cx="2364120" cy="391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flipH="1" flipV="1">
                          <a:off x="1800" y="4099320"/>
                          <a:ext cx="2397240" cy="6066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flipH="1" flipV="1">
                          <a:off x="0" y="3595680"/>
                          <a:ext cx="2390040" cy="1077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flipH="1" flipV="1">
                          <a:off x="339120" y="1008360"/>
                          <a:ext cx="2095200" cy="35643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flipH="1" flipV="1">
                          <a:off x="699120" y="868680"/>
                          <a:ext cx="1756080" cy="37029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H="1" flipV="1">
                          <a:off x="1482480" y="823680"/>
                          <a:ext cx="1018800" cy="37404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flipH="1" flipV="1">
                          <a:off x="1833480" y="875520"/>
                          <a:ext cx="685800" cy="3693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flipV="1">
                          <a:off x="2553120" y="1079280"/>
                          <a:ext cx="4320" cy="3493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V="1">
                          <a:off x="2573640" y="1203840"/>
                          <a:ext cx="304560" cy="3379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V="1">
                          <a:off x="2585160" y="1347480"/>
                          <a:ext cx="585720" cy="3244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V="1">
                          <a:off x="2598480" y="1497960"/>
                          <a:ext cx="846000" cy="3106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flipV="1">
                          <a:off x="2612160" y="1662840"/>
                          <a:ext cx="1095120" cy="2944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grpSp>
          <p:grpSp>
            <p:nvGrpSpPr>
              <p:cNvPr id="263" name=""/>
              <p:cNvGrpSpPr/>
              <p:nvPr/>
            </p:nvGrpSpPr>
            <p:grpSpPr>
              <a:xfrm>
                <a:off x="4320" y="2715480"/>
                <a:ext cx="5018040" cy="4112280"/>
                <a:chOff x="4320" y="2715480"/>
                <a:chExt cx="5018040" cy="4112280"/>
              </a:xfrm>
            </p:grpSpPr>
            <p:sp>
              <p:nvSpPr>
                <p:cNvPr id="264" name=""/>
                <p:cNvSpPr/>
                <p:nvPr/>
              </p:nvSpPr>
              <p:spPr>
                <a:xfrm flipV="1">
                  <a:off x="2672280" y="2715480"/>
                  <a:ext cx="2350080" cy="19476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flipH="1" flipV="1">
                  <a:off x="1381680" y="6087960"/>
                  <a:ext cx="353880" cy="73512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6" name=""/>
                <p:cNvGrpSpPr/>
                <p:nvPr/>
              </p:nvGrpSpPr>
              <p:grpSpPr>
                <a:xfrm>
                  <a:off x="4320" y="4316040"/>
                  <a:ext cx="2090160" cy="2511720"/>
                  <a:chOff x="4320" y="4316040"/>
                  <a:chExt cx="2090160" cy="2511720"/>
                </a:xfrm>
              </p:grpSpPr>
              <p:sp>
                <p:nvSpPr>
                  <p:cNvPr id="267" name=""/>
                  <p:cNvSpPr/>
                  <p:nvPr/>
                </p:nvSpPr>
                <p:spPr>
                  <a:xfrm flipH="1">
                    <a:off x="1107360" y="6089400"/>
                    <a:ext cx="273960" cy="29700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bfbfa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flipH="1">
                    <a:off x="1972800" y="6686640"/>
                    <a:ext cx="121680" cy="13968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H="1" flipV="1">
                    <a:off x="540360" y="5792760"/>
                    <a:ext cx="844200" cy="29376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flipH="1" flipV="1">
                    <a:off x="377280" y="4892760"/>
                    <a:ext cx="159840" cy="90000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H="1" flipV="1">
                    <a:off x="4320" y="4746600"/>
                    <a:ext cx="372600" cy="14616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86760" y="4892400"/>
                    <a:ext cx="288720" cy="30780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H="1">
                    <a:off x="534240" y="5487840"/>
                    <a:ext cx="279000" cy="30492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flipV="1">
                    <a:off x="5760" y="4316040"/>
                    <a:ext cx="21960" cy="36360"/>
                  </a:xfrm>
                  <a:prstGeom prst="line">
                    <a:avLst/>
                  </a:prstGeom>
                  <a:ln w="19080">
                    <a:solidFill>
                      <a:srgbClr val="bfbfab"/>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grpSp>
        </p:grpSp>
        <p:grpSp>
          <p:nvGrpSpPr>
            <p:cNvPr id="276" name=""/>
            <p:cNvGrpSpPr/>
            <p:nvPr/>
          </p:nvGrpSpPr>
          <p:grpSpPr>
            <a:xfrm>
              <a:off x="1800" y="2141280"/>
              <a:ext cx="5221080" cy="4680000"/>
              <a:chOff x="1800" y="2141280"/>
              <a:chExt cx="5221080" cy="4680000"/>
            </a:xfrm>
          </p:grpSpPr>
          <p:sp>
            <p:nvSpPr>
              <p:cNvPr id="277" name=""/>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rot="19111200">
                <a:off x="3132360" y="3082320"/>
                <a:ext cx="214776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80" name=""/>
              <p:cNvSpPr/>
              <p:nvPr/>
            </p:nvSpPr>
            <p:spPr>
              <a:xfrm rot="16512000">
                <a:off x="3093840" y="4184640"/>
                <a:ext cx="351936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81" name=""/>
              <p:cNvSpPr/>
              <p:nvPr/>
            </p:nvSpPr>
            <p:spPr>
              <a:xfrm rot="18182400">
                <a:off x="1593000" y="4313520"/>
                <a:ext cx="425124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82" name=""/>
              <p:cNvSpPr/>
              <p:nvPr/>
            </p:nvSpPr>
            <p:spPr>
              <a:xfrm rot="20763600">
                <a:off x="1068120" y="2810880"/>
                <a:ext cx="379404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grpSp>
            <p:nvGrpSpPr>
              <p:cNvPr id="283" name=""/>
              <p:cNvGrpSpPr/>
              <p:nvPr/>
            </p:nvGrpSpPr>
            <p:grpSpPr>
              <a:xfrm>
                <a:off x="4728240" y="2141280"/>
                <a:ext cx="494640" cy="493560"/>
                <a:chOff x="4728240" y="2141280"/>
                <a:chExt cx="494640" cy="493560"/>
              </a:xfrm>
            </p:grpSpPr>
            <p:sp>
              <p:nvSpPr>
                <p:cNvPr id="284" name=""/>
                <p:cNvSpPr/>
                <p:nvPr/>
              </p:nvSpPr>
              <p:spPr>
                <a:xfrm rot="2828400">
                  <a:off x="4743720" y="2367720"/>
                  <a:ext cx="315720" cy="180000"/>
                </a:xfrm>
                <a:prstGeom prst="ellipse">
                  <a:avLst/>
                </a:prstGeom>
                <a:gradFill rotWithShape="0">
                  <a:gsLst>
                    <a:gs pos="0">
                      <a:srgbClr val="bfbfab"/>
                    </a:gs>
                    <a:gs pos="100000">
                      <a:srgbClr val="c8c8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4843080" y="226332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4925880" y="225324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991040" y="214884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grpSp>
        </p:grpSp>
      </p:grpSp>
      <p:sp>
        <p:nvSpPr>
          <p:cNvPr id="289"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00"/>
                </a:solidFill>
                <a:latin typeface="Arial"/>
              </a:rPr>
              <a:t>Click to edit the title text format</a:t>
            </a:r>
            <a:endParaRPr b="0" lang="en-US" sz="5100" spc="-1" strike="noStrike">
              <a:solidFill>
                <a:srgbClr val="000000"/>
              </a:solidFill>
              <a:latin typeface="Arial"/>
            </a:endParaRPr>
          </a:p>
        </p:txBody>
      </p:sp>
      <p:sp>
        <p:nvSpPr>
          <p:cNvPr id="290"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29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292"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45999-D1C4-4567-8C7E-8C82005AFD32}" type="slidenum">
              <a:rPr b="0" lang="nl-NL"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29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99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00000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33660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100" spc="-1" strike="noStrike">
                <a:solidFill>
                  <a:srgbClr val="000000"/>
                </a:solidFill>
                <a:latin typeface="Arial"/>
              </a:rPr>
              <a:t>Meerjaren-plan gewasbescherming</a:t>
            </a:r>
            <a:endParaRPr b="0" lang="en-US" sz="5100" spc="-1" strike="noStrike">
              <a:solidFill>
                <a:srgbClr val="000000"/>
              </a:solidFill>
              <a:latin typeface="Arial"/>
            </a:endParaRPr>
          </a:p>
        </p:txBody>
      </p:sp>
      <p:sp>
        <p:nvSpPr>
          <p:cNvPr id="33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JPG</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rt in 1987</a:t>
            </a:r>
            <a:endParaRPr b="0" lang="en-US" sz="4400" spc="-1" strike="noStrike">
              <a:solidFill>
                <a:srgbClr val="000000"/>
              </a:solidFill>
              <a:latin typeface="Arial"/>
            </a:endParaRPr>
          </a:p>
        </p:txBody>
      </p:sp>
      <p:sp>
        <p:nvSpPr>
          <p:cNvPr id="3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eel milieuproblem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vervuilde lucht</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vervuild oppervlaktewater</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vervuilde grond</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én van de oorzaken: het gebruik van chemische bestrijdingsmiddelen</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leidsplannen</a:t>
            </a:r>
            <a:endParaRPr b="0" lang="en-US" sz="4400" spc="-1" strike="noStrike">
              <a:solidFill>
                <a:srgbClr val="000000"/>
              </a:solidFill>
              <a:latin typeface="Arial"/>
            </a:endParaRPr>
          </a:p>
        </p:txBody>
      </p:sp>
      <p:sp>
        <p:nvSpPr>
          <p:cNvPr id="3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Verdana"/>
              </a:rPr>
              <a:t>Meer aandacht voor bijdrijfshygiene</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Verdana"/>
              </a:rPr>
              <a:t>Bevorderen gebruik resistente rass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Verdana"/>
              </a:rPr>
              <a:t>Vruchtwisseling</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Verdana"/>
              </a:rPr>
              <a:t>Geleide bestrijding</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Verdana"/>
              </a:rPr>
              <a:t>Geintegreerde bestrijding</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Verdana"/>
              </a:rPr>
              <a:t>Verminderen van het aantal middelen</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itvoering richt zich op:</a:t>
            </a:r>
            <a:endParaRPr b="0" lang="en-US" sz="4400" spc="-1" strike="noStrike">
              <a:solidFill>
                <a:srgbClr val="000000"/>
              </a:solidFill>
              <a:latin typeface="Arial"/>
            </a:endParaRPr>
          </a:p>
        </p:txBody>
      </p:sp>
      <p:sp>
        <p:nvSpPr>
          <p:cNvPr id="3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oorkomen van ziekten en plagen</a:t>
            </a:r>
            <a:endParaRPr b="0" lang="en-US" sz="3200" spc="-1" strike="noStrike">
              <a:solidFill>
                <a:srgbClr val="000000"/>
              </a:solidFill>
              <a:latin typeface="Verdana"/>
            </a:endParaRPr>
          </a:p>
          <a:p>
            <a:pPr marL="343080" indent="-343080">
              <a:lnSpc>
                <a:spcPct val="9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erugdringen bestrijdingsmiddelen (50% vermindering in 2000 en 95% in 2001</a:t>
            </a:r>
            <a:endParaRPr b="0" lang="en-US" sz="3200" spc="-1" strike="noStrike">
              <a:solidFill>
                <a:srgbClr val="000000"/>
              </a:solidFill>
              <a:latin typeface="Verdana"/>
            </a:endParaRPr>
          </a:p>
          <a:p>
            <a:pPr marL="343080" indent="-343080">
              <a:lnSpc>
                <a:spcPct val="9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een middelen met grote risico’s voor mens en milieu</a:t>
            </a:r>
            <a:endParaRPr b="0" lang="en-US" sz="3200" spc="-1" strike="noStrike">
              <a:solidFill>
                <a:srgbClr val="000000"/>
              </a:solidFill>
              <a:latin typeface="Verdana"/>
            </a:endParaRPr>
          </a:p>
          <a:p>
            <a:pPr marL="343080" indent="-343080">
              <a:lnSpc>
                <a:spcPct val="9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evordering alternatieve vormen van bestrijding</a:t>
            </a:r>
            <a:endParaRPr b="0" lang="en-US" sz="3200" spc="-1" strike="noStrike">
              <a:solidFill>
                <a:srgbClr val="000000"/>
              </a:solidFill>
              <a:latin typeface="Verdana"/>
            </a:endParaRPr>
          </a:p>
          <a:p>
            <a:pPr marL="343080" indent="-343080">
              <a:lnSpc>
                <a:spcPct val="9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erbeteren toepassingstechnieken</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volgen</a:t>
            </a:r>
            <a:endParaRPr b="0" lang="en-US" sz="4400" spc="-1" strike="noStrike">
              <a:solidFill>
                <a:srgbClr val="000000"/>
              </a:solidFill>
              <a:latin typeface="Arial"/>
            </a:endParaRPr>
          </a:p>
        </p:txBody>
      </p:sp>
      <p:sp>
        <p:nvSpPr>
          <p:cNvPr id="3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een middelen meer toepassen in grondwaterbeschermingsgebied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een middelen meer toepassen in watergang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een middelen die giftig zijn voor niet schadelijke en nuttige dier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nkruidbeheer en onkruidbeheersing</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en middelen toepassen in watergangen</a:t>
            </a:r>
            <a:endParaRPr b="0" lang="en-US" sz="4000" spc="-1" strike="noStrike">
              <a:solidFill>
                <a:srgbClr val="000000"/>
              </a:solidFill>
              <a:latin typeface="Arial"/>
            </a:endParaRPr>
          </a:p>
        </p:txBody>
      </p:sp>
      <p:pic>
        <p:nvPicPr>
          <p:cNvPr id="341" name="" descr=""/>
          <p:cNvPicPr/>
          <p:nvPr/>
        </p:nvPicPr>
        <p:blipFill>
          <a:blip r:embed="rId1"/>
          <a:srcRect l="18458" t="8855" r="18801" b="33445"/>
          <a:stretch/>
        </p:blipFill>
        <p:spPr>
          <a:xfrm>
            <a:off x="1258920" y="2039760"/>
            <a:ext cx="6985080" cy="48182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42" name="PlaceHolder 1"/>
          <p:cNvSpPr>
            <a:spLocks noGrp="1"/>
          </p:cNvSpPr>
          <p:nvPr>
            <p:ph/>
          </p:nvPr>
        </p:nvSpPr>
        <p:spPr>
          <a:xfrm>
            <a:off x="3348000" y="188640"/>
            <a:ext cx="5796000" cy="6669000"/>
          </a:xfrm>
          <a:prstGeom prst="rect">
            <a:avLst/>
          </a:prstGeom>
          <a:noFill/>
          <a:ln w="0">
            <a:noFill/>
          </a:ln>
        </p:spPr>
        <p:txBody>
          <a:bodyPr lIns="90000" rIns="90000" tIns="46800" bIns="46800" anchor="t">
            <a:normAutofit/>
          </a:bodyPr>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Grondwaterbeschermingsgebieden</a:t>
            </a:r>
            <a:br>
              <a:rPr sz="2100"/>
            </a:br>
            <a:r>
              <a:rPr b="0" lang="en-US" sz="2100" spc="-1" strike="noStrike">
                <a:solidFill>
                  <a:srgbClr val="000000"/>
                </a:solidFill>
                <a:latin typeface="Verdana"/>
              </a:rPr>
              <a:t>Het grondwaterbeschermingsgebied is een zone rondom het waterwingebied, een buffer die is ingesteld om het grondwater in het waterwingebied te beschermen. Voor deze zone zijn er minder verboden dan in het waterwingebied. In elk geval gelden er beperkingen voor:</a:t>
            </a:r>
            <a:br>
              <a:rPr sz="2100"/>
            </a:br>
            <a:r>
              <a:rPr b="0" lang="en-US" sz="2100" spc="-1" strike="noStrike">
                <a:solidFill>
                  <a:srgbClr val="000000"/>
                </a:solidFill>
                <a:latin typeface="Verdana"/>
              </a:rPr>
              <a:t>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uisleidingen;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licht verontreinigde grond;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verhardingen en gebouwen;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oorputten en boringen;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grond- en funderingswerken en constructies;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vloeistofinjectie;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rmte- en koudeopslag;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egraafplaatsen en uitstrooivelden;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estrijdingsmiddelen;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zuiveringsslib;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ststoffen. </a:t>
            </a:r>
            <a:endParaRPr b="0" lang="en-US" sz="2100" spc="-1" strike="noStrike">
              <a:solidFill>
                <a:srgbClr val="000000"/>
              </a:solidFill>
              <a:latin typeface="Verdana"/>
            </a:endParaRPr>
          </a:p>
        </p:txBody>
      </p:sp>
      <p:pic>
        <p:nvPicPr>
          <p:cNvPr id="343" name="" descr=""/>
          <p:cNvPicPr/>
          <p:nvPr/>
        </p:nvPicPr>
        <p:blipFill>
          <a:blip r:embed="rId1"/>
          <a:stretch/>
        </p:blipFill>
        <p:spPr>
          <a:xfrm>
            <a:off x="0" y="1268280"/>
            <a:ext cx="3240000" cy="45370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hadelijk voor nuttige organismen:</a:t>
            </a:r>
            <a:endParaRPr b="0" lang="en-US" sz="4000" spc="-1" strike="noStrike">
              <a:solidFill>
                <a:srgbClr val="000000"/>
              </a:solidFill>
              <a:latin typeface="Arial"/>
            </a:endParaRPr>
          </a:p>
        </p:txBody>
      </p:sp>
      <p:sp>
        <p:nvSpPr>
          <p:cNvPr id="3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ogels eten van bespoten plant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aterorganismen ondervinden schade van middelen die in het water terechtkom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ijen gaan dood bij gebruik van middelen op bloeiende plant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genwormen sterven door sommige middelen</a:t>
            </a:r>
            <a:endParaRPr b="0" lang="en-US" sz="32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5T19:12:53Z</dcterms:created>
  <dc:creator>Administrator</dc:creator>
  <dc:description/>
  <dc:language>en-US</dc:language>
  <cp:lastModifiedBy>Administrator</cp:lastModifiedBy>
  <dcterms:modified xsi:type="dcterms:W3CDTF">2009-12-28T17:52:07Z</dcterms:modified>
  <cp:revision>3</cp:revision>
  <dc:subject/>
  <dc:title>Meerjaren-plan gewasbescherming</dc:title>
</cp:coreProperties>
</file>