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B772-99ED-44FC-9514-C9B79DFEB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C1AE-999C-4D71-B9BC-6D4A000E1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E533-ED90-4386-B14F-23B231E09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EBA2-D02F-4985-B45F-B3E1C9EC8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44A64-A54F-49BD-B8E6-D23305A67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A2627-0E8C-442A-BEF5-33A3DCC8A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0D939-5F63-4A79-BF2D-9FF9AFAB0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6FA5F-63D3-406C-AF38-39B0064AE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92869-2B66-488A-95EB-0DA079D33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13309-18A0-49E7-B7D6-433B2B43F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6AE16-39C1-4DCA-B211-5C7D849D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5417-5D15-4660-9324-9EFCB6718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0EBF4-0571-4B9C-A8E7-91EDD347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76510-D766-4A9B-8A67-07234F18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3C4B5-E3F3-4FAC-B8CF-B9CF13443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A3597-FC27-4F52-BD6B-1DE633D90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89AE2-E67A-4C71-A0CE-529CF40D6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BDB2-FEDA-4CBF-8EA8-D524275B0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5EC0-1CFF-4FA7-A01E-66F35540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1971-B3F2-45AD-A884-2D6C9AE30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9135-CF8D-4EE2-9B65-48016A0A1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4500-69F1-48AF-A577-BC23778A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6E25-A6FD-4D9A-9368-4E56FA01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E10B-B342-455F-850E-9E8618C8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992A5-A379-4C0D-93BB-065A8D5C6F0A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97045-E12E-4F29-A5A1-E568EA27CAA2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llisapi.dll/fetch/93689552/93691489/t-gewasbescherming.htm.html?nodeid=93689073&amp;vernum=-2" TargetMode="External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Gewasbescherm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 eti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ing van de mid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Systemische werking, wordt in de sapstroom opgenom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Contactmiddelen, werkt alleen waar het gewas wordt geraak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Selectieve middelen, doodt alleen een soort of groep insecten of onkrui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Allesdoders, maakt geen ondershe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Preventieve middelen voorkomt een plaa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Curatieve middelen genez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vaarsymbole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0" descr=""/>
          <p:cNvPicPr/>
          <p:nvPr/>
        </p:nvPicPr>
        <p:blipFill>
          <a:blip r:embed="rId1"/>
          <a:stretch/>
        </p:blipFill>
        <p:spPr>
          <a:xfrm>
            <a:off x="0" y="1125360"/>
            <a:ext cx="666720" cy="657360"/>
          </a:xfrm>
          <a:prstGeom prst="rect">
            <a:avLst/>
          </a:prstGeom>
          <a:ln w="0">
            <a:noFill/>
          </a:ln>
        </p:spPr>
      </p:pic>
      <p:pic>
        <p:nvPicPr>
          <p:cNvPr id="184" name="0" descr=""/>
          <p:cNvPicPr/>
          <p:nvPr/>
        </p:nvPicPr>
        <p:blipFill>
          <a:blip r:embed="rId2"/>
          <a:stretch/>
        </p:blipFill>
        <p:spPr>
          <a:xfrm>
            <a:off x="0" y="1916280"/>
            <a:ext cx="666720" cy="657000"/>
          </a:xfrm>
          <a:prstGeom prst="rect">
            <a:avLst/>
          </a:prstGeom>
          <a:ln w="0">
            <a:noFill/>
          </a:ln>
        </p:spPr>
      </p:pic>
      <p:pic>
        <p:nvPicPr>
          <p:cNvPr id="185" name="0" descr=""/>
          <p:cNvPicPr/>
          <p:nvPr/>
        </p:nvPicPr>
        <p:blipFill>
          <a:blip r:embed="rId3"/>
          <a:stretch/>
        </p:blipFill>
        <p:spPr>
          <a:xfrm>
            <a:off x="0" y="2708280"/>
            <a:ext cx="666720" cy="657360"/>
          </a:xfrm>
          <a:prstGeom prst="rect">
            <a:avLst/>
          </a:prstGeom>
          <a:ln w="0">
            <a:noFill/>
          </a:ln>
        </p:spPr>
      </p:pic>
      <p:pic>
        <p:nvPicPr>
          <p:cNvPr id="186" name="0" descr=""/>
          <p:cNvPicPr/>
          <p:nvPr/>
        </p:nvPicPr>
        <p:blipFill>
          <a:blip r:embed="rId4"/>
          <a:stretch/>
        </p:blipFill>
        <p:spPr>
          <a:xfrm>
            <a:off x="0" y="3500280"/>
            <a:ext cx="666720" cy="657360"/>
          </a:xfrm>
          <a:prstGeom prst="rect">
            <a:avLst/>
          </a:prstGeom>
          <a:ln w="0">
            <a:noFill/>
          </a:ln>
        </p:spPr>
      </p:pic>
      <p:pic>
        <p:nvPicPr>
          <p:cNvPr id="187" name="0" descr=""/>
          <p:cNvPicPr/>
          <p:nvPr/>
        </p:nvPicPr>
        <p:blipFill>
          <a:blip r:embed="rId5"/>
          <a:stretch/>
        </p:blipFill>
        <p:spPr>
          <a:xfrm>
            <a:off x="0" y="5013360"/>
            <a:ext cx="666720" cy="657360"/>
          </a:xfrm>
          <a:prstGeom prst="rect">
            <a:avLst/>
          </a:prstGeom>
          <a:ln w="0">
            <a:noFill/>
          </a:ln>
        </p:spPr>
      </p:pic>
      <p:pic>
        <p:nvPicPr>
          <p:cNvPr id="188" name="0" descr=""/>
          <p:cNvPicPr/>
          <p:nvPr/>
        </p:nvPicPr>
        <p:blipFill>
          <a:blip r:embed="rId6"/>
          <a:stretch/>
        </p:blipFill>
        <p:spPr>
          <a:xfrm>
            <a:off x="0" y="5805360"/>
            <a:ext cx="666720" cy="657360"/>
          </a:xfrm>
          <a:prstGeom prst="rect">
            <a:avLst/>
          </a:prstGeom>
          <a:ln w="0">
            <a:noFill/>
          </a:ln>
        </p:spPr>
      </p:pic>
      <p:pic>
        <p:nvPicPr>
          <p:cNvPr id="189" name="0" descr=""/>
          <p:cNvPicPr/>
          <p:nvPr/>
        </p:nvPicPr>
        <p:blipFill>
          <a:blip r:embed="rId7"/>
          <a:stretch/>
        </p:blipFill>
        <p:spPr>
          <a:xfrm>
            <a:off x="0" y="4292640"/>
            <a:ext cx="666720" cy="6573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886680" y="1216080"/>
            <a:ext cx="700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odshoofd”. Symbool voor zeer vergiftige en vergiftige middel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45200" y="2008080"/>
            <a:ext cx="850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askruis”. Voor middelen die irriterend zijn of schadelijk voor de gezondhei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39800" y="2800440"/>
            <a:ext cx="43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am”. Voor licht ontvlambare middel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13960" y="3592440"/>
            <a:ext cx="511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lam boven cirkel”. Voor oxyderende middel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00000" y="4508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17200" y="4384800"/>
            <a:ext cx="811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b. van inwerkend zuur op materiaal of lichaamsdeel. Voor bijtende middel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40520" y="5105520"/>
            <a:ext cx="50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tploffende bom”. Voor explosieve middel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38720" y="5897520"/>
            <a:ext cx="28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vaarlijk voor het milie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iketinform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Merkna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Toelatingsnumm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Aard van het prepara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Werkzame st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ehal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Inhoud van de verpak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Waarschuwingszinn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eligheidsaanbeveli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184560" y="1576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t wettelijk gebruiksvoorschrif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 soort schadelijke organis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 soort gewas of gewasgroe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elt- of verzorgingssituat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omgeving waar de teelt plaatsvin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 tijdstip van bestrij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lle andere toepassingen zijn verboden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veiligheidstermij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tijd tussen de laatste toepassing en de oog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t is afhankelijk van de afbraaksnelhe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t afvoeren van restanten en verpakkin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3 mogelijkhed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Terug naar de leveranci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Naar KCA-depo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edrijfsafv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e STORL aanduiding geeft hierover informat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564000" y="4552920"/>
            <a:ext cx="39607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en oefening etiketlez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632320" y="3068640"/>
            <a:ext cx="29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5454c6"/>
                </a:solidFill>
                <a:uFillTx/>
                <a:latin typeface="Arial"/>
                <a:hlinkClick r:id="rId1"/>
              </a:rPr>
              <a:t>klik hier voor een voorbe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istentie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felijk overdraagba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ddelen afwissel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ddelen in blokken afwissel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ever niet me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eltmaatregelen en bedrijfshygië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ttige insec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seringen en spuitintervall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t aanmaken van de spuitvloeisto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etiket leze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oeveelheid middel berekene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persoonlijke beschermingsmiddelen aandoen/aanbrenge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puitapparatuur/toedieningsapparatuur klaarmake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middel klaarmaken voor gebruik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fustreinige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verantwoord opruimen van de verpakking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toedienen middel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puitrestant verantwoord afvoere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choonmaken van apparatuur en beschermingsmiddel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afbraak van mid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acteriën, zonlicht, microorganismen, chemische reac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Afbraaksnelheid aangeduid met DT-50 waarde = halfwaardetijd in 30 da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T-waarde van meer dan 60 dagen = een moeilijk afbreekbaar product = per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omt op plaatsen terecht zoals grond- en regenwa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enstelling van de mid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rkzame stof (W.S. of A.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 verpakking aangegeven als percent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aak vaste stoffen of olieachtige stoff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oit als pure stof in verband met allerlei bezwa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vorm waarin de stof is gebracht is de “formulering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aruit bestaan de middelen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Oplosmid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raagstof of vulst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ispergeermiddel (de w.s. blijft zweve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Emulgator (het w.s. blijft gemeng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Uitvloei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Hecht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Anti-schuimmiddel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leur- en geurstoff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ispergeermid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22878" t="18276" r="27257" b="8480"/>
          <a:stretch/>
        </p:blipFill>
        <p:spPr>
          <a:xfrm>
            <a:off x="1258920" y="1768320"/>
            <a:ext cx="5977080" cy="48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en emulg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47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formulering van de mid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puitpoe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puitkorr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Flow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Mengbare olië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Waterige oplossing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tuifpoe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Granula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trooimiddel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Rookmiddel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Gasnevelformulering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Aerosol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124000" y="4307040"/>
            <a:ext cx="2808360" cy="25509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048360" cy="1727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4751280" y="5200560"/>
            <a:ext cx="4392720" cy="16574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6840360" y="0"/>
            <a:ext cx="2303640" cy="27367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2846160" y="609300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uitkorr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0" y="2421000"/>
            <a:ext cx="2149560" cy="4437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2195640" y="1773360"/>
            <a:ext cx="2065320" cy="23050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422160" y="220500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nul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77080" y="2924280"/>
            <a:ext cx="1295280" cy="576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58920" y="2421000"/>
            <a:ext cx="914400" cy="649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7"/>
          <a:stretch/>
        </p:blipFill>
        <p:spPr>
          <a:xfrm>
            <a:off x="4716360" y="1628640"/>
            <a:ext cx="2087640" cy="17290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8"/>
          <a:stretch/>
        </p:blipFill>
        <p:spPr>
          <a:xfrm>
            <a:off x="4162320" y="3357720"/>
            <a:ext cx="49816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en waterige oplo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7T12:58:26Z</dcterms:created>
  <dc:creator>Peter</dc:creator>
  <dc:description/>
  <dc:language>en-US</dc:language>
  <cp:lastModifiedBy>Administrator</cp:lastModifiedBy>
  <dcterms:modified xsi:type="dcterms:W3CDTF">2009-12-28T17:39:34Z</dcterms:modified>
  <cp:revision>7</cp:revision>
  <dc:subject/>
  <dc:title>Gewasbescherming</dc:title>
</cp:coreProperties>
</file>