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E1BD-D906-423E-A7C9-0A4C63AF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06C-DADC-4880-9B1B-45693C0B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6277-0B61-4517-AC37-F509BDC0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443E-C275-4806-AC8B-872ADD40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E81F-476F-4FD0-AE26-E16CAD9B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0318-0071-4CE1-952E-DC632BAB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22FA-544A-4BE7-8D49-6041EFA4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D49C-3E22-4354-8BCE-5A03C817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BC9A-E0E3-4F48-B826-239D0C00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7C9D-0F36-4D6D-88F4-69FD64DA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8368-DBEF-40AF-B462-8DE930D8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DC2E-FE28-404A-8E15-098F7667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8E3E-4EAC-4D41-BE91-5ABEAC91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90F2-76AC-4722-8D44-9878C4B9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EC86-44E6-4409-AC4A-AA0E6696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193E-8DCC-4069-A6B6-0C01D286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F62F-F266-4D3C-956B-639961F6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5D9C-8883-439C-B43D-53AA7C87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DD10-C72C-4E2E-A2FE-60B1D0D1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5310-6181-4536-9E31-97B44720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A446-3980-4609-9DFD-FD0A2683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690-C9AD-4E12-9A86-8A86155E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67CF-487D-4ED8-9973-5C3D71A2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8C1-41B1-41C7-9E30-BDA64AA7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B393-A5CA-4C39-8948-5BF5DE50714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3475-6C12-451F-A664-F3AC980CA1F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JP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85: 21.000.000 kg actieve stof afgezet in de landbou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0 gehal­veerd moet zijn in verge­lijking met het gebruik in de periode 1984-198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3 is een akkoord bereikt over vermindering van de milieulast van 95% in 2010 ten opzicht van 199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Administrator</cp:lastModifiedBy>
  <dcterms:modified xsi:type="dcterms:W3CDTF">2010-01-06T20:30:55Z</dcterms:modified>
  <cp:revision>2</cp:revision>
  <dc:subject/>
  <dc:title>Uitvoeren gewasbescherming</dc:title>
</cp:coreProperties>
</file>