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6CA1-E48F-4C02-9C8C-96158871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B3A8-4850-47E5-A4D3-6B2FF7E9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8082-9A25-4359-AAF9-B9E33C65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D1E-4EC2-4716-BAC9-D0A7162D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5F1D-4185-45F7-ACA8-4A111F69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139E-8A36-408A-AF16-8EE560BC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C88C-1B3E-48CF-A942-2AD63032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1CC6-AA04-4F79-9F73-23AFF52E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F90F-0188-4690-85E4-4671A6B9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CE55-595D-4084-BE5F-822A2DEE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08F3-37ED-42E4-A94D-AE4A96D4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252F-4BA6-4FB9-849E-08A0B334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01C4-2577-45B8-B3DF-E39F3B82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1516-76E6-4F2D-8519-41ADB9A5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6F7A-4A3F-45EC-A66D-5780A4E5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C876-E69F-41CC-90BE-640CCEA3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5CBE-3198-42CE-ABFF-4B1DBD40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40C-B8E6-4CC3-AF2B-2955DD28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EC9-E614-4A91-9E68-3D70B0E3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F5B-FF07-4717-8D52-1BBC5150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385-FB29-48EC-8410-83B5E681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E90F-953F-4CF0-B551-35EF1669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A509-EA3E-4E78-A52E-183D970D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F5D-5658-4B3B-ACCB-4CF5C31B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DB58-33B3-47CB-81DF-4D182AA9FF5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6666-E7B5-4EA3-B684-D31FB19A14F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eti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ystemische werking, wordt in de sapstroom opgeno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ontactmiddelen, werkt alleen waar het gewas wordt geraa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electieve middelen, doodt alleen een soort of groep insecten of onkru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llesdoders, maakt geen onders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reventieve middelen voorkomt een pla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uratieve middelen gene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vaarsymbol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0" descr=""/>
          <p:cNvPicPr/>
          <p:nvPr/>
        </p:nvPicPr>
        <p:blipFill>
          <a:blip r:embed="rId1"/>
          <a:stretch/>
        </p:blipFill>
        <p:spPr>
          <a:xfrm>
            <a:off x="0" y="112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4" name="0" descr=""/>
          <p:cNvPicPr/>
          <p:nvPr/>
        </p:nvPicPr>
        <p:blipFill>
          <a:blip r:embed="rId2"/>
          <a:stretch/>
        </p:blipFill>
        <p:spPr>
          <a:xfrm>
            <a:off x="0" y="1916280"/>
            <a:ext cx="666720" cy="657000"/>
          </a:xfrm>
          <a:prstGeom prst="rect">
            <a:avLst/>
          </a:prstGeom>
          <a:ln w="0">
            <a:noFill/>
          </a:ln>
        </p:spPr>
      </p:pic>
      <p:pic>
        <p:nvPicPr>
          <p:cNvPr id="185" name="0" descr=""/>
          <p:cNvPicPr/>
          <p:nvPr/>
        </p:nvPicPr>
        <p:blipFill>
          <a:blip r:embed="rId3"/>
          <a:stretch/>
        </p:blipFill>
        <p:spPr>
          <a:xfrm>
            <a:off x="0" y="2708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6" name="0" descr=""/>
          <p:cNvPicPr/>
          <p:nvPr/>
        </p:nvPicPr>
        <p:blipFill>
          <a:blip r:embed="rId4"/>
          <a:stretch/>
        </p:blipFill>
        <p:spPr>
          <a:xfrm>
            <a:off x="0" y="3500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7" name="0" descr=""/>
          <p:cNvPicPr/>
          <p:nvPr/>
        </p:nvPicPr>
        <p:blipFill>
          <a:blip r:embed="rId5"/>
          <a:stretch/>
        </p:blipFill>
        <p:spPr>
          <a:xfrm>
            <a:off x="0" y="5013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8" name="0" descr=""/>
          <p:cNvPicPr/>
          <p:nvPr/>
        </p:nvPicPr>
        <p:blipFill>
          <a:blip r:embed="rId6"/>
          <a:stretch/>
        </p:blipFill>
        <p:spPr>
          <a:xfrm>
            <a:off x="0" y="580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9" name="0" descr=""/>
          <p:cNvPicPr/>
          <p:nvPr/>
        </p:nvPicPr>
        <p:blipFill>
          <a:blip r:embed="rId7"/>
          <a:stretch/>
        </p:blipFill>
        <p:spPr>
          <a:xfrm>
            <a:off x="0" y="4292640"/>
            <a:ext cx="666720" cy="657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86680" y="1216080"/>
            <a:ext cx="70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dshoofd”. Symbool voor zeer vergiftige en vergiftig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5200" y="2008080"/>
            <a:ext cx="85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askruis”. Voor middelen die irriterend zijn of schadelijk voor de gezond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9800" y="280044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m”. Voor licht ontvlambar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3960" y="3592440"/>
            <a:ext cx="51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m boven cirkel”. Voor oxyderend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4508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7200" y="4384800"/>
            <a:ext cx="81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b. van inwerkend zuur op materiaal of lichaamsdeel. Voor bijtende middel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0520" y="510552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ploffende bom”. Voor explosiev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8720" y="589752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aarlijk voor het mili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iketinfor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erkna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oelatingsnumm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rd van het prepara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zame 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ha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houd van de verp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aarschuwingszi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ligheidsaanbev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18456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wettelijk gebruiksvoorschrif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schadelijke organis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gewas of gewasgro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- of verzorgingssitu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omgeving waar de teelt plaatsvin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tijdstip van bestrij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lle andere toepassingen zijn verbod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veiligheidsterm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ijd tussen de laatste toepassing en de oog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is afhankelijk van de afbraaksnel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fvoeren van restanten en verpakk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 mogelijkhed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rug naar de leveranci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aar KCA-depo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drijfsafv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e STORL aanduiding geeft hierover inform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564000" y="4552920"/>
            <a:ext cx="3960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 oefening etiketle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32320" y="306864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454c6"/>
                </a:solidFill>
                <a:uFillTx/>
                <a:latin typeface="Arial"/>
                <a:hlinkClick r:id="rId1"/>
              </a:rPr>
              <a:t>klik hier voor een voorbe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stentie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felijk overdraagba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in blokk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ever niet me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maatregelen en bedrijfshygië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tige 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eringen en spuitinterva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anmaken van de spuitvloeist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etiket lez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oeveelheid middel bereken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persoonlijke beschermingsmiddelen aandoen/aanbren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apparatuur/toedieningsapparatuur klaarmak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iddel klaarmaken voor gebrui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ustreini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antwoord opruimen van de verpakking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edienen midd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restant verantwoord afvoer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choonmaken van apparatuur en beschermingsmiddel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braak van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acteriën, zonlicht, microorganismen, chemische reac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braaksnelheid aangeduid met DT-50 waarde = halfwaardetijd in 30 da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T-waarde van meer dan 60 dagen = een moeilijk afbreekbaar product =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mt op plaatsen terecht zoals grond- en regen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nstell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rkzame stof (W.S. of A.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verpakking aangegeven als percent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ak vaste stoffen of olieachtige 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oit als pure stof in verband met allerlei bezwa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vorm waarin de stof is gebracht is de “formulerin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uit bestaan de middele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plos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raagstof of vul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pergeermiddel (de w.s. blijft zwev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mulgator (het w.s. blijft gemeng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Uitvloe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ch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nti-schuimmidd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eur- en geur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spergeer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22878" t="18276" r="27257" b="8480"/>
          <a:stretch/>
        </p:blipFill>
        <p:spPr>
          <a:xfrm>
            <a:off x="1258920" y="1768320"/>
            <a:ext cx="597708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formuler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korr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low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ngbare olië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aterige oploss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uif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ranul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rooi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ok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asnevelformuler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eroso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124000" y="4307040"/>
            <a:ext cx="2808360" cy="2550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4836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751280" y="5200560"/>
            <a:ext cx="4392720" cy="1657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840360" y="0"/>
            <a:ext cx="2303640" cy="2736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846160" y="6093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itk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0" y="2421000"/>
            <a:ext cx="2149560" cy="443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2195640" y="1773360"/>
            <a:ext cx="2065320" cy="2305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422160" y="220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ul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77080" y="2924280"/>
            <a:ext cx="129528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914400" cy="64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4716360" y="1628640"/>
            <a:ext cx="2087640" cy="1729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162320" y="3357720"/>
            <a:ext cx="4981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waterige oplo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2:58:26Z</dcterms:created>
  <dc:creator>Peter</dc:creator>
  <dc:description/>
  <dc:language>en-US</dc:language>
  <cp:lastModifiedBy>Administrator</cp:lastModifiedBy>
  <dcterms:modified xsi:type="dcterms:W3CDTF">2009-12-28T17:39:34Z</dcterms:modified>
  <cp:revision>7</cp:revision>
  <dc:subject/>
  <dc:title>Gewasbescherming</dc:title>
</cp:coreProperties>
</file>