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F93-E863-4026-B790-5B257521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592-7E6E-4B6C-ADCE-E592C6CC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1C1-60C8-4357-B4FB-76A942E6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42E-D433-4F23-9FE7-3FB36981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C6172-003C-4023-9A36-888F9053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CAA94-7613-44A8-A3C0-2C6E3EBB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07079-A180-4771-800B-FD584C42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79BB4-F6F2-4ABF-AB2B-0CBD101F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EA9E2-9CA3-4BB2-A858-44DD3390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DA0D6-0112-40C3-A73A-D90AE0BE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BC971-E74E-4901-A94A-69382FC5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0FB-EF50-4751-A656-DCAAF1AC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F532A-1DAB-454E-BBD1-40408D44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79A91-52A2-4308-863C-13FB6873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465A5-ABBA-4E99-AE52-EB586AC5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8D2D7-1728-4C5C-86F9-313A0703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B25E9-4EBE-4C8D-9C8C-195DB4F5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8B70-696E-407A-9201-F86BA73C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519-DB40-4139-BF81-153D53E9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BF3-8908-4307-AD1C-FBCFB680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DB7-2501-4DF0-9348-5EEC6CA9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569-48DF-4278-B716-EBA1F1EF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990F-8C3C-4689-97F8-097127B3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88B-8400-461F-BBB8-4E1D4C6B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4DD2-D6CE-48FA-8313-C0172A4A1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A200-2D0F-44BE-B8A2-44878553CB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grodyn.org/Gewasbeschermingsplan/2009/Gewasbeschermingsplan%202009-grasland.pdf" TargetMode="External"/><Relationship Id="rId3" Type="http://schemas.openxmlformats.org/officeDocument/2006/relationships/hyperlink" Target="http://www.clm.nl/publicaties/data/gewaslogboek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m.nl/publicaties/data/gewaslogboek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ewasbeschermings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or iedere toepas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ppenplan in 3 del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vragen ter voorbereiding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het opstellen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et invullen van het logb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1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teelten, dat is bij een golfba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tee, fairway, green en zelfs de 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ter deze samen te voegen tot de b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ewasbeschermingsstrategie is overeenkoms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de vragen (2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ziekten, plagen en onkruiden zijn in de eigen baan van bel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belasting van het milieu kan voorkomen? Oppervlaktewater? Grondwat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zijn de jaarlijkse kost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arbo zaken zijn voor het personeel van bela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 effect kun je verwachten op natuurlijke vijand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ke maatregelen heb je het afgelopen jaar genom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was daarvan het effe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 heb je hiervoor gekoz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zou je nog meer of anders hebben kunnen do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2;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het plan opstell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wnload ëen invulformuli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agrodyn.org/Gewasbeschermingsplan/2009/Gewasbeschermingsplan%202009-grasland.pdf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ul de relevante delen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a dieper in op de belangrijke proble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3; het logbo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n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e ook de site van CLM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37:29Z</dcterms:created>
  <dc:creator>default</dc:creator>
  <dc:description/>
  <dc:language>en-US</dc:language>
  <cp:lastModifiedBy>default</cp:lastModifiedBy>
  <dcterms:modified xsi:type="dcterms:W3CDTF">2009-02-03T11:04:39Z</dcterms:modified>
  <cp:revision>2</cp:revision>
  <dc:subject/>
  <dc:title>Gewasbeschermingsplan</dc:title>
</cp:coreProperties>
</file>