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793-45DB-46CF-A04B-47C68DC9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5EE-AA29-4526-B8F0-DCDAA4CA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C19-48EA-4EA9-9446-220EC143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93D-5174-41E4-A55F-90839907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307-F108-49FC-BB24-DAC389C2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1A5-49CB-4AF6-B19A-17589956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1F2-AFAC-4552-84A7-1DDA1D4B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055-DB7E-47DE-B095-C18CCA26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66D-AE5D-486F-A887-3D750D73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033-7265-4643-89DF-4B0EB93B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BAA-CD34-40C0-853F-90BDEA31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84F-7B31-4A83-B118-557BC7D0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1822-1E6D-4249-9BA4-0010B33A0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48:57Z</dcterms:created>
  <dc:creator>Peter</dc:creator>
  <dc:description/>
  <dc:language>en-US</dc:language>
  <cp:lastModifiedBy>Administrator</cp:lastModifiedBy>
  <dcterms:modified xsi:type="dcterms:W3CDTF">2009-12-28T17:53:48Z</dcterms:modified>
  <cp:revision>7</cp:revision>
  <dc:subject/>
  <dc:title>Berekeningen</dc:title>
</cp:coreProperties>
</file>