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BDA-4574-4457-9A55-1253DB80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FA5-5B08-4AA6-B071-69683193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900-2125-4356-96DE-0EFD0E7B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D86-8942-467D-86F2-6FE9D529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064-2D6B-4E9C-BBE6-0C1A086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5F1-5962-441A-9C94-14341DB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06E-F984-4DB3-844A-4F39053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12D-5232-4440-9BB3-104D923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44C-D47F-4BEF-8EB2-272E7DD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EAB-E1B0-43C0-8477-9151EFD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4B3-5E0C-4F46-95D7-45FB8D3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2DA-A478-4BB6-BF0D-7757EA4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B2F8-E58E-4BC1-8751-3AC3B16E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isioning.ontwikkelcentrum.nl/Default.aspx?id=OC-32027d&amp;format=html&amp;mode=single" TargetMode="External"/><Relationship Id="rId2" Type="http://schemas.openxmlformats.org/officeDocument/2006/relationships/hyperlink" Target="http://provisioning.ontwikkelcentrum.nl/Default.aspx?id=OC-32027d&amp;format=html&amp;mode=single" TargetMode="External"/><Relationship Id="rId3" Type="http://schemas.openxmlformats.org/officeDocument/2006/relationships/hyperlink" Target="http://provisioning.ontwikkelcentrum.nl/Default.aspx?id=OC-32027d&amp;format=html&amp;mode=singl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stij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introductie aflevering van Het Klokhuis; `Grafisch ontwerp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je doel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win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st + afbe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cht/ eenvoud/ samen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4000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65564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234800" cy="72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1346040"/>
            <a:ext cx="1439640" cy="67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4797360"/>
            <a:ext cx="13492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03640" y="549360"/>
            <a:ext cx="10861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19640" y="2205000"/>
            <a:ext cx="1809720" cy="170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7164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00000" y="2421000"/>
            <a:ext cx="2016360" cy="19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86728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 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ur, lettertype; doelgroep/ prijs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7956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0160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513080" cy="12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1728720" cy="131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16720" y="304632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948360" y="371628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003640" y="486900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300720" y="5013360"/>
            <a:ext cx="18734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584360" cy="7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219640" y="1844640"/>
            <a:ext cx="1871640" cy="182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651640" y="3946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42920" y="4941720"/>
            <a:ext cx="13431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211640" y="501336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 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C 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sstijl intypen en aggregatieniveau; leereenheid ki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stellen plan voor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ual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delen; huisstijl, invloed van kleur en typografie, pr en signs, le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m voor volgende week het kaartje van je BPV-adres mee. Schrijf op de achterkant wat voor type winkel he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22:45Z</dcterms:created>
  <dc:creator>Anne-Christine van doesburg</dc:creator>
  <dc:description/>
  <dc:language>en-US</dc:language>
  <cp:lastModifiedBy>Ed van den heuvel</cp:lastModifiedBy>
  <dcterms:modified xsi:type="dcterms:W3CDTF">2010-03-18T13:55:45Z</dcterms:modified>
  <cp:revision>2</cp:revision>
  <dc:subject/>
  <dc:title>Huisstijl</dc:title>
</cp:coreProperties>
</file>