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F6B0-8191-43A3-AAC7-894A05A6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B7C0-164D-41CF-A267-C70064F4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6641-8D2B-42AD-AF53-0FDC52D7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5B4E-253D-4B85-B532-B3B7F198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F5D-7352-4F15-BEBD-6D2B146D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6143-EDE7-43C7-B6EE-D5212E56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2C15-C22C-4FA4-BB3D-599A6A7C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2042-7C47-4391-851C-19FA4648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7584-E2A5-4BAE-962E-8555460D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999D-4F65-4D2D-B29D-3BC769F5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7141-D76B-46ED-9AAE-BA04CEEE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8D6A-559F-44F3-9EF1-7BF2F409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E2D0-C7DF-49E0-8DCB-3BBEDD429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rovisioning.ontwikkelcentrum.nl/Default.aspx?id=OC-32027d&amp;format=html&amp;mode=single" TargetMode="External"/><Relationship Id="rId2" Type="http://schemas.openxmlformats.org/officeDocument/2006/relationships/hyperlink" Target="http://provisioning.ontwikkelcentrum.nl/Default.aspx?id=OC-32027d&amp;format=html&amp;mode=single" TargetMode="External"/><Relationship Id="rId3" Type="http://schemas.openxmlformats.org/officeDocument/2006/relationships/hyperlink" Target="http://provisioning.ontwikkelcentrum.nl/Default.aspx?id=OC-32027d&amp;format=html&amp;mode=single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isstij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 introductie aflevering van Het Klokhuis; `Grafisch ontwerp`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palen van je doelgro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wink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`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st + afbee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j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cht/ eenvoud/ samenst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020000" y="836640"/>
            <a:ext cx="1400040" cy="647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76720" y="2637000"/>
            <a:ext cx="1655640" cy="1258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276720" y="404640"/>
            <a:ext cx="1234800" cy="725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276720" y="1346040"/>
            <a:ext cx="1439640" cy="677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924360" y="4797360"/>
            <a:ext cx="1349280" cy="2060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468360" y="4941720"/>
            <a:ext cx="1439640" cy="1212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1979640" y="4797360"/>
            <a:ext cx="1344600" cy="180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003640" y="549360"/>
            <a:ext cx="1086120" cy="1066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219640" y="2205000"/>
            <a:ext cx="1809720" cy="1706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971640" y="260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900000" y="2421000"/>
            <a:ext cx="2016360" cy="1969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5867280" y="4869000"/>
            <a:ext cx="165744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elden Logo`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eur, lettertype; doelgroep/ prijskl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58920" y="2779560"/>
            <a:ext cx="1800360" cy="90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2016000" cy="1028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492360" y="2997360"/>
            <a:ext cx="1513080" cy="1212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987640" y="4653000"/>
            <a:ext cx="1728720" cy="1311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6516720" y="304632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6948360" y="371628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5003640" y="4869000"/>
            <a:ext cx="866880" cy="866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300720" y="5013360"/>
            <a:ext cx="187344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1584360" cy="725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4360" y="3068640"/>
            <a:ext cx="1655640" cy="1000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203640" y="191628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059280" y="3357720"/>
            <a:ext cx="1333440" cy="1295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219640" y="1844640"/>
            <a:ext cx="1871640" cy="1820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5651640" y="39466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1042920" y="4941720"/>
            <a:ext cx="1343160" cy="524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4211640" y="5013360"/>
            <a:ext cx="10098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e E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a in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C M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sstijl intypen en aggregatieniveau; leereenheid kie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pstellen plan voor 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isual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merchand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delen; huisstijl, invloed van kleur en typografie, pr en signs, lez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m voor volgende week het kaartje van je BPV-adres mee. Schrijf op de achterkant wat voor type winkel he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4:22:45Z</dcterms:created>
  <dc:creator>Anne-Christine van doesburg</dc:creator>
  <dc:description/>
  <dc:language>en-US</dc:language>
  <cp:lastModifiedBy>Ed van den heuvel</cp:lastModifiedBy>
  <dcterms:modified xsi:type="dcterms:W3CDTF">2010-03-18T13:55:45Z</dcterms:modified>
  <cp:revision>2</cp:revision>
  <dc:subject/>
  <dc:title>Huisstijl</dc:title>
</cp:coreProperties>
</file>