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CB1-59FB-4745-A9BB-A5AF2600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5FF-A1BF-42D8-8D41-EA9F6636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F1E-F082-4DA4-8710-AF1E3CB6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CE9-3349-43E6-9395-C2926E14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CBE-0557-46E6-8A56-4E24DF69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38D-F546-498E-9459-3D01917C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ECF-316A-4661-91F6-C64CED2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D11-0D41-470A-8524-4E5E009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F28-C5B5-40A3-A0B3-7390B3E4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EE7-0DE8-4718-8645-937EFB84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D88-CC30-4361-BD6A-3C400B5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C29-29B1-4F2D-99E6-A9D8934F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052-8BBD-47B7-9B5C-4ECB810A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visioning.ontwikkelcentrum.nl/Default.aspx?id=OC-32027d&amp;format=html&amp;mode=single" TargetMode="External"/><Relationship Id="rId2" Type="http://schemas.openxmlformats.org/officeDocument/2006/relationships/hyperlink" Target="http://provisioning.ontwikkelcentrum.nl/Default.aspx?id=OC-32027d&amp;format=html&amp;mode=single" TargetMode="External"/><Relationship Id="rId3" Type="http://schemas.openxmlformats.org/officeDocument/2006/relationships/hyperlink" Target="http://provisioning.ontwikkelcentrum.nl/Default.aspx?id=OC-32027d&amp;format=html&amp;mode=single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stij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introductie aflevering van Het Klokhuis; `Grafisch ontwerp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je doel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win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st + afbe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cht/ eenvoud/ samen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4000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65564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234800" cy="72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1346040"/>
            <a:ext cx="1439640" cy="67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24360" y="4797360"/>
            <a:ext cx="13492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979640" y="479736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03640" y="549360"/>
            <a:ext cx="10861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19640" y="2205000"/>
            <a:ext cx="1809720" cy="170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7164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00000" y="2421000"/>
            <a:ext cx="2016360" cy="196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86728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 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ur, lettertype; doelgroep/ prijs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7956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0160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513080" cy="121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4653000"/>
            <a:ext cx="1728720" cy="131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16720" y="304632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948360" y="371628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003640" y="486900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300720" y="5013360"/>
            <a:ext cx="18734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584360" cy="725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219640" y="1844640"/>
            <a:ext cx="1871640" cy="182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651640" y="3946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042920" y="4941720"/>
            <a:ext cx="1343160" cy="52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211640" y="5013360"/>
            <a:ext cx="1009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 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C 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sstijl intypen en aggregatieniveau; leereenheid ki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stellen plan voor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sual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delen; huisstijl, invloed van kleur en typografie, pr en signs, le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m voor volgende week het kaartje van je BPV-adres mee. Schrijf op de achterkant wat voor type winkel he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22:45Z</dcterms:created>
  <dc:creator>Anne-Christine van doesburg</dc:creator>
  <dc:description/>
  <dc:language>en-US</dc:language>
  <cp:lastModifiedBy>Ed van den heuvel</cp:lastModifiedBy>
  <dcterms:modified xsi:type="dcterms:W3CDTF">2010-03-18T13:55:45Z</dcterms:modified>
  <cp:revision>2</cp:revision>
  <dc:subject/>
  <dc:title>Huisstijl</dc:title>
</cp:coreProperties>
</file>