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A195-7F83-4891-93F8-544C7453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C999-943C-4B24-AD69-2701999D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F948-9CA9-4DFC-B6F9-F6A50518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48DF-0383-4E26-ABCA-DC382B1D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0440-0034-4971-9F84-B5B0D56F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BDD9-4994-4892-AD02-65C652A0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9AE0-8DE2-4121-BA30-F3873169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CF4D-921C-4E52-8BF2-E75A1F8D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4EAF-E14E-43CD-8FCA-FF56EAB3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90E3-BF94-4B20-8CB0-0E93BF3F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E870-CEAC-4E60-936C-E3CFE735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0759-4D67-4C49-81FA-17F9E1F0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6F6D-615A-4398-A352-F336366C7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rovisioning.ontwikkelcentrum.nl/Default.aspx?id=OC-32027d&amp;format=html&amp;mode=single" TargetMode="External"/><Relationship Id="rId2" Type="http://schemas.openxmlformats.org/officeDocument/2006/relationships/hyperlink" Target="http://provisioning.ontwikkelcentrum.nl/Default.aspx?id=OC-32027d&amp;format=html&amp;mode=single" TargetMode="External"/><Relationship Id="rId3" Type="http://schemas.openxmlformats.org/officeDocument/2006/relationships/hyperlink" Target="http://provisioning.ontwikkelcentrum.nl/Default.aspx?id=OC-32027d&amp;format=html&amp;mode=single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isstij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 introductie aflevering van Het Klokhuis; `Grafisch ontwerp`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palen van je doelgro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wink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o`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st + afbee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j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cht/ eenvoud/ samenst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020000" y="836640"/>
            <a:ext cx="1400040" cy="647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76720" y="2637000"/>
            <a:ext cx="1655640" cy="1258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276720" y="404640"/>
            <a:ext cx="1234800" cy="725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276720" y="1346040"/>
            <a:ext cx="1439640" cy="677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924360" y="4797360"/>
            <a:ext cx="1349280" cy="2060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468360" y="4941720"/>
            <a:ext cx="1439640" cy="1212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1979640" y="4797360"/>
            <a:ext cx="1344600" cy="180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003640" y="549360"/>
            <a:ext cx="1086120" cy="1066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219640" y="2205000"/>
            <a:ext cx="1809720" cy="1706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971640" y="260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900000" y="2421000"/>
            <a:ext cx="2016360" cy="1969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5867280" y="4869000"/>
            <a:ext cx="165744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elden Logo`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eur, lettertype; doelgroep/ prijskl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58920" y="2779560"/>
            <a:ext cx="1800360" cy="90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2016000" cy="1028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492360" y="2997360"/>
            <a:ext cx="1513080" cy="1212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987640" y="4653000"/>
            <a:ext cx="1728720" cy="1311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6516720" y="304632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6948360" y="371628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5003640" y="4869000"/>
            <a:ext cx="866880" cy="866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300720" y="5013360"/>
            <a:ext cx="187344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1584360" cy="725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4360" y="3068640"/>
            <a:ext cx="1655640" cy="1000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203640" y="191628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059280" y="3357720"/>
            <a:ext cx="1333440" cy="1295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219640" y="1844640"/>
            <a:ext cx="1871640" cy="1820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5651640" y="39466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1042920" y="4941720"/>
            <a:ext cx="1343160" cy="524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4211640" y="5013360"/>
            <a:ext cx="10098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e E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a in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C M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sstijl intypen en aggregatieniveau; leereenheid kie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pstellen plan voor </a:t>
            </a: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isual</a:t>
            </a: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merchand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delen; huisstijl, invloed van kleur en typografie, pr en signs, lez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m voor volgende week het kaartje van je BPV-adres mee. Schrijf op de achterkant wat voor type winkel he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4:22:45Z</dcterms:created>
  <dc:creator>Anne-Christine van doesburg</dc:creator>
  <dc:description/>
  <dc:language>en-US</dc:language>
  <cp:lastModifiedBy>Ed van den heuvel</cp:lastModifiedBy>
  <dcterms:modified xsi:type="dcterms:W3CDTF">2010-03-18T13:55:45Z</dcterms:modified>
  <cp:revision>2</cp:revision>
  <dc:subject/>
  <dc:title>Huisstijl</dc:title>
</cp:coreProperties>
</file>