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6A7F3-4D8E-48F2-A33A-141880719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1580E-0B9D-426C-8270-50537DA7C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162CE-595F-4648-B02A-2CD3DAD38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B86B8-C18D-453C-A1DB-7035BC7E5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5F926-DD39-410B-8327-4C86CF4CE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F8728-D627-4E09-A184-2821F720F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8715D-F943-4C62-9A4E-E2E653877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92020-480E-46B4-9AB6-5828F8C4B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3D4C5-793C-4C9B-AB7A-D58A5226D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37110-8C1E-4242-BD39-46F3571A8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4F4A4-03CE-4909-9503-E8B1A0162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ABC59-97CF-4041-A35D-76CDB334F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4203D-54AA-4229-BC87-9CBF91EB20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image" Target="../media/image11.jpeg"/><Relationship Id="rId12" Type="http://schemas.openxmlformats.org/officeDocument/2006/relationships/image" Target="../media/image12.jpeg"/><Relationship Id="rId1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image" Target="../media/image19.jpeg"/><Relationship Id="rId8" Type="http://schemas.openxmlformats.org/officeDocument/2006/relationships/image" Target="../media/image20.jpeg"/><Relationship Id="rId9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image" Target="../media/image26.jpeg"/><Relationship Id="rId7" Type="http://schemas.openxmlformats.org/officeDocument/2006/relationships/image" Target="../media/image27.jpeg"/><Relationship Id="rId8" Type="http://schemas.openxmlformats.org/officeDocument/2006/relationships/image" Target="../media/image28.jpeg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provisioning.ontwikkelcentrum.nl/Default.aspx?id=OC-32027d&amp;format=html&amp;mode=single" TargetMode="External"/><Relationship Id="rId2" Type="http://schemas.openxmlformats.org/officeDocument/2006/relationships/hyperlink" Target="http://provisioning.ontwikkelcentrum.nl/Default.aspx?id=OC-32027d&amp;format=html&amp;mode=single" TargetMode="External"/><Relationship Id="rId3" Type="http://schemas.openxmlformats.org/officeDocument/2006/relationships/hyperlink" Target="http://provisioning.ontwikkelcentrum.nl/Default.aspx?id=OC-32027d&amp;format=html&amp;mode=single" TargetMode="External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uisstij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s introductie aflevering van Het Klokhuis; `Grafisch ontwerp`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palen van je doelgroe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e wink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go`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nmerke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le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tterty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kst + afbeel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j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racht/ eenvoud/ samenstel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7020000" y="836640"/>
            <a:ext cx="1400040" cy="6476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3276720" y="2637000"/>
            <a:ext cx="1655640" cy="12585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3276720" y="404640"/>
            <a:ext cx="1234800" cy="7257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3276720" y="1346040"/>
            <a:ext cx="1439640" cy="6778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5"/>
          <a:stretch/>
        </p:blipFill>
        <p:spPr>
          <a:xfrm>
            <a:off x="3924360" y="4797360"/>
            <a:ext cx="1349280" cy="2060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6"/>
          <a:stretch/>
        </p:blipFill>
        <p:spPr>
          <a:xfrm>
            <a:off x="468360" y="4941720"/>
            <a:ext cx="1439640" cy="12128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7"/>
          <a:stretch/>
        </p:blipFill>
        <p:spPr>
          <a:xfrm>
            <a:off x="1979640" y="4797360"/>
            <a:ext cx="1344600" cy="18003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8"/>
          <a:stretch/>
        </p:blipFill>
        <p:spPr>
          <a:xfrm>
            <a:off x="5003640" y="549360"/>
            <a:ext cx="1086120" cy="10666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9"/>
          <a:stretch/>
        </p:blipFill>
        <p:spPr>
          <a:xfrm>
            <a:off x="5219640" y="2205000"/>
            <a:ext cx="1809720" cy="17067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10"/>
          <a:stretch/>
        </p:blipFill>
        <p:spPr>
          <a:xfrm>
            <a:off x="971640" y="2602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11"/>
          <a:stretch/>
        </p:blipFill>
        <p:spPr>
          <a:xfrm>
            <a:off x="900000" y="2421000"/>
            <a:ext cx="2016360" cy="19699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12"/>
          <a:stretch/>
        </p:blipFill>
        <p:spPr>
          <a:xfrm>
            <a:off x="5867280" y="4869000"/>
            <a:ext cx="1657440" cy="165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oorbeelden Logo`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leur, lettertype; doelgroep/ prijsklas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258920" y="2779560"/>
            <a:ext cx="1800360" cy="900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468360" y="4076640"/>
            <a:ext cx="2016000" cy="10288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492360" y="2997360"/>
            <a:ext cx="1513080" cy="12128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987640" y="4653000"/>
            <a:ext cx="1728720" cy="13111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6516720" y="3046320"/>
            <a:ext cx="1871640" cy="4953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6"/>
          <a:stretch/>
        </p:blipFill>
        <p:spPr>
          <a:xfrm>
            <a:off x="6948360" y="3716280"/>
            <a:ext cx="914400" cy="8096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7"/>
          <a:stretch/>
        </p:blipFill>
        <p:spPr>
          <a:xfrm>
            <a:off x="5003640" y="4869000"/>
            <a:ext cx="866880" cy="8665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300720" y="5013360"/>
            <a:ext cx="1873440" cy="52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539640" y="1916280"/>
            <a:ext cx="1584360" cy="7254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84360" y="3068640"/>
            <a:ext cx="1655640" cy="10000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3203640" y="1916280"/>
            <a:ext cx="990360" cy="9903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3059280" y="3357720"/>
            <a:ext cx="1333440" cy="12952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5"/>
          <a:stretch/>
        </p:blipFill>
        <p:spPr>
          <a:xfrm>
            <a:off x="5219640" y="1844640"/>
            <a:ext cx="1871640" cy="18208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6"/>
          <a:stretch/>
        </p:blipFill>
        <p:spPr>
          <a:xfrm>
            <a:off x="5651640" y="3946680"/>
            <a:ext cx="1728720" cy="17287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7"/>
          <a:stretch/>
        </p:blipFill>
        <p:spPr>
          <a:xfrm>
            <a:off x="1042920" y="4941720"/>
            <a:ext cx="1343160" cy="52416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8"/>
          <a:stretch/>
        </p:blipFill>
        <p:spPr>
          <a:xfrm>
            <a:off x="4211640" y="5013360"/>
            <a:ext cx="100980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formatie EC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ia intra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CC MB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uisstijl intypen en aggregatieniveau; leereenheid kiez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Opstellen plan voor </a:t>
            </a:r>
            <a:r>
              <a:rPr b="0" lang="nl-NL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visual</a:t>
            </a:r>
            <a:r>
              <a:rPr b="0" lang="nl-NL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 merchandi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nderdelen; huisstijl, invloed van kleur en typografie, pr en signs, lez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uiswe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eem voor volgende week het kaartje van je BPV-adres mee. Schrijf op de achterkant wat voor type winkel het 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2T14:22:45Z</dcterms:created>
  <dc:creator>Anne-Christine van doesburg</dc:creator>
  <dc:description/>
  <dc:language>en-US</dc:language>
  <cp:lastModifiedBy>Ed van den heuvel</cp:lastModifiedBy>
  <dcterms:modified xsi:type="dcterms:W3CDTF">2010-03-18T13:55:45Z</dcterms:modified>
  <cp:revision>2</cp:revision>
  <dc:subject/>
  <dc:title>Huisstijl</dc:title>
</cp:coreProperties>
</file>