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952F-04FF-4821-8FD7-B2DF2E8F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D40C-6E5A-469E-B91E-619DC5C7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2862-3809-45FF-B4AA-D280143B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9C4A-F69D-43FC-B827-71FC1019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EF9-32C9-4437-ACF9-E3B7CE39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432D-5CF7-4F28-9028-58ADCA34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164-3756-4CD5-92A8-FAE7D4F4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17BC-3707-4FDF-AF94-1B77AB2F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D72D-7D1C-4BFE-812C-DC372878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F428-994B-47D7-B0A0-ED9D53A1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F9F8-CBCC-42CB-BE76-B78967C2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6EAE-6386-476D-A782-CEB5CD68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E07A-5CAA-4DDC-84DC-62A20C101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00680" y="1125360"/>
            <a:ext cx="3205440" cy="4538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32160" y="1125360"/>
            <a:ext cx="3205080" cy="453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40" y="1125360"/>
            <a:ext cx="3205080" cy="453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0160" y="57340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19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5734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4052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40880" y="2276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4:54:09Z</dcterms:created>
  <dc:creator>vliet002</dc:creator>
  <dc:description/>
  <dc:language>en-US</dc:language>
  <cp:lastModifiedBy>vliet002</cp:lastModifiedBy>
  <dcterms:modified xsi:type="dcterms:W3CDTF">2009-11-30T14:59:52Z</dcterms:modified>
  <cp:revision>1</cp:revision>
  <dc:subject/>
  <dc:title>Slide 1</dc:title>
</cp:coreProperties>
</file>