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AF4-07D8-48E3-BE05-A8536664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9817-A31F-4A87-A69B-4C369812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71B2-BA14-4108-BF10-F1972F75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91A-1AF7-421A-A462-143DD4E5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AB6-BBBA-4146-A5BD-E443E95E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BE7B-A3F0-457E-83F3-D79A9FE0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36E1-509A-4940-A59F-63877DF6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7865-68CC-40E0-932B-207CEB94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C10-2B1D-46B1-8FE6-F9DEE698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6942-0611-4E64-82E5-9F05F4D6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9D78-9B58-4CE1-B753-D16D94C3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23D0-1D4A-4E21-917D-F4BA7D6A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B27D-5C25-46AA-A5BC-A1972D616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00680" y="1125360"/>
            <a:ext cx="3205440" cy="4538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32160" y="1125360"/>
            <a:ext cx="3205080" cy="453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40" y="1125360"/>
            <a:ext cx="3205080" cy="453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0160" y="57340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19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5734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4052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40880" y="2276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4:54:09Z</dcterms:created>
  <dc:creator>vliet002</dc:creator>
  <dc:description/>
  <dc:language>en-US</dc:language>
  <cp:lastModifiedBy>vliet002</cp:lastModifiedBy>
  <dcterms:modified xsi:type="dcterms:W3CDTF">2009-11-30T14:59:52Z</dcterms:modified>
  <cp:revision>1</cp:revision>
  <dc:subject/>
  <dc:title>Slide 1</dc:title>
</cp:coreProperties>
</file>