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690-0F48-46BD-B808-A0A8C891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A7C-A4CB-4642-863D-99809B80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0D1-8630-4F67-8E62-B928B381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61F-A942-4054-82A5-A6676637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7BA9-A104-46E9-8DA9-B14B1EF8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2AB-EB5C-49EB-8233-0A32F298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D9D-B7DF-4FEB-879B-8B8BAFA9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FC2-63B6-49C6-978D-7E672FCD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D42-A8BA-4ACA-BC39-3FBD3EB9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902-9456-45E5-BC1B-539443DC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05A-2E37-4056-A894-8FD68C89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3B37-95C1-4FAD-8012-C8E1329B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0671-363B-46ED-9AE8-AAF48462B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0680" y="1125360"/>
            <a:ext cx="3205440" cy="4538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332160" y="1125360"/>
            <a:ext cx="3205080" cy="453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1125360"/>
            <a:ext cx="3205080" cy="4538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0160" y="57340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5734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40520" y="5877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40880" y="2276640"/>
            <a:ext cx="360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4:54:09Z</dcterms:created>
  <dc:creator>vliet002</dc:creator>
  <dc:description/>
  <dc:language>en-US</dc:language>
  <cp:lastModifiedBy>vliet002</cp:lastModifiedBy>
  <dcterms:modified xsi:type="dcterms:W3CDTF">2009-11-30T14:59:52Z</dcterms:modified>
  <cp:revision>1</cp:revision>
  <dc:subject/>
  <dc:title>Slide 1</dc:title>
</cp:coreProperties>
</file>