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E538-4653-436D-976F-4FFF435EA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E471-9281-40CB-B79B-46A2D402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D5F8-D43A-43C2-8A34-FCA3F5479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D72B-F556-473D-8CFA-F1331401B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16EE-549B-4ED1-B188-4FE8B310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90BA-94DF-4441-8071-8DDB33EE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FFA2-EB29-4EE7-94F0-DEC812BB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B8EA-9CF8-410C-ABCF-D3A87E4F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0C23-D4F1-4BD7-BE92-A6FE95C1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94C1-AAAA-4984-BD57-39E4AAA9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AA6D-66C1-470A-8ACE-24BAF70D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0ADF-02A1-4586-AACE-C1967409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A9F6-D138-42D4-9255-BDE05123D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700680" y="1125360"/>
            <a:ext cx="3205440" cy="45388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332160" y="1125360"/>
            <a:ext cx="3205080" cy="4538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-15840" y="1125360"/>
            <a:ext cx="3205080" cy="4538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00160" y="573408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ebuchet MS"/>
              </a:rPr>
              <a:t>19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573408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ebuchet MS"/>
              </a:rPr>
              <a:t>20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40520" y="5877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ebuchet MS"/>
              </a:rPr>
              <a:t>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840880" y="2276640"/>
            <a:ext cx="360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4:54:09Z</dcterms:created>
  <dc:creator>vliet002</dc:creator>
  <dc:description/>
  <dc:language>en-US</dc:language>
  <cp:lastModifiedBy>vliet002</cp:lastModifiedBy>
  <dcterms:modified xsi:type="dcterms:W3CDTF">2009-11-30T14:59:52Z</dcterms:modified>
  <cp:revision>1</cp:revision>
  <dc:subject/>
  <dc:title>Slide 1</dc:title>
</cp:coreProperties>
</file>