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EB9-BA38-4BD2-9842-AA6DE236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FBE-A4CE-47A0-BCB9-689D9459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9E8-94AB-4578-BC12-3DC4CB35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226-3633-468C-98D0-7AA28E72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052-C3A0-4663-860E-C7AB5306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9AD-9E0D-4B39-A14E-87A536F8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A02-3D30-4CB5-9DEF-E4B8D940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529-8CA6-4C09-850E-C6394413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2B6-5D9C-4A3B-8782-DFD2D450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BE6-EBE9-4B1E-A827-1479A29F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0BF-E822-4578-9EE9-88D3132A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5BF-FF34-42C5-BA93-7E820C08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724E-C28B-46AA-8F18-3914BD462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0680" y="1125360"/>
            <a:ext cx="3205440" cy="4538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32160" y="1125360"/>
            <a:ext cx="3205080" cy="453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40" y="1125360"/>
            <a:ext cx="3205080" cy="45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0160" y="5734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4052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40880" y="2276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54:09Z</dcterms:created>
  <dc:creator>vliet002</dc:creator>
  <dc:description/>
  <dc:language>en-US</dc:language>
  <cp:lastModifiedBy>vliet002</cp:lastModifiedBy>
  <dcterms:modified xsi:type="dcterms:W3CDTF">2009-11-30T14:59:52Z</dcterms:modified>
  <cp:revision>1</cp:revision>
  <dc:subject/>
  <dc:title>Slide 1</dc:title>
</cp:coreProperties>
</file>