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7FFE-8438-45C1-ACFF-7171C90A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0F69-9B8E-47BF-971F-20CFF9AC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EF1D-7FDB-4DEF-88EF-F89ADE7A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FA08-8112-41E3-9D9C-72C0378F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1F5B-6039-46CE-B7FC-3CB78929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DE5B-4BCE-4748-BD9D-03C42A95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F258-9D52-40A8-91F3-998AAA23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9581-0BE1-43F0-B9F7-1112AF54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0ED7-2FF1-43D4-BB61-ABED619C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62DD-EF1C-43D9-8223-7574712B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8E20-C7C4-42F6-9020-7BDA705F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51CF-393C-4C4B-9EA6-D01D8259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57BB-C80B-48D4-A2EA-83EBCC8C7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00680" y="1125360"/>
            <a:ext cx="3205440" cy="4538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32160" y="1125360"/>
            <a:ext cx="3205080" cy="4538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5840" y="1125360"/>
            <a:ext cx="3205080" cy="4538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00160" y="57340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19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5734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4052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840880" y="2276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4:54:09Z</dcterms:created>
  <dc:creator>vliet002</dc:creator>
  <dc:description/>
  <dc:language>en-US</dc:language>
  <cp:lastModifiedBy>vliet002</cp:lastModifiedBy>
  <dcterms:modified xsi:type="dcterms:W3CDTF">2009-11-30T14:59:52Z</dcterms:modified>
  <cp:revision>1</cp:revision>
  <dc:subject/>
  <dc:title>Slide 1</dc:title>
</cp:coreProperties>
</file>