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C80-BFE5-44DC-8089-5BBB966A5F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5AF3-3DAF-4BA3-9E27-E34E6C5B4B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106B-18DB-4034-971E-1FDFA489865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3333-C973-4D4B-971D-1FD33E6D39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95C4-BDF7-4199-896A-B9D98332F31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17A2-85C8-4D5E-991C-24A1CDBB69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BA71-D208-43B8-AF98-5836079859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53D2-5B27-434B-B2E9-D5CBDDAFD4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8139-4F96-44D1-8582-69DE555CCB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43B7-A790-40F8-ACEF-10D2EAF27B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D54-D11E-46A4-B757-C8C32B4136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3852-19F9-4ADF-89B1-D1C1CAECD8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4ED8-0748-48F2-AA2B-DF864E509C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BC5-29F8-499B-809C-92B14AD4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225-F888-4A21-8691-CBDE5B1C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AEC-E9C9-4CA0-AB83-21682D3B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609-413F-401A-B47F-AB5DA205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F42-6EF8-43BE-95FF-461CCDCB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BEE-FCA8-4ED8-9C56-12AB0139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9FC-F0A5-4D8E-A8A0-4A4712C9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74D-67DC-44C7-B6C7-FE4A3F6B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6B4-D84C-4A41-9F15-DEFD14A4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EEC-F892-4C42-B4FB-242FB01C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022-EECC-426F-BD83-EDDEB6C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DC7-8D68-47B8-889F-8917531A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11C9-596E-4CF6-83D1-6F3C27467C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92720" y="3573360"/>
            <a:ext cx="329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omt niet zo veel voor. Nog wel als vijverrandafwerking. Lood is giftig voor vi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fbeelding 1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456408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fbeelding 1" descr=""/>
          <p:cNvPicPr/>
          <p:nvPr/>
        </p:nvPicPr>
        <p:blipFill>
          <a:blip r:embed="rId1"/>
          <a:srcRect l="16338" t="0" r="18991" b="13385"/>
          <a:stretch/>
        </p:blipFill>
        <p:spPr>
          <a:xfrm>
            <a:off x="468360" y="2292480"/>
            <a:ext cx="3240000" cy="3254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541840" y="183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4" descr=""/>
          <p:cNvPicPr/>
          <p:nvPr/>
        </p:nvPicPr>
        <p:blipFill>
          <a:blip r:embed="rId2"/>
          <a:stretch/>
        </p:blipFill>
        <p:spPr>
          <a:xfrm>
            <a:off x="4572000" y="2292480"/>
            <a:ext cx="3760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escherming (ferro)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03640" y="27082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kken en ver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03640" y="3860640"/>
            <a:ext cx="294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lvaniseren/verzi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3203640" y="3284640"/>
            <a:ext cx="28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lastificeren of co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6" descr="Hammerite%20-%20metaallakhoogglans"/>
          <p:cNvPicPr/>
          <p:nvPr/>
        </p:nvPicPr>
        <p:blipFill>
          <a:blip r:embed="rId1"/>
          <a:stretch/>
        </p:blipFill>
        <p:spPr>
          <a:xfrm>
            <a:off x="260280" y="1633680"/>
            <a:ext cx="2695680" cy="26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33320100"/>
          <p:cNvPicPr/>
          <p:nvPr/>
        </p:nvPicPr>
        <p:blipFill>
          <a:blip r:embed="rId2"/>
          <a:srcRect l="34776" t="16316" r="8714" b="5449"/>
          <a:stretch/>
        </p:blipFill>
        <p:spPr>
          <a:xfrm>
            <a:off x="6586560" y="177336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Verzinken01"/>
          <p:cNvPicPr/>
          <p:nvPr/>
        </p:nvPicPr>
        <p:blipFill>
          <a:blip r:embed="rId3"/>
          <a:stretch/>
        </p:blipFill>
        <p:spPr>
          <a:xfrm>
            <a:off x="177840" y="4437000"/>
            <a:ext cx="3025800" cy="2270160"/>
          </a:xfrm>
          <a:prstGeom prst="rect">
            <a:avLst/>
          </a:prstGeom>
          <a:ln w="0">
            <a:noFill/>
          </a:ln>
        </p:spPr>
      </p:pic>
      <p:pic>
        <p:nvPicPr>
          <p:cNvPr id="113" name="Afbeelding 1" descr=""/>
          <p:cNvPicPr/>
          <p:nvPr/>
        </p:nvPicPr>
        <p:blipFill>
          <a:blip r:embed="rId4"/>
          <a:stretch/>
        </p:blipFill>
        <p:spPr>
          <a:xfrm>
            <a:off x="6229440" y="4457880"/>
            <a:ext cx="22716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89040" y="1951200"/>
            <a:ext cx="77724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10htil40"/>
          <p:cNvPicPr/>
          <p:nvPr/>
        </p:nvPicPr>
        <p:blipFill>
          <a:blip r:embed="rId1"/>
          <a:stretch/>
        </p:blipFill>
        <p:spPr>
          <a:xfrm>
            <a:off x="468360" y="2492280"/>
            <a:ext cx="6192720" cy="3767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erro-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16286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Jzererts (IJzerox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716360" y="155736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oolstof haalt de zuurstof uit de ver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3419640" y="1989000"/>
            <a:ext cx="1296720" cy="201636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826560" y="2133720"/>
            <a:ext cx="576360" cy="23032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43280" y="17733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rwerking t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0" y="479736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eedijzer (taai maar minder ste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43280" y="234936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ietijzer (sterk maar 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676520" y="9907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 flipH="1">
            <a:off x="3581280" y="2590920"/>
            <a:ext cx="936720" cy="936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3504960" y="5029200"/>
            <a:ext cx="93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8" descr="casting_iron07"/>
          <p:cNvPicPr/>
          <p:nvPr/>
        </p:nvPicPr>
        <p:blipFill>
          <a:blip r:embed="rId1"/>
          <a:stretch/>
        </p:blipFill>
        <p:spPr>
          <a:xfrm>
            <a:off x="395280" y="1341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Soroushwerktt11"/>
          <p:cNvPicPr/>
          <p:nvPr/>
        </p:nvPicPr>
        <p:blipFill>
          <a:blip r:embed="rId2"/>
          <a:stretch/>
        </p:blipFill>
        <p:spPr>
          <a:xfrm>
            <a:off x="395280" y="3860640"/>
            <a:ext cx="30542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132000" y="1700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rwerking t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03640" y="234936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al (sterk en taa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676520" y="9907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55640" y="342900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eedijzer &lt; 0,5%         Staal 0,5% en 2%           Gietijzer &gt;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13"/>
          <p:cNvSpPr/>
          <p:nvPr/>
        </p:nvSpPr>
        <p:spPr>
          <a:xfrm>
            <a:off x="826920" y="3213000"/>
            <a:ext cx="7129800" cy="576360"/>
          </a:xfrm>
          <a:custGeom>
            <a:avLst/>
            <a:gdLst>
              <a:gd name="textAreaLeft" fmla="*/ 0 w 7129800"/>
              <a:gd name="textAreaRight" fmla="*/ 7130160 w 71298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491" h="417">
                <a:moveTo>
                  <a:pt x="0" y="0"/>
                </a:moveTo>
                <a:lnTo>
                  <a:pt x="0" y="417"/>
                </a:lnTo>
                <a:lnTo>
                  <a:pt x="4491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900000" y="3279600"/>
            <a:ext cx="7128000" cy="582840"/>
          </a:xfrm>
          <a:custGeom>
            <a:avLst/>
            <a:gdLst>
              <a:gd name="textAreaLeft" fmla="*/ 0 w 7128000"/>
              <a:gd name="textAreaRight" fmla="*/ 7128360 w 712800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4082" h="367">
                <a:moveTo>
                  <a:pt x="0" y="366"/>
                </a:moveTo>
                <a:lnTo>
                  <a:pt x="4081" y="0"/>
                </a:lnTo>
                <a:lnTo>
                  <a:pt x="4082" y="367"/>
                </a:lnTo>
                <a:lnTo>
                  <a:pt x="0" y="36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971640" y="321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093080" y="3357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T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132000" y="1700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rwerking t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236232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VS (roestvast staal) = legering met chroom en nikk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572000" y="52578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Ten staal = legering met k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4" descr="http://www.rots-maatwerk.nl/upload/images/s3.jpg"/>
          <p:cNvPicPr/>
          <p:nvPr/>
        </p:nvPicPr>
        <p:blipFill>
          <a:blip r:embed="rId1"/>
          <a:stretch/>
        </p:blipFill>
        <p:spPr>
          <a:xfrm>
            <a:off x="838080" y="36576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2"/>
          <a:stretch/>
        </p:blipFill>
        <p:spPr>
          <a:xfrm>
            <a:off x="6553080" y="1523880"/>
            <a:ext cx="2381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4398840" y="49165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iet echt geschikt voor constructie, meer voor sier zoals bepl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fbeelding 1" descr=""/>
          <p:cNvPicPr/>
          <p:nvPr/>
        </p:nvPicPr>
        <p:blipFill>
          <a:blip r:embed="rId1"/>
          <a:stretch/>
        </p:blipFill>
        <p:spPr>
          <a:xfrm>
            <a:off x="4584600" y="2435400"/>
            <a:ext cx="3992760" cy="221760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"/>
          <p:cNvPicPr/>
          <p:nvPr/>
        </p:nvPicPr>
        <p:blipFill>
          <a:blip r:embed="rId2"/>
          <a:srcRect l="29211" t="15351" r="23889" b="40013"/>
          <a:stretch/>
        </p:blipFill>
        <p:spPr>
          <a:xfrm>
            <a:off x="324000" y="3645000"/>
            <a:ext cx="3922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Z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398840" y="49165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goten beplating maar vooral als bescherming (galvanize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fbeelding 6" descr=""/>
          <p:cNvPicPr/>
          <p:nvPr/>
        </p:nvPicPr>
        <p:blipFill>
          <a:blip r:embed="rId1"/>
          <a:srcRect l="6643" t="8180" r="38155" b="40028"/>
          <a:stretch/>
        </p:blipFill>
        <p:spPr>
          <a:xfrm>
            <a:off x="324000" y="3548160"/>
            <a:ext cx="3887640" cy="273672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8" descr=""/>
          <p:cNvPicPr/>
          <p:nvPr/>
        </p:nvPicPr>
        <p:blipFill>
          <a:blip r:embed="rId2"/>
          <a:stretch/>
        </p:blipFill>
        <p:spPr>
          <a:xfrm>
            <a:off x="4589640" y="1628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398840" y="49165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fab bouwkundige constru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2" descr=""/>
          <p:cNvPicPr/>
          <p:nvPr/>
        </p:nvPicPr>
        <p:blipFill>
          <a:blip r:embed="rId1"/>
          <a:stretch/>
        </p:blipFill>
        <p:spPr>
          <a:xfrm>
            <a:off x="3807000" y="1989000"/>
            <a:ext cx="504000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3" descr=""/>
          <p:cNvPicPr/>
          <p:nvPr/>
        </p:nvPicPr>
        <p:blipFill>
          <a:blip r:embed="rId2"/>
          <a:stretch/>
        </p:blipFill>
        <p:spPr>
          <a:xfrm>
            <a:off x="128520" y="2527200"/>
            <a:ext cx="4265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08:01:38Z</dcterms:created>
  <dc:creator>M. v. Engeland</dc:creator>
  <dc:description/>
  <dc:language>en-US</dc:language>
  <cp:lastModifiedBy>Maurice van Bijnen</cp:lastModifiedBy>
  <dcterms:modified xsi:type="dcterms:W3CDTF">2023-10-15T07:11:34Z</dcterms:modified>
  <cp:revision>33</cp:revision>
  <dc:subject/>
  <dc:title>Natuurs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413BA76AC0B944EAB06092F64590685</vt:lpwstr>
  </property>
</Properties>
</file>