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D47-B932-4599-8A3C-A4943948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8F8-28EA-4D3C-B039-6CB4E0DF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B54D-D201-4DE5-A883-3E47A23F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715-8AF1-436D-8740-8B6BBB9F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E73-13D7-4475-9568-8DB7AA75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A46-4285-4C74-AC4C-1A311ECC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99C-ACC1-4A78-8C8F-3FF6ABBD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7E43-4D4C-4BED-B6D5-02FC0582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EF5-A3FF-4D3A-A58A-31D64FAC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282-3124-43B2-A2D1-F91607D8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066-38B5-46C0-A31A-832D4168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B0E-3DBF-46C7-AB99-3C780131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4DFC-36C1-4DF3-A1A1-8319C1A716A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3"/>
          <p:cNvSpPr/>
          <p:nvPr/>
        </p:nvSpPr>
        <p:spPr>
          <a:xfrm>
            <a:off x="0" y="48769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oolbox graafcampag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3048120" y="533520"/>
            <a:ext cx="2943000" cy="4267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3"/>
          <p:cNvSpPr/>
          <p:nvPr/>
        </p:nvSpPr>
        <p:spPr>
          <a:xfrm>
            <a:off x="0" y="167652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kunnen gevolgen van graafschade zij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soonlijk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veiligheid en gezondheid machin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e schad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an kabels en leidingen: van krassen tot bre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olgschade door onderbreking 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mensen, maatschappij, economie, milieu / omgeving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0" y="9144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gedruk transportgasleiding van Gasunie heeft 8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uk: gevolg is dat de machine letterlijk de lucht in vli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bran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ril 2005: in Zuidbroek langs Winschoter Diep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leiding van Essent van 8 bar kapot bij dam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laan. Machinist gewond en graafmachine volle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itgebr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uli 2004: in Ghislenghein in België hogedruk gas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 dertig dodelijke slachtoffers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3"/>
          <p:cNvSpPr/>
          <p:nvPr/>
        </p:nvSpPr>
        <p:spPr>
          <a:xfrm>
            <a:off x="0" y="1600200"/>
            <a:ext cx="9144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veel is de schade in euro’s als gevolg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schade, voor bijvoorbeeld personenbedrijven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nkels, spoorwege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3"/>
          <p:cNvSpPr/>
          <p:nvPr/>
        </p:nvSpPr>
        <p:spPr>
          <a:xfrm>
            <a:off x="0" y="1066680"/>
            <a:ext cx="9144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4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bekend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orbeelden van ‘gevolgschade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Vrieskist met etenswaren ontdoo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Trein staat stil op r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Bedrijf zonder 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Wijk zonde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Stad 24 uur zonder stroom (gevolg: geboortegol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0" y="914400"/>
            <a:ext cx="91440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Opdra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zin zelf een aantal voorbeelden van gevolgen va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derbreking van stroom, gas, water, telefoon, tv-kabel,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"/>
          <p:cNvSpPr/>
          <p:nvPr/>
        </p:nvSpPr>
        <p:spPr>
          <a:xfrm>
            <a:off x="0" y="1295280"/>
            <a:ext cx="914400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ef veil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(lage dr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TV-k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uliere verbind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bijvoorbeeld tussen kantoorgebouw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3"/>
          <p:cNvSpPr/>
          <p:nvPr/>
        </p:nvSpPr>
        <p:spPr>
          <a:xfrm>
            <a:off x="0" y="129528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aarlijk voor machinist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; van lagedruk (1 bar) tot hogedruk (80 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ktriciteit; van huisaansluiting (220 V) tot 10 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andstof (olie/kerosine/naf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3"/>
          <p:cNvSpPr/>
          <p:nvPr/>
        </p:nvSpPr>
        <p:spPr>
          <a:xfrm>
            <a:off x="-228600" y="685800"/>
            <a:ext cx="93726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kmanschap, opleiding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orgvuldig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/ opzicht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ed samenspel b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zichter / uitvoerd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bestuder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Kloppen ze wel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Hoofd)aannemer/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werk melden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3"/>
          <p:cNvSpPr/>
          <p:nvPr/>
        </p:nvSpPr>
        <p:spPr>
          <a:xfrm>
            <a:off x="-457200" y="685800"/>
            <a:ext cx="93726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LIC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graafplek opvr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kabel- en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bel- leidingbeheerders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afdrukken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stu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drachtgev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et bij opdracht verstrekk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angeven dat er bij graafwerk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kening met kabels en leidin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dt ge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3"/>
          <a:stretch/>
        </p:blipFill>
        <p:spPr>
          <a:xfrm>
            <a:off x="2362320" y="2590920"/>
            <a:ext cx="4419360" cy="15793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"/>
          <p:cNvSpPr/>
          <p:nvPr/>
        </p:nvSpPr>
        <p:spPr>
          <a:xfrm>
            <a:off x="0" y="294804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kabel- en leidingschade en wat doet KL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"/>
          <p:cNvSpPr/>
          <p:nvPr/>
        </p:nvSpPr>
        <p:spPr>
          <a:xfrm>
            <a:off x="0" y="1752480"/>
            <a:ext cx="914400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ar staan de letters KLIC v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Klachten Inzake Code-deel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Kabel- en Leiding Informatie Commiss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266688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5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3"/>
          <p:cNvSpPr/>
          <p:nvPr/>
        </p:nvSpPr>
        <p:spPr>
          <a:xfrm>
            <a:off x="0" y="1066680"/>
            <a:ext cx="9144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is / doet KL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rstrekt informatie over ligging kabels en leid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opgericht door kabel- en leidingbehee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rijgt de melding van ‘grondroering’ binn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 ‘KLIC-melding’: 135.000 per ja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elt de locatie van het graafwerk v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arschuwt vervolgens alle netbeheerders in graafgeb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richt terug aan de KLIC-melder welke netbeheerders zij heef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waarschu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organiseert campagn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'Graafschade voorkomen we samen'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3"/>
          <p:cNvSpPr/>
          <p:nvPr/>
        </p:nvSpPr>
        <p:spPr>
          <a:xfrm>
            <a:off x="0" y="160020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nneer moet je de KLIC-melding do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alle werkzaamheden in 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diep maakt daarbij niet 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gaat niet alleen om graafwerkzaamheden …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Deelnemers laten discussiëren ov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nneer een KLIC-melding nodig is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3"/>
          <p:cNvSpPr/>
          <p:nvPr/>
        </p:nvSpPr>
        <p:spPr>
          <a:xfrm>
            <a:off x="0" y="990720"/>
            <a:ext cx="91440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De KLIC-melding gaat niet alleen om graafwerkzaamhede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ven’ als verzamelwoord (ook)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pplo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gg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in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ten van b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laatsen van verkeersbo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graven vuil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kken ze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fdekken van kuilh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nnen én buiten de bebouwde k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3"/>
          <p:cNvSpPr/>
          <p:nvPr/>
        </p:nvSpPr>
        <p:spPr>
          <a:xfrm>
            <a:off x="0" y="1143000"/>
            <a:ext cx="91440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oet je doen na ontvangst van bevestiging van de KLIC-meld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eer of alle netbeheerders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arten of informatie hebben verstr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tbreekt er informatie, neem dan contact op m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netbeheerder (niet met KLIC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en reactie van een netbeheerder?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 er dan NIET van uit dat er niets lig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ld foute telefoonnummers of namen v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personen bij netbeheerders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2971800" y="914400"/>
            <a:ext cx="2943360" cy="42670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9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campagnelogo met de slo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3"/>
          <p:cNvSpPr/>
          <p:nvPr/>
        </p:nvSpPr>
        <p:spPr>
          <a:xfrm>
            <a:off x="-380880" y="990720"/>
            <a:ext cx="92962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oezo 'Graafschade voorkomen we samen'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ndelijke campag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gezet door ‘campagnepartners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etbeheerders, KLIC, CUMELA Nederl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Zwarte Corps, E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l meer schadevr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betere samenwerking alle spelers graafk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werken volgens ‘Graafcod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el publiciteit over schadevrij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ter begrip voor vakwerk machinis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3"/>
          <a:stretch/>
        </p:blipFill>
        <p:spPr>
          <a:xfrm>
            <a:off x="7848720" y="4495680"/>
            <a:ext cx="1100160" cy="15955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7" descr="De Graafcode"/>
          <p:cNvPicPr/>
          <p:nvPr/>
        </p:nvPicPr>
        <p:blipFill>
          <a:blip r:embed="rId3"/>
          <a:stretch/>
        </p:blipFill>
        <p:spPr>
          <a:xfrm>
            <a:off x="2666880" y="1295280"/>
            <a:ext cx="4065840" cy="45356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2666880" y="609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graaf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 Box 5"/>
          <p:cNvSpPr/>
          <p:nvPr/>
        </p:nvSpPr>
        <p:spPr>
          <a:xfrm>
            <a:off x="762120" y="2819520"/>
            <a:ext cx="79246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Kort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aven is een leuk en mooi va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wel een hoop gedoe tegenwoordig.’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-152280" y="0"/>
            <a:ext cx="9296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3"/>
          <p:cNvSpPr/>
          <p:nvPr/>
        </p:nvSpPr>
        <p:spPr>
          <a:xfrm>
            <a:off x="0" y="294804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aak je als machinist / graver zoal me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groepsgesprek]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3"/>
          <p:cNvSpPr/>
          <p:nvPr/>
        </p:nvSpPr>
        <p:spPr>
          <a:xfrm>
            <a:off x="0" y="3429000"/>
            <a:ext cx="91440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Einde 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ar module 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, (hoofd)aannemer en opdrachtgever &gt;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9" descr=""/>
          <p:cNvPicPr/>
          <p:nvPr/>
        </p:nvPicPr>
        <p:blipFill>
          <a:blip r:embed="rId3"/>
          <a:stretch/>
        </p:blipFill>
        <p:spPr>
          <a:xfrm>
            <a:off x="3809880" y="914400"/>
            <a:ext cx="1576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de totale lengte van alle kabels en leid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de Nederlandse gron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17,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3"/>
          <p:cNvSpPr/>
          <p:nvPr/>
        </p:nvSpPr>
        <p:spPr>
          <a:xfrm>
            <a:off x="0" y="144792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1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r vergelijk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t is bijna 45 keer de aarde r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s jouw auto 25 duizend km per jaar rijdt,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e je zeventig jaar over 1,75 miljoen k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aak per dag wordt machinaal de grond geroer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emiddeld in Neder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266688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2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x per d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 zijn meer dan 15.000 graafmachines i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derland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3"/>
          <p:cNvSpPr/>
          <p:nvPr/>
        </p:nvSpPr>
        <p:spPr>
          <a:xfrm>
            <a:off x="0" y="167652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eel kabel- en leidingschadegevallen gebeuren 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middeld per werkdag?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200 k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144792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3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x 200 werkdagen = 40.000 schadegevallen per j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ke graafschade kost gemiddeld € 1.000,- 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Directe schade aan de kabel of lei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schadegevallen per dag x € 1.000,- per ke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€ 200.000 per dag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5:10:12Z</dcterms:created>
  <dc:creator>van Nimwegen &amp; Partners</dc:creator>
  <dc:description/>
  <dc:language>en-US</dc:language>
  <cp:lastModifiedBy>Stephan de Wit</cp:lastModifiedBy>
  <dcterms:modified xsi:type="dcterms:W3CDTF">2019-09-17T09:39:43Z</dcterms:modified>
  <cp:revision>35</cp:revision>
  <dc:subject/>
  <dc:title>PowerPoint-presentatie</dc:title>
</cp:coreProperties>
</file>