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A169-B9F3-4BCD-AA94-20A264B3E9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A904-0307-4DD1-AAD0-901EC831403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1732-0377-4BC8-9C66-6A4A4AC13E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BCCD-E31C-4C15-9EC0-26931C2040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E3D5-E540-4043-A32E-D2F7F19208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EE47-9067-4364-B275-5188247AD8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4EB5-67BA-4AEB-BD7E-DB1A211932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8134-7E1C-49C3-AA39-36C2EC01C2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52CC-81AD-46A7-B676-0C7CA3002F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D819-ABD7-4ADF-B650-6E4169F842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081E-061A-4823-A209-6E3319444AE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2476-4BBF-413A-96D5-E760ECF0404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F960-F88C-410A-9946-A09D412F3F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3B1-CD59-4D40-B1D8-819F871F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201-B39B-43D7-B0BE-F8537E48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CC4-66DA-4A52-86F5-F485A3DE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046-DBC3-40C9-B50F-C579E62F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A73-7143-45D2-9490-B0EBFE36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EA7-0E63-45EB-A228-D635D660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9CD-B113-459B-A9BF-22806421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42F-93BB-4CD8-BD48-E8E87F7E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2E8-3DD8-40E1-AACA-6EE9AB3C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78B-DC3A-48F9-B812-BB9CE6B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B93-641F-4C1C-B6B0-D888ED63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4EE-9D12-4F7F-9DA9-2D0D6A4F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82C-68F8-4091-8432-04DC41C930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92720" y="3573360"/>
            <a:ext cx="329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omt niet zo veel voor. Nog wel als vijverrandafwerking. Lood is giftig voor vi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fbeelding 1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456408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fbeelding 1" descr=""/>
          <p:cNvPicPr/>
          <p:nvPr/>
        </p:nvPicPr>
        <p:blipFill>
          <a:blip r:embed="rId1"/>
          <a:srcRect l="16338" t="0" r="18991" b="13385"/>
          <a:stretch/>
        </p:blipFill>
        <p:spPr>
          <a:xfrm>
            <a:off x="468360" y="2292480"/>
            <a:ext cx="3240000" cy="3254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541840" y="183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4" descr=""/>
          <p:cNvPicPr/>
          <p:nvPr/>
        </p:nvPicPr>
        <p:blipFill>
          <a:blip r:embed="rId2"/>
          <a:stretch/>
        </p:blipFill>
        <p:spPr>
          <a:xfrm>
            <a:off x="4572000" y="2292480"/>
            <a:ext cx="3760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escherming (ferro)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03640" y="27082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kken en ver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03640" y="3860640"/>
            <a:ext cx="294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lvaniseren/verzi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3203640" y="3284640"/>
            <a:ext cx="28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lastificeren of co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6" descr="Hammerite%20-%20metaallakhoogglans"/>
          <p:cNvPicPr/>
          <p:nvPr/>
        </p:nvPicPr>
        <p:blipFill>
          <a:blip r:embed="rId1"/>
          <a:stretch/>
        </p:blipFill>
        <p:spPr>
          <a:xfrm>
            <a:off x="260280" y="1633680"/>
            <a:ext cx="2695680" cy="26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33320100"/>
          <p:cNvPicPr/>
          <p:nvPr/>
        </p:nvPicPr>
        <p:blipFill>
          <a:blip r:embed="rId2"/>
          <a:srcRect l="34776" t="16316" r="8714" b="5449"/>
          <a:stretch/>
        </p:blipFill>
        <p:spPr>
          <a:xfrm>
            <a:off x="6586560" y="177336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Verzinken01"/>
          <p:cNvPicPr/>
          <p:nvPr/>
        </p:nvPicPr>
        <p:blipFill>
          <a:blip r:embed="rId3"/>
          <a:stretch/>
        </p:blipFill>
        <p:spPr>
          <a:xfrm>
            <a:off x="177840" y="4437000"/>
            <a:ext cx="3025800" cy="2270160"/>
          </a:xfrm>
          <a:prstGeom prst="rect">
            <a:avLst/>
          </a:prstGeom>
          <a:ln w="0">
            <a:noFill/>
          </a:ln>
        </p:spPr>
      </p:pic>
      <p:pic>
        <p:nvPicPr>
          <p:cNvPr id="113" name="Afbeelding 1" descr=""/>
          <p:cNvPicPr/>
          <p:nvPr/>
        </p:nvPicPr>
        <p:blipFill>
          <a:blip r:embed="rId4"/>
          <a:stretch/>
        </p:blipFill>
        <p:spPr>
          <a:xfrm>
            <a:off x="6229440" y="4457880"/>
            <a:ext cx="22716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89040" y="1951200"/>
            <a:ext cx="77724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10htil40"/>
          <p:cNvPicPr/>
          <p:nvPr/>
        </p:nvPicPr>
        <p:blipFill>
          <a:blip r:embed="rId1"/>
          <a:stretch/>
        </p:blipFill>
        <p:spPr>
          <a:xfrm>
            <a:off x="468360" y="2492280"/>
            <a:ext cx="6192720" cy="3767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erro-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16286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Jzererts (IJzerox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716360" y="155736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oolstof haalt de zuurstof uit de ver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3419640" y="1989000"/>
            <a:ext cx="1296720" cy="201636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826560" y="2133720"/>
            <a:ext cx="576360" cy="23032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43280" y="17733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rwerking t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0" y="479736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eedijzer (taai maar minder ste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43280" y="234936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ietijzer (sterk maar 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676520" y="9907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 flipH="1">
            <a:off x="3581280" y="2590920"/>
            <a:ext cx="936720" cy="936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3504960" y="5029200"/>
            <a:ext cx="93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8" descr="casting_iron07"/>
          <p:cNvPicPr/>
          <p:nvPr/>
        </p:nvPicPr>
        <p:blipFill>
          <a:blip r:embed="rId1"/>
          <a:stretch/>
        </p:blipFill>
        <p:spPr>
          <a:xfrm>
            <a:off x="395280" y="1341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Soroushwerktt11"/>
          <p:cNvPicPr/>
          <p:nvPr/>
        </p:nvPicPr>
        <p:blipFill>
          <a:blip r:embed="rId2"/>
          <a:stretch/>
        </p:blipFill>
        <p:spPr>
          <a:xfrm>
            <a:off x="395280" y="3860640"/>
            <a:ext cx="30542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132000" y="1700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rwerking t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03640" y="234936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al (sterk en taa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676520" y="9907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55640" y="342900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eedijzer &lt; 0,5%         Staal 0,5% en 2%           Gietijzer &gt;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13"/>
          <p:cNvSpPr/>
          <p:nvPr/>
        </p:nvSpPr>
        <p:spPr>
          <a:xfrm>
            <a:off x="826920" y="3213000"/>
            <a:ext cx="7129800" cy="576360"/>
          </a:xfrm>
          <a:custGeom>
            <a:avLst/>
            <a:gdLst>
              <a:gd name="textAreaLeft" fmla="*/ 0 w 7129800"/>
              <a:gd name="textAreaRight" fmla="*/ 7130160 w 71298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491" h="417">
                <a:moveTo>
                  <a:pt x="0" y="0"/>
                </a:moveTo>
                <a:lnTo>
                  <a:pt x="0" y="417"/>
                </a:lnTo>
                <a:lnTo>
                  <a:pt x="4491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900000" y="3279600"/>
            <a:ext cx="7128000" cy="582840"/>
          </a:xfrm>
          <a:custGeom>
            <a:avLst/>
            <a:gdLst>
              <a:gd name="textAreaLeft" fmla="*/ 0 w 7128000"/>
              <a:gd name="textAreaRight" fmla="*/ 7128360 w 712800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4082" h="367">
                <a:moveTo>
                  <a:pt x="0" y="366"/>
                </a:moveTo>
                <a:lnTo>
                  <a:pt x="4081" y="0"/>
                </a:lnTo>
                <a:lnTo>
                  <a:pt x="4082" y="367"/>
                </a:lnTo>
                <a:lnTo>
                  <a:pt x="0" y="36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971640" y="321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093080" y="3357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T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132000" y="1700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rwerking t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236232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VS (roestvast staal) = legering met chroom en nikk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572000" y="52578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Ten staal = legering met k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4" descr="http://www.rots-maatwerk.nl/upload/images/s3.jpg"/>
          <p:cNvPicPr/>
          <p:nvPr/>
        </p:nvPicPr>
        <p:blipFill>
          <a:blip r:embed="rId1"/>
          <a:stretch/>
        </p:blipFill>
        <p:spPr>
          <a:xfrm>
            <a:off x="838080" y="36576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2"/>
          <a:stretch/>
        </p:blipFill>
        <p:spPr>
          <a:xfrm>
            <a:off x="6553080" y="1523880"/>
            <a:ext cx="2381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4398840" y="49165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iet echt geschikt voor constructie, meer voor sier zoals bepl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fbeelding 1" descr=""/>
          <p:cNvPicPr/>
          <p:nvPr/>
        </p:nvPicPr>
        <p:blipFill>
          <a:blip r:embed="rId1"/>
          <a:stretch/>
        </p:blipFill>
        <p:spPr>
          <a:xfrm>
            <a:off x="4584600" y="2435400"/>
            <a:ext cx="3992760" cy="221760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"/>
          <p:cNvPicPr/>
          <p:nvPr/>
        </p:nvPicPr>
        <p:blipFill>
          <a:blip r:embed="rId2"/>
          <a:srcRect l="29211" t="15351" r="23889" b="40013"/>
          <a:stretch/>
        </p:blipFill>
        <p:spPr>
          <a:xfrm>
            <a:off x="324000" y="3645000"/>
            <a:ext cx="3922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Z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398840" y="49165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goten beplating maar vooral als bescherming (galvanize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fbeelding 6" descr=""/>
          <p:cNvPicPr/>
          <p:nvPr/>
        </p:nvPicPr>
        <p:blipFill>
          <a:blip r:embed="rId1"/>
          <a:srcRect l="6643" t="8180" r="38155" b="40028"/>
          <a:stretch/>
        </p:blipFill>
        <p:spPr>
          <a:xfrm>
            <a:off x="324000" y="3548160"/>
            <a:ext cx="3887640" cy="273672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8" descr=""/>
          <p:cNvPicPr/>
          <p:nvPr/>
        </p:nvPicPr>
        <p:blipFill>
          <a:blip r:embed="rId2"/>
          <a:stretch/>
        </p:blipFill>
        <p:spPr>
          <a:xfrm>
            <a:off x="4589640" y="1628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398840" y="49165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fab bouwkundige constru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2" descr=""/>
          <p:cNvPicPr/>
          <p:nvPr/>
        </p:nvPicPr>
        <p:blipFill>
          <a:blip r:embed="rId1"/>
          <a:stretch/>
        </p:blipFill>
        <p:spPr>
          <a:xfrm>
            <a:off x="3807000" y="1989000"/>
            <a:ext cx="504000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3" descr=""/>
          <p:cNvPicPr/>
          <p:nvPr/>
        </p:nvPicPr>
        <p:blipFill>
          <a:blip r:embed="rId2"/>
          <a:stretch/>
        </p:blipFill>
        <p:spPr>
          <a:xfrm>
            <a:off x="128520" y="2527200"/>
            <a:ext cx="4265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08:01:38Z</dcterms:created>
  <dc:creator>M. v. Engeland</dc:creator>
  <dc:description/>
  <dc:language>en-US</dc:language>
  <cp:lastModifiedBy>Maurice van Bijnen</cp:lastModifiedBy>
  <dcterms:modified xsi:type="dcterms:W3CDTF">2023-10-15T07:11:34Z</dcterms:modified>
  <cp:revision>33</cp:revision>
  <dc:subject/>
  <dc:title>Natuurs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413BA76AC0B944EAB06092F64590685</vt:lpwstr>
  </property>
</Properties>
</file>