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F1E-DCB5-4E68-8B60-8FFEEFDD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F87-4041-4787-A4F2-F905726C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A01-5DD7-4F25-AA16-5238AF2A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9E0-8450-4C59-9C3A-8E872B74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1E7D-3E3D-4777-A255-12A1B669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A545-7702-4583-887B-71CDFB7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D943-17CB-45A2-A6DF-A242FC26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23F6-B1B7-4F6F-9BAE-FF354F3E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76C8-CBF5-4944-B316-A00D9680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732C-B47B-45F4-ACBC-10DBB934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494E-0EEA-463D-8805-4694F649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952-BBF0-4B4D-B1C0-3940E8D9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1A58-612E-4631-A429-6A4DDDD3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276D-4E2B-426C-A7E7-0A75851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A3B0-79F1-419B-9521-4BE15006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F91F-D16E-4FD6-848A-B97D9893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5DFB-0A8F-4B11-9A00-2DAC68CE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FE09-D965-4C29-8832-63EF68AC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E9DD-64E2-44C0-ACE7-E9A39D86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7140-031A-4552-8627-E5C0AA98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0FFE-34B4-4FBB-887C-02380403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BD56-F370-47D8-8EED-081A6F6E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E77-CC7D-4F76-BF68-638931EF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41CC-BA9E-4D76-AE54-039EF367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48E5-3E49-4C16-9C87-54D00B8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7E0BA-3C8A-44AF-AA55-07ED851C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5005-8021-4C42-AD6A-EEE9D08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72C0-0EDF-45D2-8523-F2ACC521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91429-DDBD-456E-A4E8-A901BF82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38AD-DD9D-46F2-A206-B4F3889F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0868-3203-4C1A-8322-53CF50D4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06C53-5CF9-433A-BDDC-6CF45B20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6F4B7-B8E0-4062-9C22-7AB86C78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C09-0738-4A38-9BAE-D2011661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34C7-A079-4087-9EBD-81035BF4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3088-F77E-4EC9-AE2F-68FBD116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B4208-8D9B-4546-AD39-4CEA050C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AB55E-8CDF-4CF9-A345-96AD63AD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2D10-0C74-4638-A01B-0C778BC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08DD-C4EF-4C73-AA29-60ED8D87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E9C8-BB55-4242-AC4E-336FA331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DE34-0631-44CE-B545-AE5C09DB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DB95-6D04-4123-8278-D60865A4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19280-DEDD-4069-9C4F-7F14A6AF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1EF-F9ED-404A-9FBB-36F94A2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C787-D858-4370-A908-7DE4278C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BB2B-CE01-45E3-897F-E96853E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0387A-1F27-4517-A6CB-08520B39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4DD8F-BC03-4294-8302-7841A6A4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6DC97-19A2-4C9B-A270-5E9ED338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3661-0451-4E66-BD38-5B0352AD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4D94-8A1F-408B-8243-4FBF06FE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0D91-60F1-43FC-94EC-1C9E6270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E8F4C-F3AC-4C4A-9751-E584EB89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244CC-4BF1-4108-8E5B-F3E1A439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1A9-A7C0-4710-8337-F1312994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77D2-7691-477A-BB36-2384860F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641-E7FB-43EE-875B-44CB884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FA0-4B85-4F33-BB37-377C6582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36C-AFE6-484F-9E43-0A50A49A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2B19E-2DC3-4352-B266-B9F392E25AB6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9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C4F30-026C-45B8-9CB6-CD49E277B03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38EC7-618E-43E9-B5EA-4F0D2C262858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9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D8E7A-8900-4497-8351-775786DC92F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36D42-4233-49D7-8591-79EA172116EE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9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1550B-27D1-4F95-B72B-6F04644069E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1CE53-E4B5-4B17-978C-1DFA222CFFAD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9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264BB-A63E-46C0-ABDE-489B9A83AA1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4DDD4-C28F-435B-803D-8E7E15A71725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9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AF2E6-67D6-41A2-AFE1-AD7E2B34ED7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1573200"/>
            <a:ext cx="727236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Voorkomen van medicatiefouten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483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. Zorg voor een ruimte waar je ongestoord het delen van medicatie kan voorberei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2. Spreek met collega’s af dat je een collega niet stoort tijdens de deelronde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3. Laat je niet afleiden bij het delen, draag bijvoorbeeld geen pieper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4. Maak afspraken met de receptie over wanneer de deelrondes zijn. Alleen voor zeer dringende telefoontjes mag degene die medicijnen deelt gestoord wor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6. Breng cliënten op de hoogte van nieuwe afsprak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55360" y="1700280"/>
            <a:ext cx="74293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7. Zorg voor een “niet storen” hesje (of geel schort, of vlag op medicijnkar). Uiteraard moet de cliënt wel vragen kunnen stellen over de medicati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8. Kijk goed naar de planning. Het kan bijvoorbeeld lucht geven als een dienst een uur eerder begint, zodat er tijdens de deelronde een medewerker extra aanwezig 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9. Er moeten afspraken zijn over hoe om te gaan met het niet aanwezig zijn van medicatie of het achterhalen van missende gegeve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0. Kijk kritisch naar een overdracht (als de cliënt over komt uit een andere instelling). Regel een actueel medicijnoverzicht via de arts of apotheek. Neem deze door met de cliënt/mantelzorg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01:23Z</dcterms:created>
  <dc:creator>Irma Geerars</dc:creator>
  <dc:description/>
  <dc:language>en-US</dc:language>
  <cp:lastModifiedBy>Lianne Beverdam</cp:lastModifiedBy>
  <dcterms:modified xsi:type="dcterms:W3CDTF">2022-08-31T10:18:01Z</dcterms:modified>
  <cp:revision>7</cp:revision>
  <dc:subject/>
  <dc:title>Medicatieveiligheid</dc:title>
</cp:coreProperties>
</file>