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84A-AA22-4C63-886F-54332B8F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2D1-9178-4AC8-A713-86150DD5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DD6-3F14-43AE-8483-EDE3A1DE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909-37A4-4125-812E-F64F422A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0468-E855-4B2B-88F9-06FA31A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016D-2570-4B1D-A346-902F904D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02B2-4137-4F25-8335-4AE59F9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C644-9E27-4BA3-98C6-0752794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A931-B174-41F1-9AD0-DDF7433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9F92-FABE-4A64-8153-D494626F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5768-DF1C-4CF7-BD1B-125EE03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BC7-3A45-4C71-AABC-DCCF5E2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D4CB-3783-4711-A5DD-C46F7EA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4BE2-DE12-4FE9-B567-277844C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751E-2056-47F8-BA2D-6DFF778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6E2C-5625-4898-A3A8-2F313ACB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0BF-6886-49B4-BA9A-AF5019E8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1E42-56F3-4D04-8381-3A7DAF73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2FB2-3A33-4DE6-9870-169C935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E1F6-24C5-4A43-95C6-8637C0C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91B9-CA8C-4314-B273-7ACF745D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1CCF-0A7B-4FED-B218-898EA4FB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8B8-40FB-4AED-AD25-B769A5D2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FC95-6BC7-46BA-889E-E8564FE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E0AC-7D5F-4B43-85A4-FD07153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D61C-6875-4B8D-95EF-E78EBC7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0C39-9B0B-4FA6-B81F-A914BB9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8E36-B2C8-4EBE-8041-D426EA65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3079-EB09-4B69-AE93-11440F40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64FB-A00A-4C07-A40A-E206FC73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C001-2511-4BCE-BB2F-45734447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28BC-4640-4EF9-8A50-CB12452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FEB6-F658-4FCC-AC4A-AD2D3AD1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67E-2728-4C5F-ABF2-069395BD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E6B8-9BFE-4A24-A4A9-3A67E7D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B77A-CCC3-41E5-AC2B-4478C858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B6851-FEAF-496E-9DA2-3B0AF9D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83B6-0B12-4CD7-B47B-F2CC2E1C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885B-B2BC-4CCF-8831-CF08DF5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75B9-D6C2-448F-AEE6-9C32C74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A0C0-6073-4EBC-AD78-51B8F5CE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B145E-FE0F-4894-AC0C-5119645F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C943-E99D-4B08-A1D6-7B35DC0E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B4F7-4FFE-49E2-ACE6-14FED6EA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115-5D4C-4F2B-930E-9B9DC734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1F44C-27D5-433B-B7C1-8AD0D82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C6C89-238A-4F39-8390-3347F72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0C10-F990-4A32-A503-B1226D8C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A1FE6-F142-43DB-9988-F53AF08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5F09-3468-4C4E-963D-1EFA8C06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551E7-88BB-412D-A309-F16F428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1B898-A11E-4146-BFEA-5E6DAA3D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E835-2010-4A33-A65C-50D4136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0886-A027-4AE1-8D5B-6B1572A4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2F491-A6EC-407C-A5ED-57F4A706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ECE-C2C9-4A0B-B3C7-D2957E4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80D7-9A68-44AD-A660-33B4ABCB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089-7E9A-4FDB-A0ED-63C18C1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2C3-DADB-444E-8923-A062DB0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4F4-766B-4E74-9BA5-FEFB984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264A5-236A-452D-A705-B6442DA63166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84E74-9954-420A-9674-2136E23130B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4719D-9C38-4910-8818-0044871319F0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A2200-E846-4261-8653-68117A6C33A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7C6F4-6021-4AF5-B617-FD4EA9EBC3D6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6A302-B61F-45DA-8233-635C627484A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13358-A213-4D56-9F93-A4C45A421B12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9CE96-5DEC-4AB2-8F96-27E58FFDD95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3F8B0-71D9-4D2F-AC84-88D8A1B897FB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EF3F4-B406-454C-9FF9-271F2A0A641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573200"/>
            <a:ext cx="727236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Voorkomen van medicatiefouten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483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. Zorg voor een ruimte waar je ongestoord het delen van medicatie kan voorberei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2. Spreek met collega’s af dat je een collega niet stoort tijdens de deelronde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3. Laat je niet afleiden bij het delen, draag bijvoorbeeld geen pieper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4. Maak afspraken met de receptie over wanneer de deelrondes zijn. Alleen voor zeer dringende telefoontjes mag degene die medicijnen deelt gestoord wor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6. Breng cliënten op de hoogte van nieuwe afsprak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55360" y="1700280"/>
            <a:ext cx="74293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7. Zorg voor een “niet storen” hesje (of geel schort, of vlag op medicijnkar). Uiteraard moet de cliënt wel vragen kunnen stellen over de medicati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8. Kijk goed naar de planning. Het kan bijvoorbeeld lucht geven als een dienst een uur eerder begint, zodat er tijdens de deelronde een medewerker extra aanwezig 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9. Er moeten afspraken zijn over hoe om te gaan met het niet aanwezig zijn van medicatie of het achterhalen van missende gegeve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0. Kijk kritisch naar een overdracht (als de cliënt over komt uit een andere instelling). Regel een actueel medicijnoverzicht via de arts of apotheek. Neem deze door met de cliënt/mantelzorg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01:23Z</dcterms:created>
  <dc:creator>Irma Geerars</dc:creator>
  <dc:description/>
  <dc:language>en-US</dc:language>
  <cp:lastModifiedBy>Lianne Beverdam</cp:lastModifiedBy>
  <dcterms:modified xsi:type="dcterms:W3CDTF">2022-08-31T10:18:01Z</dcterms:modified>
  <cp:revision>7</cp:revision>
  <dc:subject/>
  <dc:title>Medicatieveiligheid</dc:title>
</cp:coreProperties>
</file>