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204-EA88-455B-858D-4B5C3679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73B-E74D-4834-B4B9-6850D1E5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5E8-ABEC-4DBD-960B-9DFF5068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307-057A-4E06-B488-E1A62680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C8CD-F449-4B45-9650-C9C45744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C9BE-5A8A-4C7C-8034-E30E2BF6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0FA9-1EA9-46DE-8A8F-FF7F3242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C96-9437-4FBC-AF63-743A7A8E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9061-C48F-4B78-91F2-B6B01DC8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609A-7517-46FA-A684-65BF708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8970-D656-408F-A7B3-1324A4F6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5DE-0FB7-4E1D-B27A-086E48E5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4A8C-A97E-46BE-97DC-10BC597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95AC-FB0E-4AD4-BB70-211DAD7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4FC-EBF6-47F2-B34A-A3E62A3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041F-814E-489C-A3DB-EF53A266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A6DC-1E1B-4E42-B2AF-355DC8E9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533D-1506-4C1E-9C22-AA115EBB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6297-6DBC-4E7C-9705-1E6CBB49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435F-491E-46ED-AB9E-318FF445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18DE-E705-4CB4-9340-D8663688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DE6E-151F-4A96-8C6C-B34F0A8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248-69B2-48A9-965B-01B74DFC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E5D8-E351-4FBF-A491-A9C2312B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425D-C597-455A-91D9-633E8153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E480-FB4F-4D04-88E4-2F4B08D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96AC-D038-473C-A7B2-DD85EC2E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3167-80B1-4484-A403-0F01841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D0B9-2E9F-4455-8716-F76F619A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E436-4D1B-42B5-9E62-884D959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E6FAD-8645-4D8E-AB58-2FEA7D82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DFB9-226B-4339-B2F6-F0E341B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56E8-5208-4928-AA30-868982E2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EA3-21FA-4D82-A7B2-C8FF66D3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9D5F-A6AC-4E36-8D8F-C111522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2C40-CA96-470A-9E19-AB8897C9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A08A-E619-4BEE-A884-02D364A2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2D4C-F2C6-4DE6-AD58-A8AE2C31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18F5-670E-46CA-84E7-239A3D4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C7F7-4BD4-41AF-ABD4-96330225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E5DF-C147-4CB9-A5EE-51959CB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4D24-F716-49D8-B923-47423D3B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38FF-349F-4113-96F3-98F426EC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72A4-83FD-4059-8279-5336E2DD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021-CEC2-4FB4-9D85-564F71A8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27D30-DA95-4EC5-A595-9D3850FB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97580-78AF-4AF6-B042-D7A6EF3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847B-1CD5-46ED-882E-3A61B29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B233-7A92-4E09-8949-FFA1647D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50289-ED9F-4A8B-AFF8-26D12537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787B1-4370-4441-8165-D418E45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F7ADC-FF5D-4269-B574-6910BED9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1EA4-1849-42B1-B628-4F7E36D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0341C-8046-4A3D-9EA1-0FEFD2CD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17D6-A6B7-49D6-9A02-3A0AC50E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CE3-658C-4234-9CA4-BD2C8357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00589-4CD4-49C8-89F1-D8CE5626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57B-B89F-42CA-A94A-73D0458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E89-2F71-4EE3-AC83-481E851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0E5-6CAB-4F2E-81C1-03A0ED36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CF254-BF79-49FB-ADFE-7B356DF030A3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3D4EE-63B8-4273-96FC-900DBB2E738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67492-0071-4565-970E-EAE52285F4B7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D43DD-2669-4FB1-930A-255936AA43B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2E01D-9398-491C-A15C-710B72C1D2FD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BE51F-C8C0-41E1-9BED-C404AA96475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30B22-48EF-4BFC-B8AF-0FC3654C4C20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66460-9F93-484C-85B9-9213D864892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3438C-113C-4C42-9AF9-069A7253A76E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8D836-B4D0-4AC4-A602-44CD53663DB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573200"/>
            <a:ext cx="727236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Voorkomen van medicatiefouten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483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. Zorg voor een ruimte waar je ongestoord het delen van medicatie kan voorberei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2. Spreek met collega’s af dat je een collega niet stoort tijdens de deelronde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3. Laat je niet afleiden bij het delen, draag bijvoorbeeld geen pieper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4. Maak afspraken met de receptie over wanneer de deelrondes zijn. Alleen voor zeer dringende telefoontjes mag degene die medicijnen deelt gestoord wor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6. Breng cliënten op de hoogte van nieuwe afsprak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55360" y="1700280"/>
            <a:ext cx="74293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7. Zorg voor een “niet storen” hesje (of geel schort, of vlag op medicijnkar). Uiteraard moet de cliënt wel vragen kunnen stellen over de medicati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8. Kijk goed naar de planning. Het kan bijvoorbeeld lucht geven als een dienst een uur eerder begint, zodat er tijdens de deelronde een medewerker extra aanwezig 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9. Er moeten afspraken zijn over hoe om te gaan met het niet aanwezig zijn van medicatie of het achterhalen van missende gegeve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0. Kijk kritisch naar een overdracht (als de cliënt over komt uit een andere instelling). Regel een actueel medicijnoverzicht via de arts of apotheek. Neem deze door met de cliënt/mantelzorg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01:23Z</dcterms:created>
  <dc:creator>Irma Geerars</dc:creator>
  <dc:description/>
  <dc:language>en-US</dc:language>
  <cp:lastModifiedBy>Lianne Beverdam</cp:lastModifiedBy>
  <dcterms:modified xsi:type="dcterms:W3CDTF">2022-08-31T10:18:01Z</dcterms:modified>
  <cp:revision>7</cp:revision>
  <dc:subject/>
  <dc:title>Medicatieveiligheid</dc:title>
</cp:coreProperties>
</file>