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E60-EC86-4438-94F3-54B44FD5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FAD-8C03-42F1-AE38-BC089F2A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14A-F8FF-47A5-B6F1-B2E8FB82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794-18D0-4D98-AF55-2A3784B9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0F40-6C8F-4EC3-9E7E-3D7025F9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B89E-AA24-47FE-A334-0782E620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1F38-AFEF-48CE-9789-53F68863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7384-69D4-4481-887A-019259E0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2D34-22DC-40A2-90B5-B8115C0C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6192-9137-4761-BB1F-452A545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6071-6A57-40CC-B736-18C850E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94E0-529B-42FE-A6E9-8387E804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FFD8-0A8D-461C-8CC9-6C1ECDBB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E4A2-1731-428A-BF6F-51DAC1A4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CCA9-1BA8-460F-9D17-F92565D8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25A9-FF01-4423-A719-4D3D01FC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D137-91EF-46A5-837A-16BC6F39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A24B-DB3B-4F7C-A5B1-C97F28B3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63476-E99E-42BE-B6E0-ED7B59F9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5C09-0E10-45AA-9744-B9B860B8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B5491-17FC-410A-B627-2DB4E1B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89E3C-7EDD-4921-8EA6-4E140845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CEB-D9C3-4986-B508-AA432A6F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88EC-631C-4519-A6F3-3D2D6091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6602-04C8-49C5-B917-F5E4C28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5A753-7FF7-473D-97D2-D1101A9F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FB6B-AB28-4683-B4E7-1AE14A04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3590-576E-410F-9980-D62F010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5165D-AFB1-4DAC-B197-BBC90A21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BFAB-7FC7-4B57-959C-59246235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9726-CDCB-4B0F-B82A-249B57936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00E9E-8736-4F49-9B81-31B30A3B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B3E7-58D9-48DF-958F-D197A5DA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000-B793-4A4F-A858-019AA89A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2EA2-5493-45B7-B105-537AB102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D722B-D5F7-4EBE-A4C3-49825D15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A404-6403-49F8-8EAC-C2DAD153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AEAF-FC2D-40AC-A395-F201D71F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320D9-9FCD-4D1B-B65E-72B77536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D055-A355-4243-9095-6C7F22A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9E80-FBCF-4C67-AC00-F09461D2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6EE07-41C6-44FB-8F48-0D01E876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C1E7E-59D2-43AA-A578-A208744A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94A5A-8E05-448A-A4EC-3CEB6FD8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71C-6BBD-4AEF-8623-C5529A4C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933D2-8E6B-47C1-B63E-4C9FB5D3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862D-51AA-4D0B-ABA0-76BC7DA4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86E2C-A4FA-40C8-A7C1-E3926AFC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5C2F-3992-43D6-AC2B-592D87DE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6CF44-50C8-4645-99F4-6772ABB5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B1E9C-F07A-4637-91DF-131BA9E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C6E07-8F31-406D-A606-539F725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7755D-28E1-49B1-A88B-D65EDE5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EC7DA-D11C-4184-9E0D-5D3E374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61D53-1F5F-481A-9058-7A142B13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453-438B-4752-8969-7E8E9941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D9ED0-4803-4AFA-B6C9-B6190255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EDD-4CE0-4042-8ECF-1AD4D9BB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9BE-A5FF-4856-8612-8CF28E2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73E-201B-4951-90E1-E3AF137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BFDA5-B8B6-4646-B439-9997E67ED980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7F689-B368-4E80-B593-43C8E97930B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BF2E7-6034-48E7-8340-5A42A3DEF1A7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1CEF0-087A-40AD-9038-D968DEFAE7A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A21BF-FCBC-49D4-A8EF-BB93243CB741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8E519-4A04-4149-9E00-D46C61B25AB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C5700E-220E-4664-925E-D9F122AD89CF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AEF9C-EE30-4B63-8AE7-11EB5E1859C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785F2-527B-4C72-9F01-842AAA173585}" type="datetime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604A3-E82F-46FB-9C14-6A56D8A810E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573200"/>
            <a:ext cx="7272360" cy="213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Voorkomen van medicatiefouten 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9640" y="1483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. Zorg voor een ruimte waar je ongestoord het delen van medicatie kan voorberei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2. Spreek met collega’s af dat je een collega niet stoort tijdens de deelronde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3. Laat je niet afleiden bij het delen, draag bijvoorbeeld geen pieper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4. Maak afspraken met de receptie over wanneer de deelrondes zijn. Alleen voor zeer dringende telefoontjes mag degene die medicijnen deelt gestoord word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lnSpc>
                <a:spcPct val="80000"/>
              </a:lnSpc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3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6. Breng cliënten op de hoogte van nieuwe afspraken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-360"/>
            <a:ext cx="770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ip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55360" y="1700280"/>
            <a:ext cx="74293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7. Zorg voor een “niet storen” hesje (of geel schort, of vlag op medicijnkar). Uiteraard moet de cliënt wel vragen kunnen stellen over de medicati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8. Kijk goed naar de planning. Het kan bijvoorbeeld lucht geven als een dienst een uur eerder begint, zodat er tijdens de deelronde een medewerker extra aanwezig i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9. Er moeten afspraken zijn over hoe om te gaan met het niet aanwezig zijn van medicatie of het achterhalen van missende gegeven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10. Kijk kritisch naar een overdracht (als de cliënt over komt uit een andere instelling). Regel een actueel medicijnoverzicht via de arts of apotheek. Neem deze door met de cliënt/mantelzorg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182520" indent="-182520">
              <a:spcBef>
                <a:spcPts val="1001"/>
              </a:spcBef>
              <a:buClr>
                <a:srgbClr val="6c911d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4:01:23Z</dcterms:created>
  <dc:creator>Irma Geerars</dc:creator>
  <dc:description/>
  <dc:language>en-US</dc:language>
  <cp:lastModifiedBy>Lianne Beverdam</cp:lastModifiedBy>
  <dcterms:modified xsi:type="dcterms:W3CDTF">2022-08-31T10:18:01Z</dcterms:modified>
  <cp:revision>7</cp:revision>
  <dc:subject/>
  <dc:title>Medicatieveiligheid</dc:title>
</cp:coreProperties>
</file>