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8075-FBEF-495B-85DB-8C479BB4D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DB66-43FC-488C-AE47-BDC76A2EC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7CBB-2DDF-4269-9950-E363F5D00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DFE4-7E5F-42C7-BCEB-53C0E8525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14E3D-33B3-4747-A8BB-76E940857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9A805-7B7F-407D-908E-180BC6921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D9680-2F0C-40F6-98C9-BB3220CB9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7D598-0198-43D1-A4BE-876F2B2D5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47344-9235-4322-A239-9BABCED19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59684-4148-4A68-94BF-0503B995C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704AE-1765-45BB-BD30-9D3DB10D9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5693-C54E-4353-971B-87BF4C8FF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C948D-1438-4AD7-B53F-C6935B1CE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CC312-5258-449C-960E-F11A80CDC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CEB75-2875-48F1-BE48-11005BB6D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6F700-A70D-44AB-A749-144C7FFB3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103FE-B959-4D6A-9A85-28AAC4A78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A4923-2366-4A63-B759-4D7962B3A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18F98-9ECC-4632-B435-3F138B5F3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E4A65-12FF-472A-8F07-347188229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EE480-F1D5-4635-9866-C19BAD1CD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40D32-D26A-4664-92C4-AF0E20E31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0E75-409C-4845-9472-412964339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9F036-C792-400E-AE79-CAD2C9DCD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6B708-165A-42C9-872D-2EC6D476A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B2254-E0DD-4D5B-AA5B-2D62247EC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8B34D-4FE2-4DD1-A794-F273AACC1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E5C8B-AEFC-43CA-A9BD-1CF5BA3C8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4016B-4159-4551-9AA9-F4EF5505C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9E524-019C-48A8-A03C-02781E17F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44FA6-FE17-4D46-9CD3-7214E1136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AA9A8-281E-4FBC-BB1B-326F7BF90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CAAAA-8FFC-4FE9-A1CD-8CB64EEF7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6272-C22A-4757-ABEC-EDD1EC5F4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3D3E2-5D9C-4682-BE5E-99634ACAC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21E34-7761-4B30-90D7-F4657A8EC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9EF0A-3637-482E-A44E-8D18051E0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11815-1872-4ADC-9907-3B0C0C532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DD9CE1-2B45-458F-8C36-B645080FE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B48C1-A7AD-4DF7-AF50-C131C2E99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65E09-7992-4922-8CA2-8E84E6230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31322-4013-41CB-A3E9-469BA0071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AF836A-E519-4D5B-AC80-CD55475C0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0115C7-325B-47E2-8776-F4CE507FB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DCD8-D046-4C60-8F04-29906B735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FB40D6-E40C-4FB7-A5F0-613474B0E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489FCD-8BD7-43BF-805D-03793775F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760D69-CDDF-42DD-9C5C-BAE7B70FB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B890EF-7B04-4E02-B24E-AA100FA21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57D1D9-BCC8-4ADC-BFD1-DB56AB221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EDBFA5-05F0-48E9-BDCF-2593B9BD0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149011-E426-4433-A0E9-64C2307B1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262F02-DEBF-44B4-AE09-324BAB956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99E4D5-4901-4F13-BE34-9518AA7A1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B52B00-3964-4856-8CEE-DDD7877A3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71FF-365A-4231-918A-CD3D332FF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FCF4D7-7843-412F-A9FC-23F39FCF1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AA8D-F9D1-47D4-971A-A3470956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E4E7-35D5-45DE-B48A-79AC2EFF0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C299-8FD4-4725-8924-1D7FEC98B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4756DD-BCA6-4B15-9A20-B4ACBF2CE41E}" type="datetime"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31-07-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3C9111-48CA-4D7D-8554-B8332FEBD0A3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115FF2-4C9F-4D74-89A8-831D05DCA3F5}" type="datetime"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31-07-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B8C107-1CC1-4F38-AE15-505C031C99E4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BD33DD-A3FE-457C-936F-E6917D58559E}" type="datetime"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31-07-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E84E93-7D80-463B-91AC-AF5B81FAFB99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7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58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59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7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3D5CAC-0BF8-4F8D-B723-BED42690056C}" type="datetime"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31-07-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67DEF9-9DF6-4988-85EF-11BF815B3EA8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1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21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3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A479B1-3608-4603-98DD-6F6E75483166}" type="datetime"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31-07-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4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5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602A3A-05E3-4D59-A218-B1714F42B13F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-360" y="1573200"/>
            <a:ext cx="7272360" cy="213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90c226"/>
                </a:solidFill>
                <a:latin typeface="Trebuchet MS"/>
                <a:ea typeface="ＭＳ Ｐゴシック"/>
              </a:rPr>
              <a:t>Voorkomen van medicatiefouten 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130400" y="4051080"/>
            <a:ext cx="582768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1800" spc="-1" strike="noStrike">
              <a:solidFill>
                <a:srgbClr val="7f7f7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  <a:ea typeface="ＭＳ Ｐゴシック"/>
              </a:rPr>
              <a:t>Tip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9640" y="1483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 marL="182520" indent="-182520">
              <a:lnSpc>
                <a:spcPct val="80000"/>
              </a:lnSpc>
              <a:spcBef>
                <a:spcPts val="1001"/>
              </a:spcBef>
              <a:buClr>
                <a:srgbClr val="6c911d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3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1. Zorg voor een ruimte waar je ongestoord het delen van medicatie kan voorbereiden.</a:t>
            </a: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 marL="182520" indent="-182520">
              <a:lnSpc>
                <a:spcPct val="80000"/>
              </a:lnSpc>
              <a:spcBef>
                <a:spcPts val="1001"/>
              </a:spcBef>
              <a:buClr>
                <a:srgbClr val="6c911d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3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2. Spreek met collega’s af dat je een collega niet stoort tijdens de deelronde.</a:t>
            </a: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 marL="182520" indent="-182520">
              <a:lnSpc>
                <a:spcPct val="80000"/>
              </a:lnSpc>
              <a:spcBef>
                <a:spcPts val="1001"/>
              </a:spcBef>
              <a:buClr>
                <a:srgbClr val="6c911d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3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3. Laat je niet afleiden bij het delen, draag bijvoorbeeld geen pieper.</a:t>
            </a: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 marL="182520" indent="-182520">
              <a:lnSpc>
                <a:spcPct val="80000"/>
              </a:lnSpc>
              <a:spcBef>
                <a:spcPts val="1001"/>
              </a:spcBef>
              <a:buClr>
                <a:srgbClr val="6c911d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3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4. Maak afspraken met de receptie over wanneer de deelrondes zijn. Alleen voor zeer dringende telefoontjes mag degene die medicijnen deelt gestoord worden.</a:t>
            </a: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 marL="182520" indent="-182520">
              <a:lnSpc>
                <a:spcPct val="80000"/>
              </a:lnSpc>
              <a:spcBef>
                <a:spcPts val="1001"/>
              </a:spcBef>
              <a:buClr>
                <a:srgbClr val="6c911d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3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6. Breng cliënten op de hoogte van nieuwe afspraken.</a:t>
            </a: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82800" y="-36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  <a:ea typeface="ＭＳ Ｐゴシック"/>
              </a:rPr>
              <a:t>Tip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855360" y="1700280"/>
            <a:ext cx="742932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1001"/>
              </a:spcBef>
              <a:buClr>
                <a:srgbClr val="6c911d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7. Zorg voor een “niet storen” hesje (of geel schort, of vlag op medicijnkar). Uiteraard moet de cliënt wel vragen kunnen stellen over de medicatie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182520" indent="-182520">
              <a:spcBef>
                <a:spcPts val="1001"/>
              </a:spcBef>
              <a:buClr>
                <a:srgbClr val="6c911d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8. Kijk goed naar de planning. Het kan bijvoorbeeld lucht geven als een dienst een uur eerder begint, zodat er tijdens de deelronde een medewerker extra aanwezig i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182520" indent="-182520">
              <a:spcBef>
                <a:spcPts val="1001"/>
              </a:spcBef>
              <a:buClr>
                <a:srgbClr val="6c911d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9. Er moeten afspraken zijn over hoe om te gaan met het niet aanwezig zijn van medicatie of het achterhalen van missende gegeven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182520" indent="-182520">
              <a:spcBef>
                <a:spcPts val="1001"/>
              </a:spcBef>
              <a:buClr>
                <a:srgbClr val="6c911d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10. Kijk kritisch naar een overdracht (als de cliënt over komt uit een andere instelling). Regel een actueel medicijnoverzicht via de arts of apotheek. Neem deze door met de cliënt/mantelzorger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182520" indent="-182520">
              <a:spcBef>
                <a:spcPts val="1001"/>
              </a:spcBef>
              <a:buClr>
                <a:srgbClr val="6c911d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182520" indent="-182520">
              <a:spcBef>
                <a:spcPts val="1001"/>
              </a:spcBef>
              <a:buClr>
                <a:srgbClr val="6c911d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4T14:01:23Z</dcterms:created>
  <dc:creator>Irma Geerars</dc:creator>
  <dc:description/>
  <dc:language>en-US</dc:language>
  <cp:lastModifiedBy>Lianne Beverdam</cp:lastModifiedBy>
  <dcterms:modified xsi:type="dcterms:W3CDTF">2022-08-31T10:18:01Z</dcterms:modified>
  <cp:revision>7</cp:revision>
  <dc:subject/>
  <dc:title>Medicatieveiligheid</dc:title>
</cp:coreProperties>
</file>