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7200-DB9D-488F-9867-A2FA6CF8A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8D40-36D0-4846-ABCF-CFCFA5D6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AAE8-EB8F-42FC-B70D-B4BB72CA5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71CA-5159-4ED6-AD12-46CE87DF6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F579-77A7-473A-B435-D432EDFD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FF34-6BC7-4AB2-BA8B-8DFACB26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7A5B-A0A5-45EB-B427-85C281BE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75A1-34EC-4C9C-AD24-8AE1DA6F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4CB9-C2D7-4650-8087-EE293273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E50E-D95D-4EB4-AD90-FDAF4736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FA6F-59F7-48FC-81CE-09E10DDE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7409-830E-45CD-B4F4-FA14FEBB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775E-158C-44CC-8DBB-00C419AA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8765-737F-451E-8095-E2701E3B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BDAE-36C1-4585-92AF-DCE39769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D1B7-4332-445E-8148-1CF63CA30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D46F-D8E9-417F-95DE-CC7FACE6D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81D6A-0B79-4543-B8F7-4F6C7B6E7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086F6-D3F4-4E21-A6CF-37139E75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7C708-B64A-492F-B4A0-C108FB62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ECC15-A5C6-44DB-BF03-E270A0C3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91474-7ACB-4F57-AB76-923B6BE9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3767-C267-4E5D-BF0B-058FBCA9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B3CF4-D6B8-49AF-AB75-998AEA80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73247-AB2A-4CEC-9915-D2B6D4CD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D0A92-40FF-4F8A-B1D8-058E5825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EE492-48B7-4037-9019-34DE80C0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C5A04-F880-41AE-ABA3-030F3BD2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0FAC1-D7E7-48A0-BC46-54FC7BF93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0B2EE-A0FA-4E49-9168-FC2DC419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1F1A0-694D-40F8-B537-60DAED8BD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0B316-CD88-4AA5-B26E-5DF928B0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FA30F-04B4-40CC-81A5-2D71356D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36F8-D1FA-455B-8820-94DCF746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50669-A3D9-4CDB-AD52-1E9C4CCE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DE455-BE03-43F1-BF59-20174D6D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97DC9-D719-49CD-93C8-F81B2FD3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2EDC0-FD03-40FE-B41F-357C4782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D7473-C85F-4F2F-80D2-05692A3E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D760F-60CE-4442-952E-50E13BDD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A4ECC-A36B-44DA-8DD6-6571155A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D5E47-5435-4C7D-88F8-EB15FE680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1272D-A0D2-4A63-8F2C-8D1B70033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1BCAB-36A3-48F0-A972-143E926B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41CE-0AA2-47F4-835D-1EAA014D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6AFC2-23FA-4B8C-A8E5-583D627F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5A2CA-E709-4A33-B456-D06303D0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CE252-0F91-439E-B304-8D9413E5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53143-15A9-407A-AFB0-6FFBCB54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3B3E0-C6D4-4665-96F6-8E18528B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403A5-7418-456C-8FBC-89B93394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0A73F-6802-4F12-9E1F-167554E2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431EE-FD80-4B33-8435-7269B8CD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E5802-CA77-430E-850D-045B0676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4B458-9F51-4663-A3DB-AB51517A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E8A3-8C02-487C-BF3A-BF9D626B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E8AC8-18BF-43E7-A9FB-DC2C24A02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19518-40AC-48A4-BE78-02B95772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A3392-C4F4-4CF3-96B2-B43960B9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2D3B4-AC3F-488A-B219-E1486865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508E4-3EA6-4037-B098-089D5771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F22EF-A47C-4295-86DC-B439D9D4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818D6-5941-4C3D-A9C0-AC4343D7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0FB2A-0588-4CFE-A1DA-4EE63D63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59D7E-F6D0-4D28-B915-5ED887FF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4B85F-896E-4860-8D43-268535E0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975A-D77B-4A78-A3F3-1DAC312E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4BB26-70EF-4533-BB5C-391B45F5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C79CC-ED3B-48DF-9E5E-7F0C65F5D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28FE0-B8A0-48D8-A4F0-1A7B07880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0DFB3-91C0-4DBC-9BA0-87C73B5F9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3B6D0-BBD0-4F19-A151-74275462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E302C-7811-434E-AC2F-B6AA05FD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7037D-DC9D-42B2-B18E-7DF36DA2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886AD-8ACD-44B2-8029-182C620D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3EA2E-9FE3-4F98-A7F7-C46C6061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55D0F-65F0-4860-850C-3B2E4D1D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9DF3-5140-44CE-972E-95773BDE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16E8E-BEA9-4FD5-A02B-107A9C51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E9174-D9A9-488E-A18A-BEADE30C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1A2EC-AECE-47F8-AE6B-99DC31D4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39983-5EDB-4444-A3A8-8DE29BBA0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FAACE-5E8C-4272-805F-A9C84B075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4559-0657-4B7F-83ED-A3662F8F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4D1B-0D49-48DE-9704-2D09A41CD70C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3350-A1B4-4323-9526-5AA20C62AF6B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A8A3-6AD6-40FF-A202-FDD7483676AA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C4F9-41D9-4960-A138-0DFF15A01741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1332-6ED6-4369-B64A-C3F2F97EA933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03CD-89BF-48CD-8CE3-7E020A7512B5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1EB2-7ECF-403E-8E2F-2599114BA789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Zorg voor de ademhal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Uitzuigen Mond Keel en Neu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9" name="Picture 5" descr="lgn01"/>
          <p:cNvPicPr/>
          <p:nvPr/>
        </p:nvPicPr>
        <p:blipFill>
          <a:blip r:embed="rId1"/>
          <a:stretch/>
        </p:blipFill>
        <p:spPr>
          <a:xfrm>
            <a:off x="1763640" y="1413000"/>
            <a:ext cx="5327640" cy="44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5" descr="external image tekening_longinhoud3.jpg"/>
          <p:cNvPicPr/>
          <p:nvPr/>
        </p:nvPicPr>
        <p:blipFill>
          <a:blip r:embed="rId1"/>
          <a:stretch/>
        </p:blipFill>
        <p:spPr>
          <a:xfrm>
            <a:off x="2771640" y="1413000"/>
            <a:ext cx="345924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9280" y="1773000"/>
            <a:ext cx="748044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73e87"/>
                </a:solidFill>
                <a:latin typeface="Candara"/>
              </a:rPr>
              <a:t>Wanneer en waarom ga je uitzuigen van de mond/neus keel holte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tzuigen van de mond neus keel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2556000" y="2997360"/>
            <a:ext cx="4140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Als een zorgvrager niet in staat is om zelf slijm / sputum op te hoesten, kan dat via de mond of neus worden uitgezogen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Het uitzuigen dient twee doeleinden: 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rijhouden van de luchtwegen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oorkomen van luchtweginfecti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itzuigen van de mond/keel-neus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utumophoping voorkomen / verwijderen 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in de neus of mond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de gasuitwisseling verbeteren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sputum verkrijgen voor onderzoek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aspiratie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bloeding in de mond / keelholt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26920" y="2060280"/>
            <a:ext cx="74534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5867280" y="4437000"/>
            <a:ext cx="27590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ndara"/>
              </a:rPr>
              <a:t>Aandachtspunten bij het uitzuigen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3:27:49Z</dcterms:created>
  <dc:creator>Rina</dc:creator>
  <dc:description/>
  <dc:language>en-US</dc:language>
  <cp:lastModifiedBy>A.R. Niemeijer</cp:lastModifiedBy>
  <dcterms:modified xsi:type="dcterms:W3CDTF">2016-12-07T09:16:48Z</dcterms:modified>
  <cp:revision>13</cp:revision>
  <dc:subject/>
  <dc:title>De ademhaling:</dc:title>
</cp:coreProperties>
</file>