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200" spc="-1" strike="noStrike">
                <a:solidFill>
                  <a:srgbClr val="ffffff"/>
                </a:solidFill>
                <a:latin typeface="Arial"/>
              </a:rPr>
              <a:t>Hoofdstuk 7: De kosten van werktuigen.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komt aan bo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8712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Afschrijvingsko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Renteko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Onderhouds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Verzekering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Huur of lease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Brandstof en smeermiddel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fschrijving van werktuige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Formule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Vervangingswaarde – rest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--------------------------------------------------------   =  afschrijv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levensduur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Hierbij schrijf je dus elk jaar een hoger bedrag af. Vervangingswaarde is de waarde die het kost om een vergelijkbare machine te kop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Rentekosten van werktuige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Bij het berekenen gaan we uit van het gemiddeld geïnvesteerd vermog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Vervangingswaarde + rest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-----------------------------------------------   x rentepercentage = ren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nderhoudskoste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Arbeid door derden (niet van eigen mens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Smeermiddelen worden apart berekend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Kosten van onderdelen zijn onderhoudsko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Vaak is het handig om de onderhoudskosten als een rentepercentage te bereken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Kosten van reviseren zijn geen onderhoudskosten, maar verhogen de vervangingswaarde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zekeren van werktuige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8712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Uit de drukken in een bedrag per jaar of in een percentage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Verzekering voor rijdende voertuigen is verplich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Wettelijke aansprakelijkheid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ur, huurkoop of le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8712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Wat is het verschil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Wordt er in de landbouw veel geleaset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Wat is financial leas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Wat is operational leas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628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randstofkosten en smeermidd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8712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Brandstof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      </a:t>
            </a: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-  Benzin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Diesel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LPG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Stroom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Smeermiddel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Ve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36b20"/>
                </a:solidFill>
                <a:latin typeface="Arial"/>
              </a:rPr>
              <a:t>Olie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ffffff"/>
                </a:solidFill>
                <a:latin typeface="Arial"/>
              </a:rPr>
              <a:t>Bedankt voor uw aandacht</a:t>
            </a:r>
            <a:r>
              <a:rPr b="1" i="1" lang="nl-NL" sz="4200" spc="-1" strike="noStrike">
                <a:solidFill>
                  <a:srgbClr val="ffffff"/>
                </a:solidFill>
                <a:latin typeface="Arial"/>
              </a:rPr>
              <a:t> !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3:03:03Z</dcterms:created>
  <dc:creator>Astrid Damen</dc:creator>
  <dc:description/>
  <dc:language>en-US</dc:language>
  <cp:lastModifiedBy>Herman Janssen</cp:lastModifiedBy>
  <dcterms:modified xsi:type="dcterms:W3CDTF">2020-02-19T13:25:55Z</dcterms:modified>
  <cp:revision>56</cp:revision>
  <dc:subject/>
  <dc:title>‘ BELEEF JE EIGEN GROEI ’</dc:title>
</cp:coreProperties>
</file>