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Hoofdstuk 6 arbeidskoste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rbeidskost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ormen van arbei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en vaste werknem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en uitzendkrach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en zzp’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0-uren contrac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Tijdelijk dienstverba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Opdrach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Wanneer zal een ondernemer kiezen voor deze vormen van arbei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rbeids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olgens CAO werken volgens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loon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Dan gaan daar kosten van af die de werkgever moet betalen namens de werknem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Loonbelast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Sociale premies. (invaliditeit, arbeidsongeschikthei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Pensioenfonds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Dan krijg je het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ettoloon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rbeids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erkgever betaalt ook nog kosten die hij niet van het brutoloon af mag trek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xtra premie ziektenkostenverzeker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xtra storting pensioenfonds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Premie o.a. werkeloosheidswe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rbeids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Extra kosten voor personen met personee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Reiskostenvergoed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Boekhoud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Persoonlijke verzorging (kleding, facilitei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rzeker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Beantwoord nu vraag 16 – 19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rbeids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De ondernemer en zijn familieleden werken ook. Niet alles wordt per uur betaal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de bedrijfseconomie gaan we dan werken met berekend loo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oor een gezinslid wordt dit berekend op basis va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€ 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40.000,-- per jaar. Deze persoon werkt dan 1700 uu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oor de ondernemer gaan we uit van een basis va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€ 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50000,-- per jaar. Het aantal uren wordt dan berekend met een factor: b.v. 1,8. Deze ondernemer kan dan uitgaan van €90000,-- per jaa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Maak opdracht 20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Janssen</cp:lastModifiedBy>
  <dcterms:modified xsi:type="dcterms:W3CDTF">2019-05-08T10:00:23Z</dcterms:modified>
  <cp:revision>54</cp:revision>
  <dc:subject/>
  <dc:title>‘ BELEEF JE EIGEN GROEI ’</dc:title>
</cp:coreProperties>
</file>