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FAF-E098-4E06-ACFC-6A428037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BAF-463D-4C7A-BAC3-E6E1569B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58B-37A5-4DA9-83B9-43EF064B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C50-527E-444F-89B7-85BC0718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33F-B1CA-48A5-9B19-B94A7237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57A-9B9B-4DBE-9AA7-8F0F103D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D52-9BCB-4F29-A23A-912263C2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2FF-69E6-44A9-A36B-917BAF1B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53A-5DFF-4C55-AAFD-B437CB7F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860-B697-4872-839B-C00ABAF2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7DA-FBB9-493D-A589-210F464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BED4-1DB0-42C4-9D96-436B9144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DA8A-674D-4E07-AD3C-D9B09BD92D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aspis_bromeliae_kl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estrijdingsmiddelen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nococcus_citri_kl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pint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1gy6qmw6bpl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nnaspis_aspiditrae_kl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nnococcus_citri_kl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TEmagicC_25897caed7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umbWittevlieg2170x1701305357630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r51roest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oestbladkl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0px-Zomereik_met_meeldauw_%28Quercus_robur_with_Microsphaera_alphitoides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pluisblad%20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opluizen-2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CMYAbIEdBnQoMjOQRLuHQ936_oKIcdVP_nEkIuFJNkXnlxkqAc-YuR6s2cA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admin</cp:lastModifiedBy>
  <dcterms:modified xsi:type="dcterms:W3CDTF">2018-10-27T12:02:39Z</dcterms:modified>
  <cp:revision>2</cp:revision>
  <dc:subject/>
  <dc:title>Ziekten en Plagen</dc:title>
</cp:coreProperties>
</file>