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ED9-8F51-4282-A128-5BBD019C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83D6-F40E-4A0E-A3E3-9315B49E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BA7A-E62B-4146-A9D0-C1DF5348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DE3-CF81-43B6-990E-53AC82D0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AFB4-D429-4E09-9B87-EC39213F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763-8408-45A8-A45C-4ED39E5D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2572-6A59-4882-8B31-FED220EB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BFF9-174A-4264-8CB1-77C23C7A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75D-2BD9-4216-B031-0BE57D95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B105-B44A-4F61-BDEE-9FE73559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65FD-C988-45B0-86D7-1DA2FA89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5661-ECCF-433C-BDE2-2CCAC39B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59FE-E0FF-4E6D-9B3B-2D275A710BE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Zomereik_met_meeldauw_(Quercus_robur_with_Microsphaera_alphitoides)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n en P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Diaspis_bromeliae_kl"/>
          <p:cNvPicPr/>
          <p:nvPr/>
        </p:nvPicPr>
        <p:blipFill>
          <a:blip r:embed="rId1"/>
          <a:stretch/>
        </p:blipFill>
        <p:spPr>
          <a:xfrm>
            <a:off x="5148360" y="2421000"/>
            <a:ext cx="2085840" cy="1644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Bestrijdingsmiddelen"/>
          <p:cNvPicPr/>
          <p:nvPr/>
        </p:nvPicPr>
        <p:blipFill>
          <a:blip r:embed="rId2"/>
          <a:stretch/>
        </p:blipFill>
        <p:spPr>
          <a:xfrm>
            <a:off x="611280" y="30686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Plannococcus_citri_kl"/>
          <p:cNvPicPr/>
          <p:nvPr/>
        </p:nvPicPr>
        <p:blipFill>
          <a:blip r:embed="rId3"/>
          <a:stretch/>
        </p:blipFill>
        <p:spPr>
          <a:xfrm>
            <a:off x="5148360" y="3860640"/>
            <a:ext cx="25207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aan de onderkant van het blad waardoor gele vlekken en gele bladeren ontst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groei wordt tegengegaan waardoor de plant dood kan g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pint"/>
          <p:cNvPicPr/>
          <p:nvPr/>
        </p:nvPicPr>
        <p:blipFill>
          <a:blip r:embed="rId1"/>
          <a:stretch/>
        </p:blipFill>
        <p:spPr>
          <a:xfrm>
            <a:off x="4932360" y="3789360"/>
            <a:ext cx="3114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: Lieveheersbees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merken: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Bladeren worden glimmend en plakkerig (honingdauw)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Planten verwelk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Er zijn verkleuringen of vervormingen te zien aan de bla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1gy6qmw6bpl"/>
          <p:cNvPicPr/>
          <p:nvPr/>
        </p:nvPicPr>
        <p:blipFill>
          <a:blip r:embed="rId1"/>
          <a:stretch/>
        </p:blipFill>
        <p:spPr>
          <a:xfrm>
            <a:off x="5940360" y="549360"/>
            <a:ext cx="2543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il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iverminde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het blad lee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rming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ge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innaspis_aspiditrae_kl"/>
          <p:cNvPicPr/>
          <p:nvPr/>
        </p:nvPicPr>
        <p:blipFill>
          <a:blip r:embed="rId1"/>
          <a:stretch/>
        </p:blipFill>
        <p:spPr>
          <a:xfrm>
            <a:off x="6300720" y="765000"/>
            <a:ext cx="22320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ol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het blad leeg, hopen zich op tussen de stengel en blad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rmingen, bruine plek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: roofkever, sluipw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lannococcus_citri_kl"/>
          <p:cNvPicPr/>
          <p:nvPr/>
        </p:nvPicPr>
        <p:blipFill>
          <a:blip r:embed="rId1"/>
          <a:stretch/>
        </p:blipFill>
        <p:spPr>
          <a:xfrm>
            <a:off x="6227640" y="4149720"/>
            <a:ext cx="25210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li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veel honingdauw af waar roetdauw schimmels op groei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de sappen uit de plant waardoor vervormingen en groeivermindering optreed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gen eieren onder de blad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RTEmagicC_25897caed7"/>
          <p:cNvPicPr/>
          <p:nvPr/>
        </p:nvPicPr>
        <p:blipFill>
          <a:blip r:embed="rId1"/>
          <a:stretch/>
        </p:blipFill>
        <p:spPr>
          <a:xfrm>
            <a:off x="6877080" y="333360"/>
            <a:ext cx="857160" cy="77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ThumbWittevlieg2170x1701305357630"/>
          <p:cNvPicPr/>
          <p:nvPr/>
        </p:nvPicPr>
        <p:blipFill>
          <a:blip r:embed="rId2"/>
          <a:stretch/>
        </p:blipFill>
        <p:spPr>
          <a:xfrm>
            <a:off x="6877080" y="47242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o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ziekte (fuchsia, geran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dt verspreidt door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te zomers, broeie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nr51roest"/>
          <p:cNvPicPr/>
          <p:nvPr/>
        </p:nvPicPr>
        <p:blipFill>
          <a:blip r:embed="rId1"/>
          <a:stretch/>
        </p:blipFill>
        <p:spPr>
          <a:xfrm>
            <a:off x="6448320" y="2060640"/>
            <a:ext cx="2695680" cy="179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roestbladkl"/>
          <p:cNvPicPr/>
          <p:nvPr/>
        </p:nvPicPr>
        <p:blipFill>
          <a:blip r:embed="rId2"/>
          <a:stretch/>
        </p:blipFill>
        <p:spPr>
          <a:xfrm>
            <a:off x="4643280" y="4292640"/>
            <a:ext cx="194472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ld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aant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chtige omge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50px-Zomereik_met_meeldauw_%28Quercus_robur_with_Microsphaera_alphitoides%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1773360"/>
            <a:ext cx="29574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op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blads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ilijk te bestrijden door hun d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llen de cellen met giftig speek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pluisblad%20"/>
          <p:cNvPicPr/>
          <p:nvPr/>
        </p:nvPicPr>
        <p:blipFill>
          <a:blip r:embed="rId1"/>
          <a:stretch/>
        </p:blipFill>
        <p:spPr>
          <a:xfrm>
            <a:off x="5508720" y="37893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opluizen-2"/>
          <p:cNvPicPr/>
          <p:nvPr/>
        </p:nvPicPr>
        <p:blipFill>
          <a:blip r:embed="rId2"/>
          <a:stretch/>
        </p:blipFill>
        <p:spPr>
          <a:xfrm>
            <a:off x="826920" y="3429000"/>
            <a:ext cx="26197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t aan de bovenkant van het blad de cellen leeg waardoor er zilverachtige vlekken ontsta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laderen verdr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d9GcRCMYAbIEdBnQoMjOQRLuHQ936_oKIcdVP_nEkIuFJNkXnlxkqAc-YuR6s2cA"/>
          <p:cNvPicPr/>
          <p:nvPr/>
        </p:nvPicPr>
        <p:blipFill>
          <a:blip r:embed="rId1"/>
          <a:stretch/>
        </p:blipFill>
        <p:spPr>
          <a:xfrm>
            <a:off x="5867280" y="4149720"/>
            <a:ext cx="20289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8:29:23Z</dcterms:created>
  <dc:creator>Regien</dc:creator>
  <dc:description/>
  <dc:language>en-US</dc:language>
  <cp:lastModifiedBy>admin</cp:lastModifiedBy>
  <dcterms:modified xsi:type="dcterms:W3CDTF">2018-10-27T12:02:39Z</dcterms:modified>
  <cp:revision>2</cp:revision>
  <dc:subject/>
  <dc:title>Ziekten en Plagen</dc:title>
</cp:coreProperties>
</file>