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958D-B14A-4C0C-8661-4E676DE9CF3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5FEF-4BF9-494C-9946-C83F3F1D338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CCC1-FF24-4944-AF9F-97C20D5F8BA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94B5-F57C-41F1-BF72-2630C42D9C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D302-0F18-415F-AE22-BBAE9A8F1DF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3B55-15B6-4C5F-838F-47CDEA2CAB5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4F9F-874A-4129-8A90-BC33684C3C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1D1F-7253-4B27-A869-E9F6323E97B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740-5DEB-4389-9C50-9E107331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758-453E-4FA6-AEC4-851BCAD9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08B-015F-45AD-8DB5-8D2255A8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BAE-855A-4D55-BEDB-F82B9A48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C5D-4B5E-472B-A066-D250640B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134-FD4E-4F23-B35F-0A04300B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136-9D3B-4394-A0F2-8767B640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3A2-C659-42DE-85E7-102324DD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3CC-9BD8-49E2-8E15-99254178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4BF-A0FC-4A93-9238-634DEF15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C5A-1CBC-47F2-93B7-05D606EC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910-7670-4016-9383-DFFDCA5B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931D-214D-402B-93F5-D678B02BA9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141800" y="4065480"/>
            <a:ext cx="38268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0"/>
          <p:cNvGrpSpPr/>
          <p:nvPr/>
        </p:nvGrpSpPr>
        <p:grpSpPr>
          <a:xfrm>
            <a:off x="76320" y="-387360"/>
            <a:ext cx="3809880" cy="6477120"/>
            <a:chOff x="76320" y="-387360"/>
            <a:chExt cx="3809880" cy="6477120"/>
          </a:xfrm>
        </p:grpSpPr>
        <p:pic>
          <p:nvPicPr>
            <p:cNvPr id="85" name="Picture 21" descr="typha angustifolia zaad"/>
            <p:cNvPicPr/>
            <p:nvPr/>
          </p:nvPicPr>
          <p:blipFill>
            <a:blip r:embed="rId1"/>
            <a:stretch/>
          </p:blipFill>
          <p:spPr>
            <a:xfrm>
              <a:off x="131760" y="298440"/>
              <a:ext cx="371340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22"/>
            <p:cNvSpPr/>
            <p:nvPr/>
          </p:nvSpPr>
          <p:spPr>
            <a:xfrm>
              <a:off x="76320" y="-387360"/>
              <a:ext cx="38098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24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-622080"/>
            <a:ext cx="2057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3975120" y="189000"/>
            <a:ext cx="5113440" cy="5790600"/>
            <a:chOff x="3975120" y="189000"/>
            <a:chExt cx="5113440" cy="5790600"/>
          </a:xfrm>
        </p:grpSpPr>
        <p:pic>
          <p:nvPicPr>
            <p:cNvPr id="91" name="Picture 14" descr="typha angust bloei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5727600" y="189000"/>
              <a:ext cx="3360960" cy="57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5"/>
            <p:cNvSpPr/>
            <p:nvPr/>
          </p:nvSpPr>
          <p:spPr>
            <a:xfrm>
              <a:off x="5118120" y="420480"/>
              <a:ext cx="609480" cy="54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6"/>
            <p:cNvSpPr/>
            <p:nvPr/>
          </p:nvSpPr>
          <p:spPr>
            <a:xfrm>
              <a:off x="4280040" y="1115280"/>
              <a:ext cx="1084320" cy="162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7"/>
            <p:cNvSpPr/>
            <p:nvPr/>
          </p:nvSpPr>
          <p:spPr>
            <a:xfrm>
              <a:off x="4280040" y="335484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3975120" y="219672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9"/>
            <p:cNvSpPr/>
            <p:nvPr/>
          </p:nvSpPr>
          <p:spPr>
            <a:xfrm>
              <a:off x="4051440" y="103824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ýpha angustifó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g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2"/>
          <p:cNvGrpSpPr/>
          <p:nvPr/>
        </p:nvGrpSpPr>
        <p:grpSpPr>
          <a:xfrm>
            <a:off x="375840" y="-892080"/>
            <a:ext cx="8767800" cy="7178760"/>
            <a:chOff x="375840" y="-892080"/>
            <a:chExt cx="8767800" cy="7178760"/>
          </a:xfrm>
        </p:grpSpPr>
        <p:pic>
          <p:nvPicPr>
            <p:cNvPr id="101" name="Picture 12" descr="C:\Mijn documenten\waterplanten\sagittaria1.jpg"/>
            <p:cNvPicPr/>
            <p:nvPr/>
          </p:nvPicPr>
          <p:blipFill>
            <a:blip r:embed="rId1"/>
            <a:stretch/>
          </p:blipFill>
          <p:spPr>
            <a:xfrm>
              <a:off x="380880" y="-739800"/>
              <a:ext cx="452736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20"/>
            <p:cNvGrpSpPr/>
            <p:nvPr/>
          </p:nvGrpSpPr>
          <p:grpSpPr>
            <a:xfrm>
              <a:off x="609480" y="-892080"/>
              <a:ext cx="8534160" cy="6561000"/>
              <a:chOff x="609480" y="-892080"/>
              <a:chExt cx="8534160" cy="6561000"/>
            </a:xfrm>
          </p:grpSpPr>
          <p:pic>
            <p:nvPicPr>
              <p:cNvPr id="103" name="Picture 8" descr="C:\Mijn documenten\waterplanten\sagittaria2.jpg"/>
              <p:cNvPicPr/>
              <p:nvPr/>
            </p:nvPicPr>
            <p:blipFill>
              <a:blip r:embed="rId2"/>
              <a:stretch/>
            </p:blipFill>
            <p:spPr>
              <a:xfrm>
                <a:off x="609480" y="-54000"/>
                <a:ext cx="853416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Rectangle 19"/>
              <p:cNvSpPr/>
              <p:nvPr/>
            </p:nvSpPr>
            <p:spPr>
              <a:xfrm>
                <a:off x="609480" y="-892080"/>
                <a:ext cx="49525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1"/>
            <p:cNvSpPr/>
            <p:nvPr/>
          </p:nvSpPr>
          <p:spPr>
            <a:xfrm>
              <a:off x="375840" y="373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5" descr="C:\Mijn documenten\waterplanten\sagittaria4.jpg"/>
          <p:cNvPicPr/>
          <p:nvPr/>
        </p:nvPicPr>
        <p:blipFill>
          <a:blip r:embed="rId3"/>
          <a:srcRect l="1953" t="0" r="0" b="0"/>
          <a:stretch/>
        </p:blipFill>
        <p:spPr>
          <a:xfrm>
            <a:off x="0" y="103356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9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gittaria sagittifo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jl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4"/>
          <p:cNvGrpSpPr/>
          <p:nvPr/>
        </p:nvGrpSpPr>
        <p:grpSpPr>
          <a:xfrm>
            <a:off x="0" y="384120"/>
            <a:ext cx="8322840" cy="6629400"/>
            <a:chOff x="0" y="384120"/>
            <a:chExt cx="8322840" cy="6629400"/>
          </a:xfrm>
        </p:grpSpPr>
        <p:pic>
          <p:nvPicPr>
            <p:cNvPr id="113" name="Picture 32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0" y="384120"/>
              <a:ext cx="439560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"/>
            <p:cNvPicPr/>
            <p:nvPr/>
          </p:nvPicPr>
          <p:blipFill>
            <a:blip r:embed="rId2"/>
            <a:stretch/>
          </p:blipFill>
          <p:spPr>
            <a:xfrm>
              <a:off x="5028840" y="1527120"/>
              <a:ext cx="3294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33"/>
            <p:cNvSpPr/>
            <p:nvPr/>
          </p:nvSpPr>
          <p:spPr>
            <a:xfrm>
              <a:off x="4343040" y="384120"/>
              <a:ext cx="761760" cy="66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35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ris pseudaco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"/>
          <p:cNvPicPr/>
          <p:nvPr/>
        </p:nvPicPr>
        <p:blipFill>
          <a:blip r:embed="rId1">
            <a:lum bright="6000"/>
          </a:blip>
          <a:srcRect l="23372" t="10325" r="39266" b="25431"/>
          <a:stretch/>
        </p:blipFill>
        <p:spPr>
          <a:xfrm>
            <a:off x="533520" y="380880"/>
            <a:ext cx="2209680" cy="609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18972" t="0" r="24409" b="14031"/>
          <a:stretch/>
        </p:blipFill>
        <p:spPr>
          <a:xfrm>
            <a:off x="3344760" y="509760"/>
            <a:ext cx="5807160" cy="6095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ntederia cor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oek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52280" y="0"/>
            <a:ext cx="4562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14"/>
          <p:cNvGrpSpPr/>
          <p:nvPr/>
        </p:nvGrpSpPr>
        <p:grpSpPr>
          <a:xfrm>
            <a:off x="2806560" y="184320"/>
            <a:ext cx="6324480" cy="6400800"/>
            <a:chOff x="2806560" y="184320"/>
            <a:chExt cx="6324480" cy="6400800"/>
          </a:xfrm>
        </p:grpSpPr>
        <p:pic>
          <p:nvPicPr>
            <p:cNvPr id="129" name="Picture 12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5168520" y="184320"/>
              <a:ext cx="396252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13"/>
            <p:cNvSpPr/>
            <p:nvPr/>
          </p:nvSpPr>
          <p:spPr>
            <a:xfrm>
              <a:off x="2806560" y="4604040"/>
              <a:ext cx="2361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kstvak 1"/>
          <p:cNvSpPr/>
          <p:nvPr/>
        </p:nvSpPr>
        <p:spPr>
          <a:xfrm>
            <a:off x="457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tamogeton crisp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ntei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calthap6"/>
          <p:cNvPicPr/>
          <p:nvPr/>
        </p:nvPicPr>
        <p:blipFill>
          <a:blip r:embed="rId1"/>
          <a:srcRect l="4185" t="4192" r="4185" b="4192"/>
          <a:stretch/>
        </p:blipFill>
        <p:spPr>
          <a:xfrm>
            <a:off x="14400" y="771480"/>
            <a:ext cx="9129600" cy="6086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6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8"/>
          <p:cNvGrpSpPr/>
          <p:nvPr/>
        </p:nvGrpSpPr>
        <p:grpSpPr>
          <a:xfrm>
            <a:off x="-76320" y="-100080"/>
            <a:ext cx="4953240" cy="6858000"/>
            <a:chOff x="-76320" y="-100080"/>
            <a:chExt cx="4953240" cy="6858000"/>
          </a:xfrm>
        </p:grpSpPr>
        <p:pic>
          <p:nvPicPr>
            <p:cNvPr id="138" name="Picture 16" descr=""/>
            <p:cNvPicPr/>
            <p:nvPr/>
          </p:nvPicPr>
          <p:blipFill>
            <a:blip r:embed="rId1"/>
            <a:stretch/>
          </p:blipFill>
          <p:spPr>
            <a:xfrm>
              <a:off x="-76320" y="-10008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7"/>
            <p:cNvSpPr/>
            <p:nvPr/>
          </p:nvSpPr>
          <p:spPr>
            <a:xfrm>
              <a:off x="3657600" y="-100080"/>
              <a:ext cx="1219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23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2"/>
          <p:cNvGrpSpPr/>
          <p:nvPr/>
        </p:nvGrpSpPr>
        <p:grpSpPr>
          <a:xfrm>
            <a:off x="4518000" y="1052640"/>
            <a:ext cx="4651560" cy="3789360"/>
            <a:chOff x="4518000" y="1052640"/>
            <a:chExt cx="4651560" cy="3789360"/>
          </a:xfrm>
        </p:grpSpPr>
        <p:pic>
          <p:nvPicPr>
            <p:cNvPr id="143" name="Picture 19" descr=""/>
            <p:cNvPicPr/>
            <p:nvPr/>
          </p:nvPicPr>
          <p:blipFill>
            <a:blip r:embed="rId2"/>
            <a:srcRect l="0" t="15595" r="0" b="15049"/>
            <a:stretch/>
          </p:blipFill>
          <p:spPr>
            <a:xfrm>
              <a:off x="4518000" y="1726200"/>
              <a:ext cx="4651560" cy="296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20"/>
            <p:cNvSpPr/>
            <p:nvPr/>
          </p:nvSpPr>
          <p:spPr>
            <a:xfrm>
              <a:off x="4518000" y="1052640"/>
              <a:ext cx="2140200" cy="67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4518000" y="4673520"/>
              <a:ext cx="214020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kstvak 3"/>
          <p:cNvSpPr/>
          <p:nvPr/>
        </p:nvSpPr>
        <p:spPr>
          <a:xfrm>
            <a:off x="471636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ythrum salic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ttenst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tha palustr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dot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nuphar1"/>
          <p:cNvPicPr/>
          <p:nvPr/>
        </p:nvPicPr>
        <p:blipFill>
          <a:blip r:embed="rId1">
            <a:lum bright="6000"/>
          </a:blip>
          <a:srcRect l="4214" t="0" r="0" b="0"/>
          <a:stretch/>
        </p:blipFill>
        <p:spPr>
          <a:xfrm>
            <a:off x="152280" y="981000"/>
            <a:ext cx="5715000" cy="501012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59" name="Text Box 6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333399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333399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13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phar lute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pl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8"/>
          <p:cNvGrpSpPr/>
          <p:nvPr/>
        </p:nvGrpSpPr>
        <p:grpSpPr>
          <a:xfrm>
            <a:off x="-108000" y="720720"/>
            <a:ext cx="8153280" cy="6019920"/>
            <a:chOff x="-108000" y="720720"/>
            <a:chExt cx="8153280" cy="6019920"/>
          </a:xfrm>
        </p:grpSpPr>
        <p:pic>
          <p:nvPicPr>
            <p:cNvPr id="66" name="Picture 9" descr="nymphaea alba"/>
            <p:cNvPicPr/>
            <p:nvPr/>
          </p:nvPicPr>
          <p:blipFill>
            <a:blip r:embed="rId1"/>
            <a:srcRect l="0" t="3289" r="0" b="10619"/>
            <a:stretch/>
          </p:blipFill>
          <p:spPr>
            <a:xfrm>
              <a:off x="-31680" y="1254240"/>
              <a:ext cx="80769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10"/>
            <p:cNvSpPr/>
            <p:nvPr/>
          </p:nvSpPr>
          <p:spPr>
            <a:xfrm>
              <a:off x="-108000" y="720720"/>
              <a:ext cx="45716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11" descr="nymphaea alba2"/>
          <p:cNvPicPr/>
          <p:nvPr/>
        </p:nvPicPr>
        <p:blipFill>
          <a:blip r:embed="rId2"/>
          <a:srcRect l="15330" t="0" r="0" b="21968"/>
          <a:stretch/>
        </p:blipFill>
        <p:spPr>
          <a:xfrm>
            <a:off x="5413320" y="-22320"/>
            <a:ext cx="37306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ymphaea al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tte water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2"/>
          <p:cNvGrpSpPr/>
          <p:nvPr/>
        </p:nvGrpSpPr>
        <p:grpSpPr>
          <a:xfrm>
            <a:off x="380880" y="-531720"/>
            <a:ext cx="8763120" cy="6256080"/>
            <a:chOff x="380880" y="-531720"/>
            <a:chExt cx="8763120" cy="6256080"/>
          </a:xfrm>
        </p:grpSpPr>
        <p:pic>
          <p:nvPicPr>
            <p:cNvPr id="75" name="Picture 23" descr="stratiotes boven water"/>
            <p:cNvPicPr/>
            <p:nvPr/>
          </p:nvPicPr>
          <p:blipFill>
            <a:blip r:embed="rId1"/>
            <a:stretch/>
          </p:blipFill>
          <p:spPr>
            <a:xfrm>
              <a:off x="380880" y="14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4"/>
            <p:cNvSpPr/>
            <p:nvPr/>
          </p:nvSpPr>
          <p:spPr>
            <a:xfrm>
              <a:off x="380880" y="-531720"/>
              <a:ext cx="182520" cy="4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5" descr="stratiotes aloides1"/>
          <p:cNvPicPr/>
          <p:nvPr/>
        </p:nvPicPr>
        <p:blipFill>
          <a:blip r:embed="rId2"/>
          <a:stretch/>
        </p:blipFill>
        <p:spPr>
          <a:xfrm>
            <a:off x="23760" y="121932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8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9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tiotes alo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bbes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9:25:39Z</dcterms:created>
  <dc:creator>johan</dc:creator>
  <dc:description/>
  <dc:language>en-US</dc:language>
  <cp:lastModifiedBy>Hannie Kwant - van der Hulst</cp:lastModifiedBy>
  <dcterms:modified xsi:type="dcterms:W3CDTF">2022-11-28T18:24:43Z</dcterms:modified>
  <cp:revision>20</cp:revision>
  <dc:subject/>
  <dc:title>waterplanten</dc:title>
</cp:coreProperties>
</file>