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76E8-F51A-40F3-8CA3-F7F90D2F49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DD1F-CB3E-4938-9B3E-02443C036F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067C-C6C1-4629-B9D9-3CDA31C1A9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1E9B-F446-44CE-975E-4FA512B81E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1C5F-059E-43BE-84AE-385AD0D55B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0C80-6D8D-4992-9D0E-FC261AAEA1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6D9A-89AA-4694-AFB7-D50D4D1199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508C-66A5-4104-8874-7A532D09EC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3642-9A66-49E0-86B7-42C89C0B1A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4A46-8D08-4811-880B-35B689B251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515-0CD8-47A5-BE0E-C8845955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D1A-B795-4C10-87AB-B87E3D94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1F1-4E0E-47BF-A734-CC9B1BFB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BC7-4C87-4D46-A36E-ABC42DF1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73A-B87D-4490-AFAE-19E499B9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7FD-EFCF-4DE4-979E-CDA6A4DA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4E0-E273-450D-976E-C37E799E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741-0CF4-422C-914B-D9E483EE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F18-D43A-4E84-9C5E-2B2B1378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343-92BA-49EA-AFE5-259644ED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BE4-0577-4CFA-8A65-77E03AC0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DFB-C2DA-4E4E-BE94-B80B1B3C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7764-9868-46F2-83DA-E9DF414FAD3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Hoofdstuk 5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chrij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en zakelijke brief schr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755640" y="655020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© Noordhoff Uitgevers bv 2014                                                                                        3 havo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2F/3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eer je brief aan de hand van de volgende pun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orberei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 schrijfdoel is duidelijk: je doet een mededeling of je hebt een verzoek of een klac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kent de briefconventies voor de indeling van een zakelijk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itwerk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gebruikt de juiste adresseringen: eerst die van jezelf en dan van de geadresseerd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ven de brief staat de plaats (met komma) en de datum (de maand in lette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noemt het onderwerp achter ‘Betreft: …’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gebruikt een correcte aanhe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inleiding vermeldt de aanleiding en de reden om de brief te schrijv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middenstuk werk je het onderwerp u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slot maak je duidelijk wat je met de brief wilt bereik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schrijft kort, beleefd en zakelij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der de brief staat je naam en eventueel je funct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controleert de brief op spel- en typfout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het printen zet je je handtekening (tussen de groet en je naa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Rechthoek 4"/>
          <p:cNvSpPr/>
          <p:nvPr/>
        </p:nvSpPr>
        <p:spPr>
          <a:xfrm>
            <a:off x="863640" y="2205000"/>
            <a:ext cx="7416720" cy="403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ata.boomerang.nl/d/daan1994/image/postzegel-willem-alexander/s600/final-willem-postzegel.jpg"/>
          <p:cNvPicPr/>
          <p:nvPr/>
        </p:nvPicPr>
        <p:blipFill>
          <a:blip r:embed="rId2"/>
          <a:stretch/>
        </p:blipFill>
        <p:spPr>
          <a:xfrm>
            <a:off x="7035840" y="2317680"/>
            <a:ext cx="10303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Tekstvak 6"/>
          <p:cNvSpPr/>
          <p:nvPr/>
        </p:nvSpPr>
        <p:spPr>
          <a:xfrm>
            <a:off x="3276720" y="3757680"/>
            <a:ext cx="551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Rijksmuseum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Afdeling Gevonden voorwer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T.a.v. de heer Wientj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Postbus 748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1070 DN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envelop netjes naam en adres van de geadresse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4"/>
          <p:cNvSpPr/>
          <p:nvPr/>
        </p:nvSpPr>
        <p:spPr>
          <a:xfrm>
            <a:off x="863640" y="2349360"/>
            <a:ext cx="7416720" cy="400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 verbindingslijn 6"/>
          <p:cNvSpPr/>
          <p:nvPr/>
        </p:nvSpPr>
        <p:spPr>
          <a:xfrm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hte verbindingslijn 10"/>
          <p:cNvSpPr/>
          <p:nvPr/>
        </p:nvSpPr>
        <p:spPr>
          <a:xfrm flipV="1"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11"/>
          <p:cNvSpPr/>
          <p:nvPr/>
        </p:nvSpPr>
        <p:spPr>
          <a:xfrm>
            <a:off x="2050920" y="249228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fz. R. van Rijn, Jodenbreestraat 4, 1011 NK Amsterda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539640" y="170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achterkant van de envelop je naam en ad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Een zakelijke brief schrij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ro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is een formele brief met 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zoek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Zou u mij het aanmeldformulier kunnen toezenden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lacht 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Ik ben ontevreden over de kwaliteit van de service van uw medewerker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mededeling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De jaarvergadering van Voetbalclub ‘De Buitenbeentjes’ wordt dit jaar gehouden op 16 december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richt je aan een onbekend persoon of aan een instantie of een bedrij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is kort, beleefd en niet emotione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schrijf je volgens de briefconven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al je schrijfdoel : verzoeken, klagen of meede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aak eventueel een bouwplan waarin je vermeldt wat je wilt schrijven in de inleiding, het middenstuk en het s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meld in de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leidin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de aanleiding en de reden van het schrijven van d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4" name="Tekstvak 4"/>
          <p:cNvSpPr/>
          <p:nvPr/>
        </p:nvSpPr>
        <p:spPr>
          <a:xfrm>
            <a:off x="900000" y="2708280"/>
            <a:ext cx="705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aanleiding</a:t>
            </a: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)Onlangs ben ik een schilderij kwijtgeraakt, toen ik bij u op bezoek was.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van uw collega’s wist mij via de telefoon te melden dat het schilderij gevonden is. (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rede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) Middels deze brief verzoek ik u mij dat schilderij toe te stu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iddenstu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je verzoek, klacht of mededeling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middenstuk kan uit meerdere alinea’s besta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932040" y="2708280"/>
            <a:ext cx="7272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schilderij heeft een afmeting van 17 bij 22 centimeter en is met olieverf geschilderd. Het betreft een zelfportret uit mijn jonge ja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verzoek u vriendelijk het schilderij zorgvuldig te verpakken, zodat het onderweg niet beschadigd raak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eraard zal ik alle gemaakte kosten voor de verzending vergoeden. Mijn adresgegevens vindt u bovenaan de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aan wat je met de brief wilt berei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 herhalen van je verzoek, vragen om reactie en bedanken voor de medewer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4"/>
          <p:cNvSpPr/>
          <p:nvPr/>
        </p:nvSpPr>
        <p:spPr>
          <a:xfrm>
            <a:off x="876240" y="2774880"/>
            <a:ext cx="727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hoop dat u mij het schilderij zo spoedig mogelijk toestuurt. Ik hoor graag van u. Bij voorbaat da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el de brief als volgt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gen naam en 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evens geadresse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aats en da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werp: ‘Betreft:…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h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rief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tek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lage(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427640" y="1230480"/>
            <a:ext cx="4105080" cy="62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Jodenbreestraat 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11 NK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B) Rijksmuseum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Afdeling  Gevonden voorwerp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T.a.v. de heer Wient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Postbus 7488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70 DN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C) Amsterdam, 15 december 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D) Betreft: gevonden schilderi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E) Geachte heer Wientje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F) Inleiding: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Middenstuk: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Slot: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G) Met vriendelijke groet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H)   </a:t>
            </a:r>
            <a:r>
              <a:rPr b="0" lang="nl-NL" sz="1100" spc="-1" strike="noStrike">
                <a:solidFill>
                  <a:srgbClr val="000000"/>
                </a:solidFill>
                <a:latin typeface="Lucida Handwriting"/>
              </a:rPr>
              <a:t>R.v.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J) Bijlage: 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ips bij het schrij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k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beleefd (gebruik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uik geen spreektaal (dus goede en niet goe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aan de regels voor hoofdletters en interpunct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gin de brief niet met ‘Ik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er j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49:15Z</dcterms:created>
  <dc:creator>Anouk de Kleijn</dc:creator>
  <dc:description/>
  <dc:language>en-US</dc:language>
  <cp:lastModifiedBy>Rajâa Ourchane</cp:lastModifiedBy>
  <dcterms:modified xsi:type="dcterms:W3CDTF">2022-12-04T12:42:22Z</dcterms:modified>
  <cp:revision>40</cp:revision>
  <dc:subject/>
  <dc:title>Hoofdstuk 5  Paragraaf Schrijven</dc:title>
</cp:coreProperties>
</file>