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D12F-A69A-4BA5-A078-CAB0D73156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43F0-93E2-43C0-8DA4-17A6C63501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890D-5688-42D9-8F5F-063C668A9B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82EE-6698-4A2F-95D1-4E13C8B962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28ED-0B12-4E7B-BC45-FC33AB39AF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0C69-D7C0-40D3-A93E-F5B3179D35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93BF-68A0-4D1C-8BB1-04F9016DA8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A02F-F603-498A-9E1D-5926558E17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22A8-0745-41F4-B7F8-5989B406D6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C37A-2B68-40A1-A7C7-2AE4264F38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D129-445E-4B70-8A21-1F82D787D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8922-B29B-4A81-B8FE-953A6783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133F-B093-4346-9817-9DE71B457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CFEC-B44C-4F39-8949-493BB3336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7688-90AF-452C-B41C-602DA36B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DF58-CE19-4863-93F6-61888DB2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4B33-EEB8-4FDB-A33E-A794FA3B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089D-9F5D-4DAF-93A9-50EB88F8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C4FF-1774-48A5-9F2E-37115853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86F5-3D94-4DB6-812A-08D29846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82CB-0E6A-40E4-8CDA-E5C0BC76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E80C-16A7-4A9D-A96D-3583357A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4E33-10A8-4C28-8AC6-944CCDDC8E02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Hoofdstuk 5 </a:t>
            </a:r>
            <a:br>
              <a:rPr sz="3600"/>
            </a:b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Schrijv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Een zakelijke brief schrijv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51" name="Tekstvak 4"/>
          <p:cNvSpPr/>
          <p:nvPr/>
        </p:nvSpPr>
        <p:spPr>
          <a:xfrm>
            <a:off x="755640" y="6550200"/>
            <a:ext cx="80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© Noordhoff Uitgevers bv 2014                                                                                        3 havo</a:t>
            </a: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2F/3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Contro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eer je brief aan de hand van de volgende punte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oorbereid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t schrijfdoel is duidelijk: je doet een mededeling of je hebt een verzoek of een klach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 kent de briefconventies voor de indeling van een zakelijke brie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itwerk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 gebruikt de juiste adresseringen: eerst die van jezelf en dan van de geadresseerde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Contro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oven de brief staat de plaats (met komma) en de datum (de maand in letter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e noemt het onderwerp achter ‘Betreft: …’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e gebruikt een correcte aanhef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 inleiding vermeldt de aanleiding en de reden om de brief te schrijve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het middenstuk werk je het onderwerp u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het slot maak je duidelijk wat je met de brief wilt bereike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e schrijft kort, beleefd en zakelijk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nder de brief staat je naam en eventueel je functi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e controleert de brief op spel- en typfoute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 het printen zet je je handtekening (tussen de groet en je naam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Afron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88" name="Rechthoek 4"/>
          <p:cNvSpPr/>
          <p:nvPr/>
        </p:nvSpPr>
        <p:spPr>
          <a:xfrm>
            <a:off x="863640" y="2205000"/>
            <a:ext cx="7416720" cy="4032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http://data.boomerang.nl/d/daan1994/image/postzegel-willem-alexander/s600/final-willem-postzegel.jpg"/>
          <p:cNvPicPr/>
          <p:nvPr/>
        </p:nvPicPr>
        <p:blipFill>
          <a:blip r:embed="rId2"/>
          <a:stretch/>
        </p:blipFill>
        <p:spPr>
          <a:xfrm>
            <a:off x="7035840" y="2317680"/>
            <a:ext cx="1030320" cy="1440000"/>
          </a:xfrm>
          <a:prstGeom prst="rect">
            <a:avLst/>
          </a:prstGeom>
          <a:ln w="0">
            <a:noFill/>
          </a:ln>
        </p:spPr>
      </p:pic>
      <p:sp>
        <p:nvSpPr>
          <p:cNvPr id="90" name="Tekstvak 6"/>
          <p:cNvSpPr/>
          <p:nvPr/>
        </p:nvSpPr>
        <p:spPr>
          <a:xfrm>
            <a:off x="3276720" y="3757680"/>
            <a:ext cx="5510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Handwriting"/>
              </a:rPr>
              <a:t>Rijksmuseum Amsterd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Handwriting"/>
              </a:rPr>
              <a:t>Afdeling Gevonden voorwerp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Handwriting"/>
              </a:rPr>
              <a:t>T.a.v. de heer Wientj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Handwriting"/>
              </a:rPr>
              <a:t>Postbus 7488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Handwriting"/>
              </a:rPr>
              <a:t>1070 DN Amsterd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kstvak 7"/>
          <p:cNvSpPr/>
          <p:nvPr/>
        </p:nvSpPr>
        <p:spPr>
          <a:xfrm>
            <a:off x="250920" y="162864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chrijf op de envelop netjes naam en adres van de geadresseerd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Afron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94" name="Rechthoek 4"/>
          <p:cNvSpPr/>
          <p:nvPr/>
        </p:nvSpPr>
        <p:spPr>
          <a:xfrm>
            <a:off x="863640" y="2349360"/>
            <a:ext cx="7416720" cy="400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hte verbindingslijn 6"/>
          <p:cNvSpPr/>
          <p:nvPr/>
        </p:nvSpPr>
        <p:spPr>
          <a:xfrm>
            <a:off x="863640" y="2349360"/>
            <a:ext cx="7416720" cy="400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hte verbindingslijn 10"/>
          <p:cNvSpPr/>
          <p:nvPr/>
        </p:nvSpPr>
        <p:spPr>
          <a:xfrm flipV="1">
            <a:off x="863640" y="2349360"/>
            <a:ext cx="7416720" cy="400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kstvak 11"/>
          <p:cNvSpPr/>
          <p:nvPr/>
        </p:nvSpPr>
        <p:spPr>
          <a:xfrm>
            <a:off x="2050920" y="2492280"/>
            <a:ext cx="54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fz. R. van Rijn, Jodenbreestraat 4, 1011 NK Amsterda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kstvak 12"/>
          <p:cNvSpPr/>
          <p:nvPr/>
        </p:nvSpPr>
        <p:spPr>
          <a:xfrm>
            <a:off x="539640" y="170028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chrijf op de achterkant van de envelop je naam en ad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Een zakelijke brief schrijv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at is een zakelijke brief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Contr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frond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Wat is een zakelijke brief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en zakelijke brief is een formele brief met ee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Verzoek: (</a:t>
            </a:r>
            <a:r>
              <a:rPr b="0" lang="nl-NL" sz="2200" spc="-1" strike="noStrike">
                <a:solidFill>
                  <a:srgbClr val="ff0000"/>
                </a:solidFill>
                <a:latin typeface="Calibri"/>
              </a:rPr>
              <a:t>Zou u mij het aanmeldformulier kunnen toezenden?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lacht : (</a:t>
            </a:r>
            <a:r>
              <a:rPr b="0" lang="nl-NL" sz="2200" spc="-1" strike="noStrike">
                <a:solidFill>
                  <a:srgbClr val="ff0000"/>
                </a:solidFill>
                <a:latin typeface="Calibri"/>
              </a:rPr>
              <a:t>Ik ben ontevreden over de kwaliteit van de service van uw medewerkers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f mededeling: (</a:t>
            </a:r>
            <a:r>
              <a:rPr b="0" lang="nl-NL" sz="2200" spc="-1" strike="noStrike">
                <a:solidFill>
                  <a:srgbClr val="ff0000"/>
                </a:solidFill>
                <a:latin typeface="Calibri"/>
              </a:rPr>
              <a:t>De jaarvergadering van Voetbalclub ‘De Buitenbeentjes’ wordt dit jaar gehouden op 16 december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en zakelijke brief richt je aan een onbekend persoon of aan een instantie of een bedrijf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brief is kort, beleefd en niet emotionee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brief schrijf je volgens de briefconventi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epaal je schrijfdoel : verzoeken, klagen of meedel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Maak eventueel een bouwplan waarin je vermeldt wat je wilt schrijven in de inleiding, het middenstuk en het slo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ermeld in de </a:t>
            </a: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inleiding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de aanleiding en de reden van het schrijven van de brie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64" name="Tekstvak 4"/>
          <p:cNvSpPr/>
          <p:nvPr/>
        </p:nvSpPr>
        <p:spPr>
          <a:xfrm>
            <a:off x="900000" y="2708280"/>
            <a:ext cx="70567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nl-NL" sz="2000" spc="-1" strike="noStrike">
                <a:solidFill>
                  <a:srgbClr val="ff0000"/>
                </a:solidFill>
                <a:latin typeface="Calibri"/>
              </a:rPr>
              <a:t>aanleiding</a:t>
            </a:r>
            <a:r>
              <a:rPr b="0" lang="nl-NL" sz="2000" spc="-1" strike="noStrike">
                <a:solidFill>
                  <a:srgbClr val="ff0000"/>
                </a:solidFill>
                <a:latin typeface="Calibri"/>
              </a:rPr>
              <a:t>)Onlangs ben ik een schilderij kwijtgeraakt, toen ik bij u op bezoek was.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van uw collega’s wist mij via de telefoon te melden dat het schilderij gevonden is. (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reden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) Middels deze brief verzoek ik u mij dat schilderij toe te stu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rk in het </a:t>
            </a: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middenstuk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je verzoek, klacht of mededeling u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et middenstuk kan uit meerdere alinea’s bestaa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68" name="Tekstvak 4"/>
          <p:cNvSpPr/>
          <p:nvPr/>
        </p:nvSpPr>
        <p:spPr>
          <a:xfrm>
            <a:off x="932040" y="2708280"/>
            <a:ext cx="7272000" cy="25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schilderij heeft een afmeting van 17 bij 22 centimeter en is met olieverf geschilderd. Het betreft een zelfportret uit mijn jonge ja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k verzoek u vriendelijk het schilderij zorgvuldig te verpakken, zodat het onderweg niet beschadigd raak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iteraard zal ik alle gemaakte kosten voor de verzending vergoeden. Mijn adresgegevens vindt u bovenaan de brief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ef in het </a:t>
            </a: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slo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aan wat je met de brief wilt bereik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( herhalen van je verzoek, vragen om reactie en bedanken voor de medewerk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72" name="Tekstvak 4"/>
          <p:cNvSpPr/>
          <p:nvPr/>
        </p:nvSpPr>
        <p:spPr>
          <a:xfrm>
            <a:off x="876240" y="2774880"/>
            <a:ext cx="72741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k hoop dat u mij het schilderij zo spoedig mogelijk toestuurt. Ik hoor graag van u. Bij voorbaat dan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el de brief als volgt i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igen naam en ad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gevens geadresseer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Plaats en dat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nderwerp: ‘Betreft:…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anh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brieftek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fslui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nderteke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a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jlage(n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76" name="Tekstvak 4"/>
          <p:cNvSpPr/>
          <p:nvPr/>
        </p:nvSpPr>
        <p:spPr>
          <a:xfrm>
            <a:off x="4427640" y="1230480"/>
            <a:ext cx="4105080" cy="628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Richard van Rij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Jodenbreestraat 4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1011 NK Amsterda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B) Rijksmuseum Amsterda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Afdeling  Gevonden voorwerp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T.a.v. de heer Wient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Postbus 7488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1070 DN Amsterda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C) Amsterdam, 15 december 202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D) Betreft: gevonden schilderij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E) Geachte heer Wientjes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F) Inleiding:---------------------------------------------------------------------------------------------------------------------------------------------------------------------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Middenstuk: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Slot:-------------------------------------------------------------------------------------------------------------------------------------------------------------------------------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G) Met vriendelijke groet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H)   </a:t>
            </a:r>
            <a:r>
              <a:rPr b="0" lang="nl-NL" sz="1100" spc="-1" strike="noStrike">
                <a:solidFill>
                  <a:srgbClr val="000000"/>
                </a:solidFill>
                <a:latin typeface="Lucida Handwriting"/>
              </a:rPr>
              <a:t>R.v.Rij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Richard van Rij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J) Bijlage: x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ips bij het schrijve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ud de brief kor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ud de brief beleefd (gebruik </a:t>
            </a:r>
            <a:r>
              <a:rPr b="0" i="1" lang="nl-NL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bruik geen spreektaal (dus goede en niet goei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nk aan de regels voor hoofdletters en interpunct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egin de brief niet met ‘Ik’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Controleer je brie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07:49:15Z</dcterms:created>
  <dc:creator>Anouk de Kleijn</dc:creator>
  <dc:description/>
  <dc:language>en-US</dc:language>
  <cp:lastModifiedBy>Rajâa Ourchane</cp:lastModifiedBy>
  <dcterms:modified xsi:type="dcterms:W3CDTF">2022-12-04T12:42:22Z</dcterms:modified>
  <cp:revision>40</cp:revision>
  <dc:subject/>
  <dc:title>Hoofdstuk 5  Paragraaf Schrijven</dc:title>
</cp:coreProperties>
</file>