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787B-B7A2-4AC8-AC29-226331F798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D51B-00FB-4CD1-94CE-766F6B0E0A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FD51-334E-4C4C-9197-817B889C14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A0F0-C6FF-4A75-B5F7-D1EB039DC9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0850-9EC5-43CE-81FA-3349C6DFD4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4D51-9F3B-4EFD-88B1-4DF5E7D516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00B3-F654-4F90-A304-06127FA4B5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3E67-304B-4700-899C-B90828B67F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F205-E43A-4AAA-98CB-DEEDD8E901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56C0-1F68-41EC-8BB6-90DCE3FDD5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17D-ACC6-4FF1-979A-929966D6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934A-D236-443D-BB78-D8C26FD6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A25-76F5-4A22-BC09-FA1856D5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F4D-3A3A-46A3-840C-9FAA81C0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069-F709-40DF-8CE6-DBDF0622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03E7-3954-41BE-99BC-8D9C6901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F78D-E4C4-4350-94D3-FDB5E3F3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885-2399-4099-8913-7FF0E46C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9BED-B443-4611-B018-CB2BA7BC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DF4-DEA2-4EBF-8384-1A0DF042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8FCC-7886-4BBE-80DA-DBAE99FC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00E3-1BFB-4C2C-A201-F90495FE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30B6-EA3F-461F-8284-5B83B52C49C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Hoofdstuk 5 </a:t>
            </a: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Schrijv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Een zakelijke brief schrij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51" name="Tekstvak 4"/>
          <p:cNvSpPr/>
          <p:nvPr/>
        </p:nvSpPr>
        <p:spPr>
          <a:xfrm>
            <a:off x="755640" y="655020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© Noordhoff Uitgevers bv 2014                                                                                        3 havo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2F/3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eer je brief aan de hand van de volgende punt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oorbereid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t schrijfdoel is duidelijk: je doet een mededeling of je hebt een verzoek of een klac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kent de briefconventies voor de indeling van een zakelijk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itwerk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gebruikt de juiste adresseringen: eerst die van jezelf en dan van de geadresseerde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oven de brief staat de plaats (met komma) en de datum (de maand in letter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noemt het onderwerp achter ‘Betreft: …’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gebruikt een correcte aanhe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 inleiding vermeldt de aanleiding en de reden om de brief te schrijv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het middenstuk werk je het onderwerp u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het slot maak je duidelijk wat je met de brief wilt bereik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schrijft kort, beleefd en zakelij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der de brief staat je naam en eventueel je funct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controleert de brief op spel- en typfout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 het printen zet je je handtekening (tussen de groet en je naam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Afro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88" name="Rechthoek 4"/>
          <p:cNvSpPr/>
          <p:nvPr/>
        </p:nvSpPr>
        <p:spPr>
          <a:xfrm>
            <a:off x="863640" y="2205000"/>
            <a:ext cx="7416720" cy="403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data.boomerang.nl/d/daan1994/image/postzegel-willem-alexander/s600/final-willem-postzegel.jpg"/>
          <p:cNvPicPr/>
          <p:nvPr/>
        </p:nvPicPr>
        <p:blipFill>
          <a:blip r:embed="rId2"/>
          <a:stretch/>
        </p:blipFill>
        <p:spPr>
          <a:xfrm>
            <a:off x="7035840" y="2317680"/>
            <a:ext cx="1030320" cy="1440000"/>
          </a:xfrm>
          <a:prstGeom prst="rect">
            <a:avLst/>
          </a:prstGeom>
          <a:ln w="0">
            <a:noFill/>
          </a:ln>
        </p:spPr>
      </p:pic>
      <p:sp>
        <p:nvSpPr>
          <p:cNvPr id="90" name="Tekstvak 6"/>
          <p:cNvSpPr/>
          <p:nvPr/>
        </p:nvSpPr>
        <p:spPr>
          <a:xfrm>
            <a:off x="3276720" y="3757680"/>
            <a:ext cx="5510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Rijksmuseum Ams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Afdeling Gevonden voorwerp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T.a.v. de heer Wientj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Postbus 7488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1070 DN Ams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kstvak 7"/>
          <p:cNvSpPr/>
          <p:nvPr/>
        </p:nvSpPr>
        <p:spPr>
          <a:xfrm>
            <a:off x="250920" y="1628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jf op de envelop netjes naam en adres van de geadresseer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Afro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94" name="Rechthoek 4"/>
          <p:cNvSpPr/>
          <p:nvPr/>
        </p:nvSpPr>
        <p:spPr>
          <a:xfrm>
            <a:off x="863640" y="2349360"/>
            <a:ext cx="7416720" cy="400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hte verbindingslijn 6"/>
          <p:cNvSpPr/>
          <p:nvPr/>
        </p:nvSpPr>
        <p:spPr>
          <a:xfrm>
            <a:off x="863640" y="2349360"/>
            <a:ext cx="7416720" cy="400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hte verbindingslijn 10"/>
          <p:cNvSpPr/>
          <p:nvPr/>
        </p:nvSpPr>
        <p:spPr>
          <a:xfrm flipV="1">
            <a:off x="863640" y="2349360"/>
            <a:ext cx="7416720" cy="400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kstvak 11"/>
          <p:cNvSpPr/>
          <p:nvPr/>
        </p:nvSpPr>
        <p:spPr>
          <a:xfrm>
            <a:off x="2050920" y="249228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fz. R. van Rijn, Jodenbreestraat 4, 1011 NK Amsterda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kstvak 12"/>
          <p:cNvSpPr/>
          <p:nvPr/>
        </p:nvSpPr>
        <p:spPr>
          <a:xfrm>
            <a:off x="539640" y="1700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jf op de achterkant van de envelop je naam en ad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Een zakelijke brief schrijv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t is een zakelijke brief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fron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Wat is een zakelijke brief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zakelijke brief is een formele brief met ee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rzoek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Zou u mij het aanmeldformulier kunnen toezenden?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lacht 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Ik ben ontevreden over de kwaliteit van de service van uw medewerkers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mededeling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De jaarvergadering van Voetbalclub ‘De Buitenbeentjes’ wordt dit jaar gehouden op 16 december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zakelijke brief richt je aan een onbekend persoon of aan een instantie of een bedrij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brief is kort, beleefd en niet emotione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brief schrijf je volgens de briefconven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paal je schrijfdoel : verzoeken, klagen of meedel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aak eventueel een bouwplan waarin je vermeldt wat je wilt schrijven in de inleiding, het middenstuk en het slo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meld in de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nleiding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de aanleiding en de reden van het schrijven van d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64" name="Tekstvak 4"/>
          <p:cNvSpPr/>
          <p:nvPr/>
        </p:nvSpPr>
        <p:spPr>
          <a:xfrm>
            <a:off x="900000" y="2708280"/>
            <a:ext cx="705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aanleiding</a:t>
            </a:r>
            <a:r>
              <a:rPr b="0" lang="nl-NL" sz="2000" spc="-1" strike="noStrike">
                <a:solidFill>
                  <a:srgbClr val="ff0000"/>
                </a:solidFill>
                <a:latin typeface="Calibri"/>
              </a:rPr>
              <a:t>)Onlangs ben ik een schilderij kwijtgeraakt, toen ik bij u op bezoek was.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van uw collega’s wist mij via de telefoon te melden dat het schilderij gevonden is. (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reden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) Middels deze brief verzoek ik u mij dat schilderij toe te stu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rk in het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middenstuk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je verzoek, klacht of mededeling 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middenstuk kan uit meerdere alinea’s besta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68" name="Tekstvak 4"/>
          <p:cNvSpPr/>
          <p:nvPr/>
        </p:nvSpPr>
        <p:spPr>
          <a:xfrm>
            <a:off x="932040" y="2708280"/>
            <a:ext cx="727200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schilderij heeft een afmeting van 17 bij 22 centimeter en is met olieverf geschilderd. Het betreft een zelfportret uit mijn jonge ja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k verzoek u vriendelijk het schilderij zorgvuldig te verpakken, zodat het onderweg niet beschadigd raak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iteraard zal ik alle gemaakte kosten voor de verzending vergoeden. Mijn adresgegevens vindt u bovenaan de brie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ef in het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aan wat je met de brief wilt bereik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 herhalen van je verzoek, vragen om reactie en bedanken voor de medewer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72" name="Tekstvak 4"/>
          <p:cNvSpPr/>
          <p:nvPr/>
        </p:nvSpPr>
        <p:spPr>
          <a:xfrm>
            <a:off x="876240" y="2774880"/>
            <a:ext cx="7274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k hoop dat u mij het schilderij zo spoedig mogelijk toestuurt. Ik hoor graag van u. Bij voorbaat dan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el de brief als volgt 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igen naam en ad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gevens geadresseer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laats en dat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erwerp: ‘Betreft:…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anh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brieftek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fslui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ertek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lage(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76" name="Tekstvak 4"/>
          <p:cNvSpPr/>
          <p:nvPr/>
        </p:nvSpPr>
        <p:spPr>
          <a:xfrm>
            <a:off x="4427640" y="1230480"/>
            <a:ext cx="4105080" cy="628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Richard van 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Jodenbreestraat 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1011 NK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B) Rijksmuseum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Afdeling  Gevonden voorwerp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T.a.v. de heer Wient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Postbus 7488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1070 DN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C) Amsterdam, 15 december 20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D) Betreft: gevonden schilderij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E) Geachte heer Wientjes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F) Inleiding: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Middenstuk: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Slot:----------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G) Met vriendelijke groet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H)   </a:t>
            </a:r>
            <a:r>
              <a:rPr b="0" lang="nl-NL" sz="1100" spc="-1" strike="noStrike">
                <a:solidFill>
                  <a:srgbClr val="000000"/>
                </a:solidFill>
                <a:latin typeface="Lucida Handwriting"/>
              </a:rPr>
              <a:t>R.v.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Richard van 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J) Bijlage: x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ips bij het schrijv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ud de brief ko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ud de brief beleefd (gebruik 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bruik geen spreektaal (dus goede en niet goei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nk aan de regels voor hoofdletters en interpunct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gin de brief niet met ‘Ik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ntroleer j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7:49:15Z</dcterms:created>
  <dc:creator>Anouk de Kleijn</dc:creator>
  <dc:description/>
  <dc:language>en-US</dc:language>
  <cp:lastModifiedBy>Rajâa Ourchane</cp:lastModifiedBy>
  <dcterms:modified xsi:type="dcterms:W3CDTF">2022-12-04T12:42:22Z</dcterms:modified>
  <cp:revision>40</cp:revision>
  <dc:subject/>
  <dc:title>Hoofdstuk 5  Paragraaf Schrijven</dc:title>
</cp:coreProperties>
</file>