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015D2-B13C-479B-AFAA-A42F8B24F567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BB5C-BC3B-47B7-9F67-C7F4C02D7EAA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1F76-48E0-4F92-9359-CD3BD73B71DB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C6AB4-97DE-40D7-984F-7F1671BC933C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F4E1E-E26F-48AE-9350-F8900326AD86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B10C1-3341-4B3D-8EA5-C7913739EDF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2007B-6F63-425A-A387-1D23DDB25298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5350-9F9E-4F59-AABA-437B1DD79834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BFC0B-3911-49E2-BF95-57E936DA0601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Tijdelijke aanduiding voor dianumm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F8C26-97D3-4D1F-BD6D-199D1E77C8A5}" type="slidenum">
              <a:rPr b="0" lang="nl-NL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9CBB2-9B54-4322-A2E7-50B8C6B09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6DE77-3029-47CC-8A03-BBBA0F177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92B0-F50D-488D-B5D1-0564C2B0C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F75-D0A2-4BF2-811A-9F0FCCAF5C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AE89-2CCC-4171-AD82-482F13931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5A43A-215E-4D95-A8C5-1541893BB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FF912-59F5-4DDB-ADEA-6D24E010A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3A4B7-679F-4972-AF73-FC60BDE77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57D2-8D5B-45FF-96D5-865050954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C02F-6BC4-40CD-AB4A-8ACC3E73B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298C-5472-4C9D-9796-3D6E26AA7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7FEA-1C7A-4C01-8D0F-68572F831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71908-A759-4937-B023-D5ACE9287F22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Hoofdstuk 5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alibri"/>
              </a:rPr>
              <a:t>Schrijve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898989"/>
                </a:solidFill>
                <a:latin typeface="Calibri"/>
              </a:rPr>
              <a:t>Een zakelijke brief schrijv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51" name="Tekstvak 4"/>
          <p:cNvSpPr/>
          <p:nvPr/>
        </p:nvSpPr>
        <p:spPr>
          <a:xfrm>
            <a:off x="755640" y="6550200"/>
            <a:ext cx="8064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© Noordhoff Uitgevers bv 2014                                                                                        3 havo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	</a:t>
            </a:r>
            <a:r>
              <a:rPr b="0" lang="en-US" sz="1200" spc="-1" strike="noStrike">
                <a:solidFill>
                  <a:srgbClr val="a6a6a6"/>
                </a:solidFill>
                <a:latin typeface="Arial"/>
                <a:ea typeface="Arial"/>
              </a:rPr>
              <a:t>2F/3F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eer je brief aan de hand van de volgende punt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Voorbereid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Het schrijfdoel is duidelijk: je doet een mededeling of je hebt een verzoek of een klach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kent de briefconventies voor de indeling van een zakelijk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Uitwerking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Je gebruikt de juiste adresseringen: eerst die van jezelf en dan van de geadresseerde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Boven de brief staat de plaats (met komma) en de datum (de maand in letters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noemt het onderwerp achter ‘Betreft: …’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gebruikt een correcte aanhe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 inleiding vermeldt de aanleiding en de reden om de brief te schrijv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middenstuk werk je het onderwerp uit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n het slot maak je duidelijk wat je met de brief wilt bereik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schrijft kort, beleefd en zakelijk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Onder de brief staat je naam en eventueel je functie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Je controleert de brief op spel- en typfouten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a het printen zet je je handtekening (tussen de groet en je naam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88" name="Rechthoek 4"/>
          <p:cNvSpPr/>
          <p:nvPr/>
        </p:nvSpPr>
        <p:spPr>
          <a:xfrm>
            <a:off x="863640" y="2205000"/>
            <a:ext cx="7416720" cy="403236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http://data.boomerang.nl/d/daan1994/image/postzegel-willem-alexander/s600/final-willem-postzegel.jpg"/>
          <p:cNvPicPr/>
          <p:nvPr/>
        </p:nvPicPr>
        <p:blipFill>
          <a:blip r:embed="rId2"/>
          <a:stretch/>
        </p:blipFill>
        <p:spPr>
          <a:xfrm>
            <a:off x="7035840" y="2317680"/>
            <a:ext cx="1030320" cy="1440000"/>
          </a:xfrm>
          <a:prstGeom prst="rect">
            <a:avLst/>
          </a:prstGeom>
          <a:ln w="0">
            <a:noFill/>
          </a:ln>
        </p:spPr>
      </p:pic>
      <p:sp>
        <p:nvSpPr>
          <p:cNvPr id="90" name="Tekstvak 6"/>
          <p:cNvSpPr/>
          <p:nvPr/>
        </p:nvSpPr>
        <p:spPr>
          <a:xfrm>
            <a:off x="3276720" y="3757680"/>
            <a:ext cx="551016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Rijksmuseum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Afdeling Gevonden voorwerpe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T.a.v. de heer Wientj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Postbus 7488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Lucida Handwriting"/>
              </a:rPr>
              <a:t>1070 DN Amsterd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Tekstvak 7"/>
          <p:cNvSpPr/>
          <p:nvPr/>
        </p:nvSpPr>
        <p:spPr>
          <a:xfrm>
            <a:off x="250920" y="1628640"/>
            <a:ext cx="864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envelop netjes naam en adres van de geadresseerd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Afronding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94" name="Rechthoek 4"/>
          <p:cNvSpPr/>
          <p:nvPr/>
        </p:nvSpPr>
        <p:spPr>
          <a:xfrm>
            <a:off x="863640" y="2349360"/>
            <a:ext cx="7416720" cy="4003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hte verbindingslijn 6"/>
          <p:cNvSpPr/>
          <p:nvPr/>
        </p:nvSpPr>
        <p:spPr>
          <a:xfrm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Rechte verbindingslijn 10"/>
          <p:cNvSpPr/>
          <p:nvPr/>
        </p:nvSpPr>
        <p:spPr>
          <a:xfrm flipV="1">
            <a:off x="863640" y="2349360"/>
            <a:ext cx="7416720" cy="400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kstvak 11"/>
          <p:cNvSpPr/>
          <p:nvPr/>
        </p:nvSpPr>
        <p:spPr>
          <a:xfrm>
            <a:off x="2050920" y="2492280"/>
            <a:ext cx="5400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0000"/>
                </a:solidFill>
                <a:latin typeface="Lucida Handwriting"/>
              </a:rPr>
              <a:t>Afz. R. van Rijn, Jodenbreestraat 4, 1011 NK Amsterdam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kstvak 12"/>
          <p:cNvSpPr/>
          <p:nvPr/>
        </p:nvSpPr>
        <p:spPr>
          <a:xfrm>
            <a:off x="539640" y="1700280"/>
            <a:ext cx="792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Schrijf op de achterkant van de envelop je naam en adr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Een zakelijke brief schrijven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Afronding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Wat is een zakelijke brief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is een formele brief met een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Verzoek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Zou u mij het aanmeldformulier kunnen toezenden?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klacht 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Ik ben ontevreden over de kwaliteit van de service van uw medewerkers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of mededeling: (</a:t>
            </a:r>
            <a:r>
              <a:rPr b="0" lang="nl-NL" sz="2200" spc="-1" strike="noStrike">
                <a:solidFill>
                  <a:srgbClr val="ff0000"/>
                </a:solidFill>
                <a:latin typeface="Calibri"/>
              </a:rPr>
              <a:t>De jaarvergadering van Voetbalclub ‘De Buitenbeentjes’ wordt dit jaar gehouden op 16 december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Een zakelijke brief richt je aan een onbekend persoon of aan een instantie of een bedrijf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is kort, beleefd en niet emotioneel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alibri"/>
              </a:rPr>
              <a:t>De brief schrijf je volgens de briefconventie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paal je schrijfdoel : verzoeken, klagen of meedele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Maak eventueel een bouwplan waarin je vermeldt wat je wilt schrijven in de inleiding, het middenstuk en het slo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Vermeld in de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inleiding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de aanleiding en de reden van het schrijven van d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3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4" name="Tekstvak 4"/>
          <p:cNvSpPr/>
          <p:nvPr/>
        </p:nvSpPr>
        <p:spPr>
          <a:xfrm>
            <a:off x="900000" y="2708280"/>
            <a:ext cx="7056720" cy="131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(</a:t>
            </a:r>
            <a:r>
              <a:rPr b="1" lang="nl-NL" sz="2000" spc="-1" strike="noStrike">
                <a:solidFill>
                  <a:srgbClr val="ff0000"/>
                </a:solidFill>
                <a:latin typeface="Calibri"/>
              </a:rPr>
              <a:t>aanleiding</a:t>
            </a:r>
            <a:r>
              <a:rPr b="0" lang="nl-NL" sz="2000" spc="-1" strike="noStrike">
                <a:solidFill>
                  <a:srgbClr val="ff0000"/>
                </a:solidFill>
                <a:latin typeface="Calibri"/>
              </a:rPr>
              <a:t>)Onlangs ben ik een schilderij kwijtgeraakt, toen ik bij u op bezoek was. 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en van uw collega’s wist mij via de telefoon te melden dat het schilderij gevonden is. (</a:t>
            </a:r>
            <a:r>
              <a:rPr b="1" lang="nl-NL" sz="2000" spc="-1" strike="noStrike">
                <a:solidFill>
                  <a:srgbClr val="000000"/>
                </a:solidFill>
                <a:latin typeface="Calibri"/>
              </a:rPr>
              <a:t>reden</a:t>
            </a: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) Middels deze brief verzoek ik u mij dat schilderij toe te stu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Werk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middenstuk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je verzoek, klacht of mededeling ui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et middenstuk kan uit meerdere alinea’s bestaan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68" name="Tekstvak 4"/>
          <p:cNvSpPr/>
          <p:nvPr/>
        </p:nvSpPr>
        <p:spPr>
          <a:xfrm>
            <a:off x="932040" y="2708280"/>
            <a:ext cx="7272000" cy="25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Het schilderij heeft een afmeting van 17 bij 22 centimeter en is met olieverf geschilderd. Het betreft een zelfportret uit mijn jonge jare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verzoek u vriendelijk het schilderij zorgvuldig te verpakken, zodat het onderweg niet beschadigd raak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Uiteraard zal ik alle gemaakte kosten voor de verzending vergoeden. Mijn adresgegevens vindt u bovenaan de brief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0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6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ef in het </a:t>
            </a:r>
            <a:r>
              <a:rPr b="1" lang="nl-NL" sz="2400" spc="-1" strike="noStrike">
                <a:solidFill>
                  <a:srgbClr val="000000"/>
                </a:solidFill>
                <a:latin typeface="Calibri"/>
              </a:rPr>
              <a:t>slot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 aan wat je met de brief wilt bereiken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( herhalen van je verzoek, vragen om reactie en bedanken voor de medewerking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2" name="Tekstvak 4"/>
          <p:cNvSpPr/>
          <p:nvPr/>
        </p:nvSpPr>
        <p:spPr>
          <a:xfrm>
            <a:off x="876240" y="2774880"/>
            <a:ext cx="727416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Ik hoop dat u mij het schilderij zo spoedig mogelijk toestuurt. Ik hoor graag van u. Bij voorbaat dank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el de brief als volgt i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Eigen naam en adr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Gegevens geadresseerd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Plaats en datu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werp: ‘Betreft:…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anhe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De briefteks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Afsluit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Onderteke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Naa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alibri"/>
              </a:rPr>
              <a:t>Bijlage(n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457200">
              <a:spcBef>
                <a:spcPts val="499"/>
              </a:spcBef>
              <a:buClr>
                <a:srgbClr val="000000"/>
              </a:buClr>
              <a:buFont typeface="Calibri"/>
              <a:buAutoNum type="alpha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  <p:sp>
        <p:nvSpPr>
          <p:cNvPr id="76" name="Tekstvak 4"/>
          <p:cNvSpPr/>
          <p:nvPr/>
        </p:nvSpPr>
        <p:spPr>
          <a:xfrm>
            <a:off x="4427640" y="1230480"/>
            <a:ext cx="4105080" cy="628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buClr>
                <a:srgbClr val="000000"/>
              </a:buClr>
              <a:buFont typeface="Calibri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Jodenbreestraat 4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11 NK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B) Rijksmuseum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Afdeling  Gevonden voorwerpe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T.a.v. de heer Wientje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Postbus 74888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1070 DN Amsterdam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C) Amsterdam, 15 december 202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D) Betreft: gevonden schilderij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E) Geachte heer Wientjes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F) Inleiding: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Middenstuk: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Slot:--------------------------------------------------------------------------------------------------------------------------------------------------------------------------------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G) Met vriendelijke groet,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H)   </a:t>
            </a:r>
            <a:r>
              <a:rPr b="0" lang="nl-NL" sz="1100" spc="-1" strike="noStrike">
                <a:solidFill>
                  <a:srgbClr val="000000"/>
                </a:solidFill>
                <a:latin typeface="Lucida Handwriting"/>
              </a:rPr>
              <a:t>R.v.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buClr>
                <a:srgbClr val="000000"/>
              </a:buClr>
              <a:buFont typeface="Calibri"/>
              <a:buAutoNum type="roman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Richard van Rijn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100" spc="-1" strike="noStrike">
                <a:solidFill>
                  <a:srgbClr val="000000"/>
                </a:solidFill>
                <a:latin typeface="Calibri"/>
              </a:rPr>
              <a:t>(J) Bijlage: x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000" spc="-1" strike="noStrike">
                <a:solidFill>
                  <a:srgbClr val="000000"/>
                </a:solidFill>
                <a:latin typeface="Calibri"/>
              </a:rPr>
              <a:t>Zo schrijf je een zakelijke brief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Tips bij het schrijven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kor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Houd de brief beleefd (gebruik </a:t>
            </a:r>
            <a:r>
              <a:rPr b="0" i="1" lang="nl-NL" sz="2400" spc="-1" strike="noStrike">
                <a:solidFill>
                  <a:srgbClr val="000000"/>
                </a:solidFill>
                <a:latin typeface="Calibri"/>
              </a:rPr>
              <a:t>u</a:t>
            </a: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Gebruik geen spreektaal (dus goede en niet goei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Denk aan de regels voor hoofdletters en interpuncti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Begin de brief niet met ‘Ik’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alibri"/>
              </a:rPr>
              <a:t>Controleer je brief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7" descr="Topbanner-methodeportal-NN"/>
          <p:cNvPicPr/>
          <p:nvPr/>
        </p:nvPicPr>
        <p:blipFill>
          <a:blip r:embed="rId1"/>
          <a:stretch/>
        </p:blipFill>
        <p:spPr>
          <a:xfrm>
            <a:off x="0" y="0"/>
            <a:ext cx="9144000" cy="76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2T07:49:15Z</dcterms:created>
  <dc:creator>Anouk de Kleijn</dc:creator>
  <dc:description/>
  <dc:language>en-US</dc:language>
  <cp:lastModifiedBy>Rajâa Ourchane</cp:lastModifiedBy>
  <dcterms:modified xsi:type="dcterms:W3CDTF">2022-12-04T12:42:22Z</dcterms:modified>
  <cp:revision>40</cp:revision>
  <dc:subject/>
  <dc:title>Hoofdstuk 5  Paragraaf Schrijven</dc:title>
</cp:coreProperties>
</file>