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9D7ED-1303-4769-85AB-1ADAF170D0D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C652-502D-4F30-A729-0E6F394317A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33DD-4370-435C-9BDD-F6EEB9BFACF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89FD-1A84-4532-A277-46371020FF3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AA46-BCB3-4436-AFFA-8FC49B50F1E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6D3B-5947-4C20-87F0-39E4F059761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9876-A28D-48D7-A722-DD295CA7151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D41C-13BD-4EF1-8D7C-9AA7BB6698C2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7AFC-7822-4584-9806-4CB843A0355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1FA0-456E-48DF-AD28-E703889E8D6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E2F-A2CB-4607-856A-6B3DED81D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E051-EF59-420D-87B9-ED96728C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A78D-8681-41CB-A49B-97C585D03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9154-BE3A-4365-B283-9E7F6D337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E409-9B0A-4838-8EB6-C8975DF70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92DC-8561-4166-89AE-C6B46D1F9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1BE-DB75-4B9A-B239-C67B8D9D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C67E-8393-4297-A1AC-C648DD18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59D0-D371-41C6-ABE0-39106433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1FF9-AEBB-404A-B2B3-3905F75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D9A-83C1-47A5-9F3E-900E737AE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E4BF-B25F-4736-8B65-8B3320F8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1A6C-B388-4E21-979D-6481867263E8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Hoofdstuk 5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chrij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en zakelijke brief schr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755640" y="655020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© Noordhoff Uitgevers bv 2014                                                                                        3 havo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2F/3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eer je brief aan de hand van de volgende punt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orberei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 schrijfdoel is duidelijk: je doet een mededeling of je hebt een verzoek of een klac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kent de briefconventies voor de indeling van een zakelijk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itwerk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gebruikt de juiste adresseringen: eerst die van jezelf en dan van de geadresseerd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ven de brief staat de plaats (met komma) en de datum (de maand in letter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noemt het onderwerp achter ‘Betreft: …’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gebruikt een correcte aanhe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inleiding vermeldt de aanleiding en de reden om de brief te schrijv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middenstuk werk je het onderwerp u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slot maak je duidelijk wat je met de brief wilt bereik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schrijft kort, beleefd en zakelij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der de brief staat je naam en eventueel je funct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controleert de brief op spel- en typfout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het printen zet je je handtekening (tussen de groet en je naam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Rechthoek 4"/>
          <p:cNvSpPr/>
          <p:nvPr/>
        </p:nvSpPr>
        <p:spPr>
          <a:xfrm>
            <a:off x="863640" y="2205000"/>
            <a:ext cx="7416720" cy="403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data.boomerang.nl/d/daan1994/image/postzegel-willem-alexander/s600/final-willem-postzegel.jpg"/>
          <p:cNvPicPr/>
          <p:nvPr/>
        </p:nvPicPr>
        <p:blipFill>
          <a:blip r:embed="rId2"/>
          <a:stretch/>
        </p:blipFill>
        <p:spPr>
          <a:xfrm>
            <a:off x="7035840" y="2317680"/>
            <a:ext cx="10303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Tekstvak 6"/>
          <p:cNvSpPr/>
          <p:nvPr/>
        </p:nvSpPr>
        <p:spPr>
          <a:xfrm>
            <a:off x="3276720" y="3757680"/>
            <a:ext cx="551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Rijksmuseum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Afdeling Gevonden voorwer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T.a.v. de heer Wientj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Postbus 748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1070 DN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envelop netjes naam en adres van de geadresse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4"/>
          <p:cNvSpPr/>
          <p:nvPr/>
        </p:nvSpPr>
        <p:spPr>
          <a:xfrm>
            <a:off x="863640" y="2349360"/>
            <a:ext cx="7416720" cy="400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hte verbindingslijn 6"/>
          <p:cNvSpPr/>
          <p:nvPr/>
        </p:nvSpPr>
        <p:spPr>
          <a:xfrm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hte verbindingslijn 10"/>
          <p:cNvSpPr/>
          <p:nvPr/>
        </p:nvSpPr>
        <p:spPr>
          <a:xfrm flipV="1"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11"/>
          <p:cNvSpPr/>
          <p:nvPr/>
        </p:nvSpPr>
        <p:spPr>
          <a:xfrm>
            <a:off x="2050920" y="249228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fz. R. van Rijn, Jodenbreestraat 4, 1011 NK Amsterda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539640" y="170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achterkant van de envelop je naam en ad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Een zakelijke brief schrij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ro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is een formele brief met ee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zoek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Zou u mij het aanmeldformulier kunnen toezenden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lacht 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Ik ben ontevreden over de kwaliteit van de service van uw medewerker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mededeling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De jaarvergadering van Voetbalclub ‘De Buitenbeentjes’ wordt dit jaar gehouden op 16 december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richt je aan een onbekend persoon of aan een instantie of een bedrij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is kort, beleefd en niet emotione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schrijf je volgens de briefconven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al je schrijfdoel : verzoeken, klagen of meede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aak eventueel een bouwplan waarin je vermeldt wat je wilt schrijven in de inleiding, het middenstuk en het sl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meld in de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leidin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de aanleiding en de reden van het schrijven van d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4" name="Tekstvak 4"/>
          <p:cNvSpPr/>
          <p:nvPr/>
        </p:nvSpPr>
        <p:spPr>
          <a:xfrm>
            <a:off x="900000" y="2708280"/>
            <a:ext cx="705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aanleiding</a:t>
            </a: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)Onlangs ben ik een schilderij kwijtgeraakt, toen ik bij u op bezoek was.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van uw collega’s wist mij via de telefoon te melden dat het schilderij gevonden is. (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rede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) Middels deze brief verzoek ik u mij dat schilderij toe te stu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iddenstu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je verzoek, klacht of mededeling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middenstuk kan uit meerdere alinea’s besta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"/>
          <p:cNvSpPr/>
          <p:nvPr/>
        </p:nvSpPr>
        <p:spPr>
          <a:xfrm>
            <a:off x="932040" y="2708280"/>
            <a:ext cx="72720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schilderij heeft een afmeting van 17 bij 22 centimeter en is met olieverf geschilderd. Het betreft een zelfportret uit mijn jonge ja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verzoek u vriendelijk het schilderij zorgvuldig te verpakken, zodat het onderweg niet beschadigd raak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iteraard zal ik alle gemaakte kosten voor de verzending vergoeden. Mijn adresgegevens vindt u bovenaan de brie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aan wat je met de brief wilt berei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 herhalen van je verzoek, vragen om reactie en bedanken voor de medewer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4"/>
          <p:cNvSpPr/>
          <p:nvPr/>
        </p:nvSpPr>
        <p:spPr>
          <a:xfrm>
            <a:off x="876240" y="2774880"/>
            <a:ext cx="727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hoop dat u mij het schilderij zo spoedig mogelijk toestuurt. Ik hoor graag van u. Bij voorbaat da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el de brief als volgt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gen naam en 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evens geadresse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aats en da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werp: ‘Betreft:…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h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rieftek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tek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lage(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427640" y="1230480"/>
            <a:ext cx="4105080" cy="62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Jodenbreestraat 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11 NK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B) Rijksmuseum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Afdeling  Gevonden voorwerp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T.a.v. de heer Wient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Postbus 7488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70 DN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C) Amsterdam, 15 december 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D) Betreft: gevonden schilderi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E) Geachte heer Wientje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F) Inleiding: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Middenstuk: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Slot: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G) Met vriendelijke groet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H)   </a:t>
            </a:r>
            <a:r>
              <a:rPr b="0" lang="nl-NL" sz="1100" spc="-1" strike="noStrike">
                <a:solidFill>
                  <a:srgbClr val="000000"/>
                </a:solidFill>
                <a:latin typeface="Lucida Handwriting"/>
              </a:rPr>
              <a:t>R.v.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J) Bijlage: 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ips bij het schrij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k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beleefd (gebruik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uik geen spreektaal (dus goede en niet goe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nk aan de regels voor hoofdletters en interpunct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gin de brief niet met ‘Ik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er j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49:15Z</dcterms:created>
  <dc:creator>Anouk de Kleijn</dc:creator>
  <dc:description/>
  <dc:language>en-US</dc:language>
  <cp:lastModifiedBy>Rajâa Ourchane</cp:lastModifiedBy>
  <dcterms:modified xsi:type="dcterms:W3CDTF">2022-12-04T12:42:22Z</dcterms:modified>
  <cp:revision>40</cp:revision>
  <dc:subject/>
  <dc:title>Hoofdstuk 5  Paragraaf Schrijven</dc:title>
</cp:coreProperties>
</file>