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DB4B-F4FD-43E4-A1EA-412BF6E164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BF12-A68E-402B-99C1-B2EAE2781D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1612-E818-410E-AF94-0A9FF1E19D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890A-A469-461B-8FAF-55AAFE30F7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462A-20F3-4324-9708-CA67960868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ED0C-BC5A-486A-9248-6F449AEE9F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CC71-DC36-492D-97B8-57654F8DD9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AE8E-F7D2-4BBC-9DBE-4E1B817DEE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9C78-E209-4ADA-B7BD-9FCB07089B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791D-749B-4BC0-AD3C-71FE386467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6DD-2D3E-4D1F-A2AD-BA660A51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FFB-BC1C-4156-BA0E-2656403F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740-B10A-4E1B-A389-93A12BCF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337-6E14-4060-AF1F-570C6C64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7F7-D154-451B-81D7-D5DE66EC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FED-1165-4D51-A7F8-6ED8EDE8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E5B-4BF7-446F-AA83-2D67D45A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042-4850-45DE-B3B4-74EDF97B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A02-CAC1-48DF-B9BC-C76638B2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2BDF-7591-4FED-A18B-FB83B330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BAB-6DEB-4E47-A053-908CB4A8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5CC-B5D1-410E-A58C-B352A21F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DD6A-5987-4A7F-ABA9-70A5E2FEDB0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Hoofdstuk 5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chrijv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en zakelijke brief schrij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51" name="Tekstvak 4"/>
          <p:cNvSpPr/>
          <p:nvPr/>
        </p:nvSpPr>
        <p:spPr>
          <a:xfrm>
            <a:off x="755640" y="655020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© Noordhoff Uitgevers bv 2014                                                                                        3 havo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2F/3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eer je brief aan de hand van de volgende punt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orberei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 schrijfdoel is duidelijk: je doet een mededeling of je hebt een verzoek of een klac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kent de briefconventies voor de indeling van een zakelijk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itwerk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gebruikt de juiste adresseringen: eerst die van jezelf en dan van de geadresseerde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oven de brief staat de plaats (met komma) en de datum (de maand in letter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noemt het onderwerp achter ‘Betreft: …’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gebruikt een correcte aanhe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inleiding vermeldt de aanleiding en de reden om de brief te schrijv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middenstuk werk je het onderwerp u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slot maak je duidelijk wat je met de brief wilt bereik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schrijft kort, beleefd en zakelij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der de brief staat je naam en eventueel je funct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controleert de brief op spel- en typfout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het printen zet je je handtekening (tussen de groet en je naam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88" name="Rechthoek 4"/>
          <p:cNvSpPr/>
          <p:nvPr/>
        </p:nvSpPr>
        <p:spPr>
          <a:xfrm>
            <a:off x="863640" y="2205000"/>
            <a:ext cx="7416720" cy="403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data.boomerang.nl/d/daan1994/image/postzegel-willem-alexander/s600/final-willem-postzegel.jpg"/>
          <p:cNvPicPr/>
          <p:nvPr/>
        </p:nvPicPr>
        <p:blipFill>
          <a:blip r:embed="rId2"/>
          <a:stretch/>
        </p:blipFill>
        <p:spPr>
          <a:xfrm>
            <a:off x="7035840" y="2317680"/>
            <a:ext cx="103032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Tekstvak 6"/>
          <p:cNvSpPr/>
          <p:nvPr/>
        </p:nvSpPr>
        <p:spPr>
          <a:xfrm>
            <a:off x="3276720" y="3757680"/>
            <a:ext cx="551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Rijksmuseum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Afdeling Gevonden voorwer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T.a.v. de heer Wientj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Postbus 748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1070 DN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kstvak 7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envelop netjes naam en adres van de geadresseer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94" name="Rechthoek 4"/>
          <p:cNvSpPr/>
          <p:nvPr/>
        </p:nvSpPr>
        <p:spPr>
          <a:xfrm>
            <a:off x="863640" y="2349360"/>
            <a:ext cx="7416720" cy="400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hte verbindingslijn 6"/>
          <p:cNvSpPr/>
          <p:nvPr/>
        </p:nvSpPr>
        <p:spPr>
          <a:xfrm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hte verbindingslijn 10"/>
          <p:cNvSpPr/>
          <p:nvPr/>
        </p:nvSpPr>
        <p:spPr>
          <a:xfrm flipV="1"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11"/>
          <p:cNvSpPr/>
          <p:nvPr/>
        </p:nvSpPr>
        <p:spPr>
          <a:xfrm>
            <a:off x="2050920" y="249228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fz. R. van Rijn, Jodenbreestraat 4, 1011 NK Amsterda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539640" y="1700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achterkant van de envelop je naam en ad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Een zakelijke brief schrijv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fro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is een formele brief met ee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zoek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Zou u mij het aanmeldformulier kunnen toezenden?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lacht 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Ik ben ontevreden over de kwaliteit van de service van uw medewerkers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mededeling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De jaarvergadering van Voetbalclub ‘De Buitenbeentjes’ wordt dit jaar gehouden op 16 december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richt je aan een onbekend persoon of aan een instantie of een bedrij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is kort, beleefd en niet emotione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schrijf je volgens de briefconven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paal je schrijfdoel : verzoeken, klagen of meede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aak eventueel een bouwplan waarin je vermeldt wat je wilt schrijven in de inleiding, het middenstuk en het sl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meld in de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nleiding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de aanleiding en de reden van het schrijven van d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4" name="Tekstvak 4"/>
          <p:cNvSpPr/>
          <p:nvPr/>
        </p:nvSpPr>
        <p:spPr>
          <a:xfrm>
            <a:off x="900000" y="2708280"/>
            <a:ext cx="705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aanleiding</a:t>
            </a: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)Onlangs ben ik een schilderij kwijtgeraakt, toen ik bij u op bezoek was.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van uw collega’s wist mij via de telefoon te melden dat het schilderij gevonden is. (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reden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) Middels deze brief verzoek ik u mij dat schilderij toe te stu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rk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iddenstu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je verzoek, klacht of mededeling 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middenstuk kan uit meerdere alinea’s besta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8" name="Tekstvak 4"/>
          <p:cNvSpPr/>
          <p:nvPr/>
        </p:nvSpPr>
        <p:spPr>
          <a:xfrm>
            <a:off x="932040" y="2708280"/>
            <a:ext cx="72720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schilderij heeft een afmeting van 17 bij 22 centimeter en is met olieverf geschilderd. Het betreft een zelfportret uit mijn jonge ja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verzoek u vriendelijk het schilderij zorgvuldig te verpakken, zodat het onderweg niet beschadigd raak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iteraard zal ik alle gemaakte kosten voor de verzending vergoeden. Mijn adresgegevens vindt u bovenaan de brie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aan wat je met de brief wilt bereik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 herhalen van je verzoek, vragen om reactie en bedanken voor de medewer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2" name="Tekstvak 4"/>
          <p:cNvSpPr/>
          <p:nvPr/>
        </p:nvSpPr>
        <p:spPr>
          <a:xfrm>
            <a:off x="876240" y="2774880"/>
            <a:ext cx="727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hoop dat u mij het schilderij zo spoedig mogelijk toestuurt. Ik hoor graag van u. Bij voorbaat dan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el de brief als volgt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gen naam en ad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evens geadresseer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laats en dat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werp: ‘Betreft:…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h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rieftek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tek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lage(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6" name="Tekstvak 4"/>
          <p:cNvSpPr/>
          <p:nvPr/>
        </p:nvSpPr>
        <p:spPr>
          <a:xfrm>
            <a:off x="4427640" y="1230480"/>
            <a:ext cx="4105080" cy="628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Jodenbreestraat 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11 NK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B) Rijksmuseum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Afdeling  Gevonden voorwerp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T.a.v. de heer Wient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Postbus 7488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70 DN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C) Amsterdam, 15 december 20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D) Betreft: gevonden schilderij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E) Geachte heer Wientjes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F) Inleiding: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Middenstuk: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Slot: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G) Met vriendelijke groet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H)   </a:t>
            </a:r>
            <a:r>
              <a:rPr b="0" lang="nl-NL" sz="1100" spc="-1" strike="noStrike">
                <a:solidFill>
                  <a:srgbClr val="000000"/>
                </a:solidFill>
                <a:latin typeface="Lucida Handwriting"/>
              </a:rPr>
              <a:t>R.v.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J) Bijlage: 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ips bij het schrijv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k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beleefd (gebruik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ruik geen spreektaal (dus goede en niet goe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nk aan de regels voor hoofdletters en interpunct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gin de brief niet met ‘Ik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er j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7:49:15Z</dcterms:created>
  <dc:creator>Anouk de Kleijn</dc:creator>
  <dc:description/>
  <dc:language>en-US</dc:language>
  <cp:lastModifiedBy>Rajâa Ourchane</cp:lastModifiedBy>
  <dcterms:modified xsi:type="dcterms:W3CDTF">2022-12-04T12:42:22Z</dcterms:modified>
  <cp:revision>40</cp:revision>
  <dc:subject/>
  <dc:title>Hoofdstuk 5  Paragraaf Schrijven</dc:title>
</cp:coreProperties>
</file>