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1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8.wmf" ContentType="image/x-wmf"/>
  <Override PartName="/ppt/media/image17.png" ContentType="image/png"/>
  <Override PartName="/ppt/media/image16.png" ContentType="image/png"/>
  <Override PartName="/ppt/media/image15.png" ContentType="image/png"/>
  <Override PartName="/ppt/media/image1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2.png" ContentType="image/png"/>
  <Override PartName="/ppt/media/image10.wmf" ContentType="image/x-wmf"/>
  <Override PartName="/ppt/media/image7.wmf" ContentType="image/x-wmf"/>
  <Override PartName="/ppt/media/image1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11049000" cy="7239000"/>
  <p:notesSz cx="6850063" cy="97488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0800" cy="974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1440" y="0"/>
            <a:ext cx="2970000" cy="487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647640" y="738000"/>
            <a:ext cx="5556240" cy="3641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1440" y="9259920"/>
            <a:ext cx="2970000" cy="487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260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i="1" lang="nl-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8B30DE5B-567E-4475-A956-1637B9A7A936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A17EA8ED-AAE9-4C04-A0AD-3ACD8758914B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8EFB9496-7847-42DE-B034-26B64CD52E4C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EC58903C-D688-4030-B062-CEC399E9D6ED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80B2EB32-29AB-4679-B0E1-A6728D6AD4F4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0E87CE37-39DE-42B2-A5CC-462D475E9D68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EBD7FC92-FA41-4415-BD09-E78FC438EE2E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05DC9262-A787-4774-B10E-55911B21DF0D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BB4425C6-1D66-4406-8D3B-69AC050AA400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C722DA51-9168-4EA5-8D80-0FD86DB7745C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C73C0F4C-4D1F-4529-9A20-29C9F8481771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27ED2F5E-0E2B-425A-A96D-185F837010D5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C2C07A64-81DC-432A-AEE5-4D637F0DDB29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B3F4B470-5735-47C3-A951-9B986FF84BAC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BEE5079D-0CEC-45EA-86C6-BDCAB242197C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AB86D7E2-6751-43AE-A457-F1B5CE303FFB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7938C36D-5E74-444E-A825-FD10A2631AC2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0480E755-348B-4958-87D7-F601D9F47DEC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C7789DBC-2A1D-4B7D-9FE2-8B7802732915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8046CB10-EB19-453B-8E66-9EE210687347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1792A8C0-FA9D-4B76-837B-17260E34F248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FC78002B-D051-42EE-A60C-A7DBAF611A84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B71ECD08-93FC-4986-9A5A-B9444FC42362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C672039A-5EA9-40CA-A8E1-9630D44E4D52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33503445-7815-478F-AAA7-637D17F9A03A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A0F696AD-04A3-49C7-A99C-F746AA7D550B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ED4E9243-C81C-4962-A312-24B60B8D54F5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58782B80-1C21-4BB3-8A81-A3F29CCCA0C1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218C2C9F-5283-4BED-ACA3-6A31D3FF9D3A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C52BAFDE-EDFF-49F7-BEA1-1DD16A84F118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70ACCE72-4EF7-4E33-8870-DB557107D0C6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B5FD9B1B-BD0D-441C-86E9-C6945681FAC7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FD7166FC-2940-415F-8612-5CB933191CC1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18DF9805-5B0D-471E-BEA8-F415373D2C11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71D64F10-89AB-4170-B34F-B612732C2604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4F4A3ED1-409C-4275-8594-20A99F50AC85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A71EA763-AC1B-40AB-AD46-AC8B751414BE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C10DD26A-2925-4C8B-8AB0-42D13DBD54ED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4179D64E-6D28-451E-835D-12B9299168DB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C4718675-A765-43F3-A59D-6FBD6D0417F0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86625EE8-5903-4C04-9CB8-05E963AF48A9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946002B7-BA7C-4209-8333-3E42D57E406C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8F17D39E-E4C7-4E45-9425-7D21687F8690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537FBA85-0FB3-458D-B593-8FE32246743C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9F912F10-F88C-49F5-B4D0-A1F1D38131F3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9D785-9391-409D-9942-44BDE5373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28720" y="4360680"/>
            <a:ext cx="939168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DF636-6328-47A0-85E1-362F03B5A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45828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641200" y="2091960"/>
            <a:ext cx="45828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28720" y="4360680"/>
            <a:ext cx="45828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641200" y="4360680"/>
            <a:ext cx="45828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F8ED7-19C7-4BEE-8EA7-7A22B935D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30240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004280" y="2091960"/>
            <a:ext cx="30240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179840" y="2091960"/>
            <a:ext cx="30240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28720" y="4360680"/>
            <a:ext cx="30240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004280" y="4360680"/>
            <a:ext cx="30240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179840" y="4360680"/>
            <a:ext cx="30240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364DB-DC93-431C-B613-DD30AB069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2AB3B-E0BE-45CC-9F49-937B8B9C8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A7301-2D84-43FC-9CD6-D1DCFD157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45828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641200" y="2091960"/>
            <a:ext cx="45828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976B8-87AD-4CF6-B48E-2F1FDB05F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EA352-2D5D-490D-8508-55CE61233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8720" y="644400"/>
            <a:ext cx="9391680" cy="559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89D4A-EF39-49AF-B5DC-AB6A4ED0E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45828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641200" y="2091960"/>
            <a:ext cx="45828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28720" y="4360680"/>
            <a:ext cx="45828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AF366-90D4-4FBA-9507-A307CD3F2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45828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641200" y="2091960"/>
            <a:ext cx="45828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641200" y="4360680"/>
            <a:ext cx="45828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356FD-46B1-40A9-B4FB-E6E1C6022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45828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641200" y="2091960"/>
            <a:ext cx="45828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28720" y="4360680"/>
            <a:ext cx="939168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56291-A6C1-4285-93AC-8AE0B42DC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28720" y="6594120"/>
            <a:ext cx="2301840" cy="48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774600" y="6594120"/>
            <a:ext cx="3498840" cy="48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18560" y="6594120"/>
            <a:ext cx="2301840" cy="48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4BDD808A-330D-47A4-84B7-5F488385AB47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E8D67E81-2B71-4BDF-AAF5-014AD101C1AF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44640" y="664920"/>
            <a:ext cx="9391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ASISVEILIGHEID (VCA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657440" y="2022120"/>
            <a:ext cx="7734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Handgereedschap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machinaal gereedschap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lassen en bran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ijdelijke aanduiding voor datum 1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ijdelijke aanduiding voor dianummer 3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8ADE140E-352B-40FE-A22B-F022E20F6881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2" descr=""/>
          <p:cNvPicPr/>
          <p:nvPr/>
        </p:nvPicPr>
        <p:blipFill>
          <a:blip r:embed="rId1"/>
          <a:stretch/>
        </p:blipFill>
        <p:spPr>
          <a:xfrm>
            <a:off x="698400" y="1473120"/>
            <a:ext cx="9657000" cy="428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7EF4C39A-2AE2-4909-B384-7F206BF370FC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Eisen elektrisch handgereedsch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oet jaarlijks worden gekeu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en beschadigi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oed onderhou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738C4B41-38E7-401C-B24C-160035E99F65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andslijpmachines, doorslijpschijven en afbraamschijv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p slijpschijven vermel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Naam fabrik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aximum toelaatbaar toere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oort bindmid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Korrelgroot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tructu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ardhe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fmeting van de schij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Toepas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AA28F4D2-2DC1-44AB-8137-A31BDCC52F02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lijpt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"/>
          <p:cNvPicPr/>
          <p:nvPr/>
        </p:nvPicPr>
        <p:blipFill>
          <a:blip r:embed="rId1"/>
          <a:stretch/>
        </p:blipFill>
        <p:spPr>
          <a:xfrm>
            <a:off x="2616120" y="1752480"/>
            <a:ext cx="5918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093D1C38-9948-4074-A7AE-15A7D482EEA7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Risico’s slijpmach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belangrijkste risico’s bij h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erken met een slijpmach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zij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Rondvliegende deeltj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et aanraken van de slijpschij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et uit elkaar springen van de slijpschij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rand door ontsteking van brandbare stoff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Lawaa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ampen en st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4A74359A-20ED-4F96-95FF-E909D1A4E71B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lijpschijv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2000"/>
          </a:bodyPr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Twee groepen van schijven zij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oorslijpschijv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fbraamschijv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9C037F30-69F2-49F5-A9AE-0B945831CA5A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lijpschijv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Object 4"/>
          <p:cNvGraphicFramePr/>
          <p:nvPr/>
        </p:nvGraphicFramePr>
        <p:xfrm>
          <a:off x="3157560" y="2682720"/>
          <a:ext cx="4751280" cy="2351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57560" y="2682720"/>
                    <a:ext cx="4751280" cy="235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057632CA-AB6F-427F-9687-9FD0A36B6A22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lijpen met de handslijpmach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r moet rekening gehouden wor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e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et type handslijpmach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et vermogen van de mach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gewenste afmeting van de schij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et materiaal dat men gaat slijp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et resultaat dat men wil hebb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grootte en de vorm van het materia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stand waaronder men werk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ervaring en het vakmansch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D0AE8451-BE30-4F95-98F4-C3744F281042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Pneumatisch handgereedsch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erkt op samengeperste luc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bruik van dodemanskn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Regels voor het werken m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pneumatisch handgereedschap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Zorg voor voldoende onderhou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bruik gehoorbescher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bruik zachte, leren handschoe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Regelmatig rust ne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9105936A-3134-4BEE-B50F-B794205E825F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ogedruk reinig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isico’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etsel door binnendringen sta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troffen worden door weggeslagen gereedschap of materiaaldeeltj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lootstelling giftige stoffen bij gevelreini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8B7818AF-9015-4C54-9F76-4F12C04C51E0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Gereedsch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23440" y="2091960"/>
            <a:ext cx="96966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es soorten gereedschap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(eenvoudig) handgereedsch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lektrisch handgereedsch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neumatisch handgereedsch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pparaten onder hoge dru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ast opgestelde gereedschapsmach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asapparatu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6913812D-17C2-4366-AD25-86D7F8E5E519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Eisen hogedruk reinig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ij werkdruk &gt; 100 Ba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inimaal 18 ja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puitpistool met dodemanskn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eveiligd tegen ongewild inschake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ag niet in “AAN” stand vergrendeld kunnen wor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Pomp voorzien van noodst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dequate opleiding verplic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78001699-0DD2-4C82-8AB2-A82B625FA7C9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Gebruik hogedruk reinig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puiten op asbesthoudend materiaal verbo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ij werken met chemicaliën zijn persoonlijke beschermingsmiddelen verplic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33256BF5-1F4C-488B-89D9-CCDE66A750D6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Algemene regels bij machines met bewegende dele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org voor goed aansluitende kle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org dat lange haren niet bij de bewegende delen kunnen ko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raag geen handschoenen en rin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lem het werkstuk op een werkban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raag een veiligheidsbril met zijkleppen en evt. adem- en gehoorbescherm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org voor voldoende ruim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267DEA1C-67BF-44C7-92AE-0B9057478177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Algemene regels bij machines met bewegende delen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iet laten afleiden tijdens de werkzaamhe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em het gereedschap niet met de hand af, maar laat het uitdraai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org voor voldoende lic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an- en uit schakela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rek gereedschap nooit aan het snoer of de luchtsla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org voor goed onderhoud van gereedsch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5A057359-C361-48DF-ADA9-1DEBB5F7F3D9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Gereedschapsmach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e behandelen de volgen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achin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Cirkelza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ast opgestelde boormach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ast opgestelde slijpmach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lgemene regels voor deze mach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oed onderhou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Jaarlijkse keu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gebruiker moet een goede instructie krij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Ruim opgeste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AC07E83C-9C61-4DEB-B123-ACCF8E7E233D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44640" y="14436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Cirkelzag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28720" y="1372680"/>
            <a:ext cx="9391680" cy="50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 risico’s zij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egschietende de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kneld raken van armen of benen in de opspantoestel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er abuis opstarten van de mach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plopen van gehoorsch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nademen van houtst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09A80406-ED82-420C-B9C3-F2E323F77EDD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28720" y="244080"/>
            <a:ext cx="9391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De universele cirkelzaagmach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28720" y="1572840"/>
            <a:ext cx="9391680" cy="48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eisen zij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achine moet een goede beschuttingskap hebb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achine moet een spouwmessupport hebben dat bij het zaagblad p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achine moet een instelbare en goed uitgevoerde hulpgeleider hebb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én of meer aansluitingen voor de stofaanzuig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anwezigheid van een duwhout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Zo hoog mogelijk instellen van het zaagbl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ijdelijke aanduiding voor datum 1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ijdelijke aanduiding voor dianummer 3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ABF22A43-4D20-460C-9EFC-E508130BC93D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3" descr="C:\Documents and Settings\Inge Nagle\Mijn documenten\Mijn afbeeldingen\cirkelzaag.bmp"/>
          <p:cNvPicPr/>
          <p:nvPr/>
        </p:nvPicPr>
        <p:blipFill>
          <a:blip r:embed="rId1"/>
          <a:stretch/>
        </p:blipFill>
        <p:spPr>
          <a:xfrm>
            <a:off x="762120" y="685800"/>
            <a:ext cx="9524880" cy="55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6B0DA48A-CEDA-458B-804E-46C11D6565B2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De universele cirkelzaagmach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4"/>
          <p:cNvSpPr/>
          <p:nvPr/>
        </p:nvSpPr>
        <p:spPr>
          <a:xfrm>
            <a:off x="1230480" y="2674800"/>
            <a:ext cx="8588160" cy="368640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pmerking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oor de bouwcirkelzaag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ach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ldt de aanwezigheid v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ulspanningsschakelaar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A6658937-3253-4A40-92ED-E2884F921C33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Vast opgestelde boormach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e risico’s zijn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“Happen” in het niet vastgezette werkstu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reken van de bo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Wegvegen van het boorsel met de ha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Niet gesloten aandrijv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Verstellen van de V-snaar als de machine nog niet stilsta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Gebruiken van koel- en snijoli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4BAB2C92-27F5-4864-BDD2-6C042D13197F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andgereedsch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ngevallen met handgereed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chap worden veroorzaakt doo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 Slecht onderhou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Klein gereedschap zelf onderhouden, ander gereedschap laten repareren of vernieuw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erkeerd gebrui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reedschap gebruiken waar het voor bedoeld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A4B3E2A3-1B5A-42C0-B572-DD2E20284917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oormach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4" descr=""/>
          <p:cNvPicPr/>
          <p:nvPr/>
        </p:nvPicPr>
        <p:blipFill>
          <a:blip r:embed="rId1"/>
          <a:stretch/>
        </p:blipFill>
        <p:spPr>
          <a:xfrm>
            <a:off x="1676520" y="1828800"/>
            <a:ext cx="723888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0ED36AB6-65A2-4291-BB84-1D1A75559BD3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44640" y="444600"/>
            <a:ext cx="9391680" cy="8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Vast opgestelde slijpmach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28720" y="1292040"/>
            <a:ext cx="9391680" cy="542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risico’s zij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Te hoog toere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eschadiging van de ste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plinters in het o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hoorbeschadig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aatregel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lleen monteren door deskundig persone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oed afschermen van de zijkanten van de mach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bruik van beschermru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fstand tussen leunspaan en slijpsteen mag niet meer dan 3 mm bedra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Leunspaan mag niet U-vormig zijn uitgesle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1DE3A1F8-ADD0-4829-B7EE-FB8C018AAE82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28720" y="244080"/>
            <a:ext cx="9391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lijpmach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4" descr=""/>
          <p:cNvPicPr/>
          <p:nvPr/>
        </p:nvPicPr>
        <p:blipFill>
          <a:blip r:embed="rId1"/>
          <a:stretch/>
        </p:blipFill>
        <p:spPr>
          <a:xfrm>
            <a:off x="1104840" y="1444680"/>
            <a:ext cx="4000680" cy="26622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5" descr=""/>
          <p:cNvPicPr/>
          <p:nvPr/>
        </p:nvPicPr>
        <p:blipFill>
          <a:blip r:embed="rId2"/>
          <a:stretch/>
        </p:blipFill>
        <p:spPr>
          <a:xfrm>
            <a:off x="5257800" y="4140360"/>
            <a:ext cx="4343400" cy="252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F8349A7C-097B-4F58-9A29-E497CCD66851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Lassen en slijpe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lektrisch lass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ateriaal plaatselijk verhitten met behulp van elektrische vlambo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utogeen lass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ateriaal verhitten met behulp van een gasvlam, versterkt door extra zuurst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C42B8955-F173-486C-950A-6662AC607A14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Lassen en slijpen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meenschappelijke gevar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rand- en explosiegeva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randbaar materiaal dat achter blijft op de werkpl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Lassen aan tanks en leidi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1D5FFE8C-23A1-408F-BF50-90097DC56C2B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Nemen van preventieve maatrege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bruik van brandblusser en brandwac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bruik van lasbr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bruik van gehoorbescher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bruik van beschermende kle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fzuiging en/of ventilat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2692844A-D92C-4FEE-B205-17351EAB67F7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PBM’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4" descr=""/>
          <p:cNvPicPr/>
          <p:nvPr/>
        </p:nvPicPr>
        <p:blipFill>
          <a:blip r:embed="rId1"/>
          <a:stretch/>
        </p:blipFill>
        <p:spPr>
          <a:xfrm>
            <a:off x="1039680" y="1994040"/>
            <a:ext cx="3075120" cy="204444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5" descr=""/>
          <p:cNvPicPr/>
          <p:nvPr/>
        </p:nvPicPr>
        <p:blipFill>
          <a:blip r:embed="rId2"/>
          <a:stretch/>
        </p:blipFill>
        <p:spPr>
          <a:xfrm>
            <a:off x="6400800" y="1828800"/>
            <a:ext cx="3687840" cy="209556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6" descr=""/>
          <p:cNvPicPr/>
          <p:nvPr/>
        </p:nvPicPr>
        <p:blipFill>
          <a:blip r:embed="rId3"/>
          <a:stretch/>
        </p:blipFill>
        <p:spPr>
          <a:xfrm>
            <a:off x="2743200" y="4419720"/>
            <a:ext cx="3110040" cy="20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E53C9F95-F221-44E4-B3A2-06EB57B8F90B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Elektrisch lass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4" descr=""/>
          <p:cNvPicPr/>
          <p:nvPr/>
        </p:nvPicPr>
        <p:blipFill>
          <a:blip r:embed="rId1"/>
          <a:stretch/>
        </p:blipFill>
        <p:spPr>
          <a:xfrm>
            <a:off x="1919160" y="1968480"/>
            <a:ext cx="6932880" cy="44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0E470DF3-1A53-4925-B865-2F1528E3E76F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Extra gevaren elektrisch lass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Giftige gassen en damp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Straling (gevolg = lasoge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Elektrocuti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Te nemen maatregelen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Zorg voor goede beschermende kled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Gebruik een laskap of lashel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e helper moet ook een lasbril drag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Houd werkstukklem, de elektrode, lastang niet onder de ar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ijdelijke aanduiding voor datum 1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ijdelijke aanduiding voor dianummer 3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1B2F700F-4BBE-442B-B3B2-CC1455764C11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3" descr="C:\Documents and Settings\Inge Nagle\Mijn documenten\Mijn afbeeldingen\lassen.bmp"/>
          <p:cNvPicPr/>
          <p:nvPr/>
        </p:nvPicPr>
        <p:blipFill>
          <a:blip r:embed="rId1"/>
          <a:stretch/>
        </p:blipFill>
        <p:spPr>
          <a:xfrm>
            <a:off x="1143000" y="587520"/>
            <a:ext cx="8763120" cy="60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281659B8-7195-460F-82C2-AD64372E1C05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28720" y="194760"/>
            <a:ext cx="9391680" cy="1078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Risico’s handgereedsch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28720" y="1492200"/>
            <a:ext cx="9391680" cy="5122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Uitschieten, vallen of struike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nijden, knellen of plet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troffen worden door wegschietende de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oorboord of doorstoken wor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chaven of schu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hoorschade door lawaa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ijdelijke aanduiding voor datum 1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ijdelijke aanduiding voor dianummer 3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EA8542F0-D4A8-46C2-818E-896E998A8C56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3" descr="C:\Documents and Settings\Inge Nagle\Mijn documenten\Mijn afbeeldingen\afzuiging.bmp"/>
          <p:cNvPicPr/>
          <p:nvPr/>
        </p:nvPicPr>
        <p:blipFill>
          <a:blip r:embed="rId1"/>
          <a:stretch/>
        </p:blipFill>
        <p:spPr>
          <a:xfrm>
            <a:off x="1944720" y="966960"/>
            <a:ext cx="7157880" cy="53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9AD893DE-AE40-46C2-A38B-33311504D6E3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Extra gevaren autogeen lass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bruik van acetyleen en propa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bruik van zuivere zuurst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Te nemen maatregel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Zorg dat explosiegrenzen niet worden bereik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la propaanflessen niet op in kelders en put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bruik geen zuurstof als werklucht of om te ventile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oorkom zuurstof lekk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ijdelijke aanduiding voor datum 1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ijdelijke aanduiding voor dianummer 3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557EC393-8364-4CB3-AD95-E07EF3F27DD6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3" descr="C:\Documents and Settings\Inge Nagle\Mijn documenten\Mijn afbeeldingen\gasfles.bmp"/>
          <p:cNvPicPr/>
          <p:nvPr/>
        </p:nvPicPr>
        <p:blipFill>
          <a:blip r:embed="rId1"/>
          <a:stretch/>
        </p:blipFill>
        <p:spPr>
          <a:xfrm>
            <a:off x="2795760" y="676440"/>
            <a:ext cx="5457600" cy="588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ijdelijke aanduiding voor datum 1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ijdelijke aanduiding voor dianummer 3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95AA3168-FF1C-462A-8D64-2F5B2ACD467E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3" descr="C:\Documents and Settings\Inge Nagle\Mijn documenten\Mijn afbeeldingen\gasfles1.bmp"/>
          <p:cNvPicPr/>
          <p:nvPr/>
        </p:nvPicPr>
        <p:blipFill>
          <a:blip r:embed="rId1"/>
          <a:stretch/>
        </p:blipFill>
        <p:spPr>
          <a:xfrm>
            <a:off x="1905120" y="304920"/>
            <a:ext cx="7223040" cy="646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Tijdelijke aanduiding voor datum 1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ijdelijke aanduiding voor dianummer 3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63F2E629-E0FB-4324-8365-D4167D46A966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2" descr=""/>
          <p:cNvPicPr/>
          <p:nvPr/>
        </p:nvPicPr>
        <p:blipFill>
          <a:blip r:embed="rId1"/>
          <a:stretch/>
        </p:blipFill>
        <p:spPr>
          <a:xfrm>
            <a:off x="262080" y="604800"/>
            <a:ext cx="10529640" cy="603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ijdelijke aanduiding voor datum 1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ijdelijke aanduiding voor dianummer 3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37EF43BE-3EC3-4EC5-BB10-934EE868247F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Object 2"/>
          <p:cNvGraphicFramePr/>
          <p:nvPr/>
        </p:nvGraphicFramePr>
        <p:xfrm>
          <a:off x="3398760" y="274680"/>
          <a:ext cx="4152960" cy="629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98760" y="274680"/>
                    <a:ext cx="4152960" cy="629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8" name="Picture 5" descr="C:\Documents and Settings\Inge Nagle\Mijn documenten\Mijn afbeeldingen\hamer.bmp"/>
          <p:cNvPicPr/>
          <p:nvPr/>
        </p:nvPicPr>
        <p:blipFill>
          <a:blip r:embed="rId3"/>
          <a:stretch/>
        </p:blipFill>
        <p:spPr>
          <a:xfrm>
            <a:off x="685800" y="179280"/>
            <a:ext cx="9829800" cy="633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BAB7B1DB-99BF-482A-AB01-20B6C948AD92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44640" y="693360"/>
            <a:ext cx="9391680" cy="97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Eisen handgereedsch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12800" y="214128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reedschap gaaf en sch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amers met gladde, goed geborgde ste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oersleutels die passen en niet versleten zij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ijlen met handv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chroevendraaiers zonder beschadigin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itels, doorslagen en centerponsen zonder bra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angen met gave en schone b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659883DE-EF97-4ADC-87DE-EF28D879C1D4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28720" y="344520"/>
            <a:ext cx="9391680" cy="8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Gebruik handgereedsch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44640" y="1522080"/>
            <a:ext cx="9391680" cy="514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Alleen gebruiken waarvoor bestemd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Moersleutels nooit verlenge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Gereedschap passend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Van je af snijden en bikke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Kleine werkstukken vast zette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Oppassen voor elektrakab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PBM’s gebruike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4502D9AA-80F4-435B-BAD3-E052CC5CDF44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Elektrisch handgereedsch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lektriciteit kan op 2 manie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vaarlijk zij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lektrocutie (stroom door het lichaa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onkoverslag (kortsluiting in of vlakbij het apparaa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ze risico’s zijn te verklei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oor te werken met veilige spann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aximaal 50 Volt wisselspan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aximaal 120 Volt gelijkspan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14B63737-8B39-4D13-9398-7CB7E697DB28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Risico’s elektrisch handgereedsch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rand- of explos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randwon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wegende de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egschietende deeltj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t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hoorsch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19T21:06:26Z</dcterms:created>
  <dc:creator>Hajo Kleijburg</dc:creator>
  <dc:description>Revisie 0</dc:description>
  <dc:language>en-US</dc:language>
  <cp:lastModifiedBy>Hans Mulder</cp:lastModifiedBy>
  <cp:lastPrinted>2000-05-31T17:51:36Z</cp:lastPrinted>
  <dcterms:modified xsi:type="dcterms:W3CDTF">2016-10-03T10:34:19Z</dcterms:modified>
  <cp:revision>27</cp:revision>
  <dc:subject>Les 5</dc:subject>
  <dc:title>Basisveiligheid (VCA)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atum voltooid">
    <vt:filetime>2000-03-14T23:00:00Z</vt:filetime>
  </property>
</Properties>
</file>