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CEE-FD52-480F-A9E6-FD9AAD57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398-EBDF-44F8-8733-511018FD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842-7F86-491D-AC92-8D6D4DA9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349-67D0-447B-B6E2-91818A29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D19-4512-4FA1-81EA-C352CB25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13C-1042-4ECF-8BD8-BF265A91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FDB-D5C7-4488-A18D-58618CD9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3DB-21D7-44A6-BDEC-31C019F4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F20-8379-4FD5-A166-B8D5CE19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CC6-598B-43AE-9FA2-16402941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59C-009B-4723-8EC9-D5DBC9CF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A41-48CF-4240-86DF-015F974A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39C9-0C35-4032-AEF0-C0D16E40836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54880" y="3048120"/>
            <a:ext cx="16891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0280" y="3578400"/>
            <a:ext cx="1725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s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lucht 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86520" y="0"/>
            <a:ext cx="2157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stalen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en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len neus en stalen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kleding wisselen indie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nasgordels goed passend en afgestemd zijn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harnasgordels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harnasgordels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7120" y="2561400"/>
              <a:ext cx="460080" cy="994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438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ndom het gehele 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2640" y="1523880"/>
            <a:ext cx="1584360" cy="122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3200400"/>
            <a:ext cx="1584360" cy="10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1480" y="4718160"/>
            <a:ext cx="13525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autogeen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48520" y="2359080"/>
            <a:ext cx="1798560" cy="16225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48520" y="4498920"/>
            <a:ext cx="1773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4:13Z</dcterms:modified>
  <cp:revision>36</cp:revision>
  <dc:subject/>
  <dc:title>Test</dc:title>
</cp:coreProperties>
</file>