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7239000" cy="10666413"/>
  <p:notesSz cx="66706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F49A-F6E1-4FE0-A681-9E91A1D17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0B33-9848-4D49-A4B9-CB5E594F8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AF2D-377B-42BE-84D8-E7B36663A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8441-1798-4585-A22C-423AA60BC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30FA-FC81-4ADC-B276-B9DBA5AFC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9716-F57B-40E3-B0B2-3C9A4BF2F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5A55-25B0-44CE-99CA-D7C49F7C6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6B04-8618-4034-A2BE-261BB554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7880"/>
            <a:ext cx="6153120" cy="82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C2AE-E8BF-4BD7-9557-83B8EE0B1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3BF4-8A78-400C-BB91-405B870D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5CCC-B3B0-484F-A0F8-4A4B71A0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7CD4-85DD-4413-9F1B-4917358D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20000"/>
            <a:ext cx="1508040" cy="71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20000"/>
            <a:ext cx="2292480" cy="71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20000"/>
            <a:ext cx="1508040" cy="71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F75AC3C-521D-42F2-8F88-A0D24D456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2880" y="58392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SVEILIGHEID (VC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62080" y="2590560"/>
            <a:ext cx="5067360" cy="739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rkvergun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sloten 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763E-D76E-48E4-B45A-387A52569F94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atreg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ede toegankelijk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der dan 18 j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ten en sleuven 2 uitga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tenzijde afzetting en waarschuwingsb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itgangen altijd vrijhou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5189400" y="6894360"/>
          <a:ext cx="1882800" cy="190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9400" y="6894360"/>
                    <a:ext cx="1882800" cy="19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6F73-5227-44B7-80CB-A831CBBB1A9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289880" y="685800"/>
            <a:ext cx="465948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EILIG WERK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95200" y="8381880"/>
            <a:ext cx="664848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 BESLOTEN RUIM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lopuh" descr=""/>
          <p:cNvPicPr/>
          <p:nvPr/>
        </p:nvPicPr>
        <p:blipFill>
          <a:blip r:embed="rId1"/>
          <a:stretch/>
        </p:blipFill>
        <p:spPr>
          <a:xfrm>
            <a:off x="444600" y="2819520"/>
            <a:ext cx="6348240" cy="4432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EB18-7A8E-46BF-B85E-563E41E72675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47640" y="480960"/>
            <a:ext cx="5992920" cy="887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6326-DF41-4438-997B-EB9A8872B249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19200" y="262080"/>
            <a:ext cx="6153120" cy="118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BM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42880" y="1328760"/>
            <a:ext cx="6153120" cy="850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iligheidsbr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hoorbesche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scho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103720" y="5589720"/>
          <a:ext cx="1900440" cy="19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3720" y="5589720"/>
                    <a:ext cx="1900440" cy="19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5032440" y="7799400"/>
          <a:ext cx="1892160" cy="191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32440" y="7799400"/>
                    <a:ext cx="1892160" cy="19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5075280" y="1074600"/>
          <a:ext cx="1805040" cy="1805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75280" y="1074600"/>
                    <a:ext cx="1805040" cy="18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5033880" y="3241800"/>
          <a:ext cx="1887480" cy="1892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33880" y="3241800"/>
                    <a:ext cx="188748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3AE2-7A97-4FEB-8349-F8591871991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42880" y="337680"/>
            <a:ext cx="6153120" cy="11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BM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42880" y="1709280"/>
            <a:ext cx="6153120" cy="796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iligheidsschoei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iligheidshe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afhankelijke adembesche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beveili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5205240" y="5210280"/>
          <a:ext cx="2003760" cy="191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240" y="5210280"/>
                    <a:ext cx="2003760" cy="19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5189400" y="3227400"/>
          <a:ext cx="1882800" cy="191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9400" y="3227400"/>
                    <a:ext cx="1882800" cy="19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5110200" y="1251000"/>
          <a:ext cx="1887480" cy="1909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10200" y="1251000"/>
                    <a:ext cx="1887480" cy="19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5186520" y="7524720"/>
          <a:ext cx="2041200" cy="2013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86520" y="7524720"/>
                    <a:ext cx="2041200" cy="20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4520-4077-448B-A433-A992455A3EC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varen elektriciteit besloten ruim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ak hogere temperatu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ak vocht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elal metaal en dus goede gele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eine ruimte, waardoor elektrakabels ongeord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549C-641A-491E-9E3E-DA1705F9DA8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28600" y="2135160"/>
            <a:ext cx="6832440" cy="6326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EB4D-C975-46F8-906C-34289AD7C7C2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ktrocu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ktrocutie te voorkomen do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kzaamheden te verrichten met een veilige sp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0080" y="5416560"/>
            <a:ext cx="5550120" cy="14349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 Volt wisselstro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54120" y="7854840"/>
            <a:ext cx="5626080" cy="18162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0 Volt gelijkstro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6DA4-124C-4C04-BC87-7860A176D45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vergunninge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en werkvergunning is bedo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m de volgende zaken goed 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el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eg tussen iedereen die met het werk heeft te 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dende afspraken tussen iedereen die met het werk heeft te 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t vastleggen van de voorwaarden waaronder gewerkt dient te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2214-F1D3-49AD-BDCF-52FD2631728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vergunninge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ste onderdelen op 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kvergunning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anvraag werkzaam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tregelen door verstrekkende af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tregelen door de hou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krachtiging door verschillende partij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77800" y="7778880"/>
            <a:ext cx="6235920" cy="19684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36720" y="7894800"/>
            <a:ext cx="611172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orgen dat de betrokkenen 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mplaar van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kvergunning hebb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19D4-2B90-40A8-8115-CA6C7757344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9200" y="566640"/>
            <a:ext cx="6153120" cy="13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sloten ruimt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2880" y="1828440"/>
            <a:ext cx="6153120" cy="76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merken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stal erg kleine werkplek, waardoor moeilijk te bewe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stal slechte venti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stal kleine in- en uitga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stal weinig verlic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en dagl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A57E-E90F-439F-B451-2F6CB5A7AC7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2880" y="338040"/>
            <a:ext cx="6153120" cy="13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sloten ruimt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2880" y="2319480"/>
            <a:ext cx="6153120" cy="743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gevaren in een beslo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im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nd en explo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vaarlijke stoffen en zuurstofgebr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ktrocu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len en struik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54120" y="1987560"/>
            <a:ext cx="5931000" cy="34164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17600" y="2133720"/>
            <a:ext cx="4672080" cy="30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orbeelden besloten ruimt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slagreservoi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l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eu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2F4C-2F33-4B13-B5CF-26B5E87BAB7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nd &amp; Explos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vaar voor brand en explos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inig venti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ndbare stoffen in de 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kzaamheden zorgen voor brandbare stoff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tregel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orgen dat er geen brandbare stoffen in de ruimte k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orgen voor ventilatie d.m.v. lucht in bla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3F86-C723-44C7-9F7F-5397AC05054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vaarlijke stoffen en zuurstoftek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komen giftige stoffen in 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loten ruim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or verdamping van resten van de inhoud van een t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it de wanden door verhitting en schoon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or het werk dat wordt uitgevoe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n buiten de besloten 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3A64-603B-4D5E-94A9-DA2BDAA9DCB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atregelen bij werken in besloten ruim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bereidende maat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organisatie, toezicht en verblijfsduur, meting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tregelen tijdens het w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lgemene maatregelen, ventileren, maatregelen bij lassen, slijpen, schilderen en bij overige werkzaamhed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30E7-CF23-460C-B708-995FCC9372D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42880" y="338040"/>
            <a:ext cx="6153120" cy="12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en is We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42880" y="1862280"/>
            <a:ext cx="6153120" cy="51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 betreden besloten 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or deskundig personeel altij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en o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age zuurstof (21 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L (&lt;10 % L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 waa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6920" y="7245360"/>
            <a:ext cx="6692760" cy="25020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79520" y="7405560"/>
            <a:ext cx="534996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OIT FILTERBU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BRUIK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700520" y="7553160"/>
          <a:ext cx="1946520" cy="195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00520" y="7553160"/>
                    <a:ext cx="1946520" cy="19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4762440" y="7620120"/>
            <a:ext cx="1905120" cy="19047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686120" y="7620120"/>
            <a:ext cx="1904760" cy="182880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C6CA-A1ED-43FE-8384-882AEFA4059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8:09:42Z</dcterms:created>
  <dc:creator>Hajo Kleijburg</dc:creator>
  <dc:description>Revisie 0</dc:description>
  <dc:language>en-US</dc:language>
  <cp:lastModifiedBy>inge</cp:lastModifiedBy>
  <cp:lastPrinted>2000-04-30T14:28:28Z</cp:lastPrinted>
  <dcterms:modified xsi:type="dcterms:W3CDTF">2003-11-25T19:44:47Z</dcterms:modified>
  <cp:revision>21</cp:revision>
  <dc:subject>Les 8</dc:subject>
  <dc:title>Basisveiligheid (VC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um voltooid">
    <vt:filetime>2000-03-14T23:00:00Z</vt:filetime>
  </property>
</Properties>
</file>