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43E6-CB17-411F-836B-5B7731DDD01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4960-F546-41A0-9080-B25AE0EC1A9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DE1-4B86-4804-8EFA-24F93F1C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22D-0F0C-43FA-BBE8-18CF0556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4EF-4C85-48CB-8C8F-2E20E8F1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D13-0313-478D-858B-15C3CD5C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199-2A9C-4F5A-87A7-AC9C702B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34B-FA20-43D1-9E83-7A2AB1AE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945-5DC0-4F64-8F86-56A0CC12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8B6-6F06-4215-8FE8-78AC8DA9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2AB-1C84-498D-B299-D2132447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19B-3A7B-4674-97D1-05987814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DB2-96CA-4507-8B37-FB4B8A63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301-E829-4963-8DB6-580F224C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FC17-3FC1-4C8E-A508-658C9466464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er mis kan 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slijpstenen op één machine mogen niet te veel verschi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es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fbeelding 5" descr="http://www.metabo.nl/uploads/tx_commerce/feinbilder/0300020003s_51_m.jpg"/>
          <p:cNvPicPr/>
          <p:nvPr/>
        </p:nvPicPr>
        <p:blipFill>
          <a:blip r:embed="rId1"/>
          <a:stretch/>
        </p:blipFill>
        <p:spPr>
          <a:xfrm>
            <a:off x="6934320" y="3124080"/>
            <a:ext cx="1976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nderlijke of gevaarlijk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, stevig bevestigde beschuttings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rote werkstukken assistentie van tweede persoon of gebruik rollenb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ttp://www.metabo.nl/uploads/tx_commerce/feinbilder/0104605000s_51_m.jpg"/>
          <p:cNvPicPr/>
          <p:nvPr/>
        </p:nvPicPr>
        <p:blipFill>
          <a:blip r:embed="rId1"/>
          <a:stretch/>
        </p:blipFill>
        <p:spPr>
          <a:xfrm>
            <a:off x="7172280" y="152280"/>
            <a:ext cx="1971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 geïsoleerd betekent niet bescherming tegen water of vochtig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neumat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erslucht = pneumatis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gereedsc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, bij slijpschijven groter dan 125m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slijpschijf moet st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slijpmachin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3800" y="18892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cirkel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 schermt de buitenrand zaag volledig a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 aanpassen aan diameter en dikte van de z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oer steeds achter de zaag 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nagel/niet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ketting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40227" t="0" r="8150" b="0"/>
          <a:stretch/>
        </p:blipFill>
        <p:spPr>
          <a:xfrm>
            <a:off x="7500960" y="1523880"/>
            <a:ext cx="16430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er van machines en gereedschappen heb je een belangrijke rol in risico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zelf vragen stellen en zonodig in actie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het apparaat in ord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risico's bij gebruik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b je een duidelijke instructie gekregen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ren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oldoende kennis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rsleutels en slagsleu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458040" y="1905120"/>
            <a:ext cx="2685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roevendraa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ij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ndz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aat en (soort) zaag aangepas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ug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fbeelding 6" descr="zagen.jpg"/>
          <p:cNvPicPr/>
          <p:nvPr/>
        </p:nvPicPr>
        <p:blipFill>
          <a:blip r:embed="rId1"/>
          <a:stretch/>
        </p:blipFill>
        <p:spPr>
          <a:xfrm>
            <a:off x="7531200" y="312408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i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t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8" descr="tangen.jpg"/>
          <p:cNvPicPr/>
          <p:nvPr/>
        </p:nvPicPr>
        <p:blipFill>
          <a:blip r:embed="rId1"/>
          <a:srcRect l="0" t="0" r="0" b="35266"/>
          <a:stretch/>
        </p:blipFill>
        <p:spPr>
          <a:xfrm>
            <a:off x="6678720" y="2967120"/>
            <a:ext cx="2465280" cy="923760"/>
          </a:xfrm>
          <a:prstGeom prst="rect">
            <a:avLst/>
          </a:prstGeom>
          <a:ln w="0">
            <a:noFill/>
          </a:ln>
        </p:spPr>
      </p:pic>
      <p:pic>
        <p:nvPicPr>
          <p:cNvPr id="99" name="Afbeelding 4" descr="images.jpg"/>
          <p:cNvPicPr/>
          <p:nvPr/>
        </p:nvPicPr>
        <p:blipFill>
          <a:blip r:embed="rId2"/>
          <a:stretch/>
        </p:blipFill>
        <p:spPr>
          <a:xfrm>
            <a:off x="5638680" y="1523880"/>
            <a:ext cx="1378080" cy="144324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7" descr="imagesCAPWV5WN.jpg"/>
          <p:cNvPicPr/>
          <p:nvPr/>
        </p:nvPicPr>
        <p:blipFill>
          <a:blip r:embed="rId3"/>
          <a:stretch/>
        </p:blipFill>
        <p:spPr>
          <a:xfrm>
            <a:off x="6705720" y="4419720"/>
            <a:ext cx="1725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1  Veiligheidseisen voor arbeidsmidde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2  Algemene eisen en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3  Vast opgestelde machines/gereedsc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4 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5  Handgereedschap zonder aand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1 Veiligheidseis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- voor arbeidsmiddelen en machin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kunnen er ongevallen ont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sp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ontwer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s- en onderhoudsvoorschrift in taal gebruik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aan bedieners van 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opleiding/ervaring en ouder dan 18 j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uste inzet van techniek in ruimtes met explosie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dreven 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erhog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loop- en bewegingsruim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nderhoud machines of gereedschappen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mansknop op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reikbaar, duidelijk zichtbaar en herken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ulspanningschak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: tweehandenbediening en koppelscherm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let zelf op dat je instructies krijgt</a:t>
            </a:r>
            <a:br>
              <a:rPr sz="2400"/>
            </a:b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voor nieuw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olomboormachines en boor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boren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 werken is van bela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0:37:45Z</dcterms:modified>
  <cp:revision>34</cp:revision>
  <dc:subject/>
  <dc:title>Test</dc:title>
</cp:coreProperties>
</file>