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3.jpeg" ContentType="image/jpeg"/>
  <Override PartName="/ppt/media/image10.png" ContentType="image/png"/>
  <Override PartName="/ppt/media/image27.jpeg" ContentType="image/jpeg"/>
  <Override PartName="/ppt/media/image25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A242-3BA0-4531-BA69-E12A93EE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8929-0D44-4F3A-815B-4F563DFE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8C18-3982-401F-9D5D-DF7438FA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DF67-3B12-4ECC-AAEF-7C334E8C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FE89-9AF9-436D-95C6-59A16076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2149-3B01-4443-A737-6CCA28EA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4AED-F1D4-4418-AB92-9FE71ED5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046C-5279-4821-963F-1703B6AA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594D-D8DC-452E-8035-1937511C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97AB-B46B-4CBD-B2DC-87B5D839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24DC-FA66-4786-B569-B9C34B57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7910-E293-4C35-999A-315D3DB1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09F0-9414-4D56-8FE1-6AB38D91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FE13-8516-4084-8124-65A8B552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BBC1-01FB-492B-9642-E2514271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1792-C207-4830-8046-2FC848F1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959E-B19B-4B85-A95D-E5979EB9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F76BB-B5A3-488B-9860-FD211D36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9690F-A488-47BA-9DEC-F21A4658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2868C-9911-4374-B0AF-ADAB4699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68243-8AED-4D87-BE32-ABE52AB3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A4D4A-D29A-4128-BDD4-372DE9C9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557D-F470-4CAA-84CA-34B7E4DF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FE916-B182-49A1-B1C8-1B53C145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BE506-9ECE-4BA0-9C45-8BB5CBF1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EC09F-C7C7-4974-AEC0-A7D0BEC4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64864-7210-4AFE-9FCA-9D5E5FE6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22E49-B669-43B5-BAD7-2971BE2F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C3AE6-ED70-45D2-ACAD-EA5A0780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9148A-B239-43C5-9007-9C6025F7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E21-3989-4A90-B563-14DEE01D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BE00-69F6-40FC-A34F-E4E8D95B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F1C9-9CF9-44E6-8E10-790D00D4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E9A1-8B48-4616-83D9-FBC68E15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8A55-D04C-4A78-BBB6-388A3863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C2B-5958-4776-BE81-62F651B1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9822-BBAB-4772-AB52-666BB7F5F50F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F755-CED9-4098-BDD0-EE451B414062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E685-1C7E-4E4F-AC84-BAA7E6BB236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erckebosch.nl/html/home.php" TargetMode="External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1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4643-9905-4CED-B584-509F3713E16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Hoofdstuk 2</a:t>
            </a:r>
            <a:br>
              <a:rPr sz="4400"/>
            </a:b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Wetten en reg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C388-4017-465C-A9AD-7E3F56DDC65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71680" y="1604880"/>
            <a:ext cx="7868880" cy="28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werkgever moet oo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voorkom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zo veel mogelijk bij de bron verminder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werknemer goed voorlicht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veilige werkwijze laten zien en laten toepass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oede PBM’s beschikbaar stell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orgen dat er hulp is in geval van noo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499760"/>
            <a:ext cx="83707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ventariseert de risico’s (schriftelij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 preventiebeleid o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 risico’s (rekening houden met technie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rnstige risico’s voorkeur voor materiële maatregel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76280" indent="-343080"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7977-7A40-4ACA-9026-6C5535CF63C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pak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ysteembenadering (bijv. KAM-systee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 met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(wijze) zo nodig aan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arbeidsmid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n (derden)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hulp organis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vallen, onderzoeken en melden aan Arbeidsinspec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3283-4C20-4038-836D-B8AD57F24EF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heersing betekent vooral dat beleid en procedures worden nageleef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zicht 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geven en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toler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F4FB-EFD3-4C10-9276-61863CEC3C07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71320" y="1000080"/>
            <a:ext cx="83581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effectiviteit verbeteren door te reageren op incidenten en te leren van ongevallen en incide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30C9-0380-4A98-9C27-11F8387B66F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71680" y="149976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moe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kunn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will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 blijven van de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e 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geleg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ragen van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HBO- en brandbestrijd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vacuatiewe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CA99-38F6-42B1-AA2C-3B850FAA253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520" y="1142640"/>
            <a:ext cx="45003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1"/>
          <a:stretch/>
        </p:blipFill>
        <p:spPr>
          <a:xfrm>
            <a:off x="5500800" y="52862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http://www.biname.be/images/produits/signalisation/signalweb.gif"/>
          <p:cNvPicPr/>
          <p:nvPr/>
        </p:nvPicPr>
        <p:blipFill>
          <a:blip r:embed="rId2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224" name="Tijdelijke aanduiding voor dianummer 10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388E-BA8C-4A71-A539-D7AB4449154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5108400" y="1378080"/>
            <a:ext cx="1616400" cy="1931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4"/>
          <a:stretch/>
        </p:blipFill>
        <p:spPr>
          <a:xfrm>
            <a:off x="5181480" y="2444760"/>
            <a:ext cx="1590840" cy="187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5"/>
          <a:stretch/>
        </p:blipFill>
        <p:spPr>
          <a:xfrm>
            <a:off x="6143760" y="3286080"/>
            <a:ext cx="987120" cy="866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"/>
          <p:cNvPicPr/>
          <p:nvPr/>
        </p:nvPicPr>
        <p:blipFill>
          <a:blip r:embed="rId6"/>
          <a:stretch/>
        </p:blipFill>
        <p:spPr>
          <a:xfrm>
            <a:off x="5500800" y="4357800"/>
            <a:ext cx="96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680" y="1285920"/>
            <a:ext cx="7851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ven aan dat er een gevaar i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63680" indent="-2383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http://www.biname.be/images/produits/signalisation/ballisage.gif"/>
          <p:cNvPicPr/>
          <p:nvPr/>
        </p:nvPicPr>
        <p:blipFill>
          <a:blip r:embed="rId1"/>
          <a:stretch/>
        </p:blipFill>
        <p:spPr>
          <a:xfrm>
            <a:off x="6715080" y="3429000"/>
            <a:ext cx="1138320" cy="1138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http://www.biname.be/images/produits/signalisation/barriere.gif"/>
          <p:cNvPicPr/>
          <p:nvPr/>
        </p:nvPicPr>
        <p:blipFill>
          <a:blip r:embed="rId2"/>
          <a:stretch/>
        </p:blipFill>
        <p:spPr>
          <a:xfrm>
            <a:off x="5500800" y="4786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  <p:sp>
        <p:nvSpPr>
          <p:cNvPr id="234" name="Tijdelijke aanduiding voor dianummer 7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6F75-48EA-46D4-B966-F15848EF2E9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kstvak 8"/>
          <p:cNvSpPr/>
          <p:nvPr/>
        </p:nvSpPr>
        <p:spPr>
          <a:xfrm>
            <a:off x="571680" y="4071960"/>
            <a:ext cx="607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3920" indent="-22392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s linten: wit - rood, of geel - zwar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kstvak 9"/>
          <p:cNvSpPr/>
          <p:nvPr/>
        </p:nvSpPr>
        <p:spPr>
          <a:xfrm>
            <a:off x="571680" y="4500720"/>
            <a:ext cx="61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5360" indent="-2253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rood - witte hekken worden ook gebruik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kstvak 11"/>
          <p:cNvSpPr/>
          <p:nvPr/>
        </p:nvSpPr>
        <p:spPr>
          <a:xfrm>
            <a:off x="571680" y="2720880"/>
            <a:ext cx="58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kstvak 12"/>
          <p:cNvSpPr/>
          <p:nvPr/>
        </p:nvSpPr>
        <p:spPr>
          <a:xfrm>
            <a:off x="571680" y="3643200"/>
            <a:ext cx="428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35080" indent="-2350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plakt of geschilderd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8" descr=""/>
          <p:cNvPicPr/>
          <p:nvPr/>
        </p:nvPicPr>
        <p:blipFill>
          <a:blip r:embed="rId1">
            <a:lum bright="-30000"/>
          </a:blip>
          <a:stretch/>
        </p:blipFill>
        <p:spPr>
          <a:xfrm rot="20067600">
            <a:off x="4846320" y="-43956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550044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71320" y="1219320"/>
            <a:ext cx="678636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el-zwarte mar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tr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ven bovenste en/of de onderste trede 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6B89-EDC2-4A8D-9A90-6ED1C4D8BC47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2"/>
          <a:srcRect l="27321" t="40454" r="0" b="41551"/>
          <a:stretch/>
        </p:blipFill>
        <p:spPr>
          <a:xfrm>
            <a:off x="6711840" y="642960"/>
            <a:ext cx="2432160" cy="603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"/>
          <p:cNvPicPr/>
          <p:nvPr/>
        </p:nvPicPr>
        <p:blipFill>
          <a:blip r:embed="rId3">
            <a:lum bright="-30000"/>
          </a:blip>
          <a:stretch/>
        </p:blipFill>
        <p:spPr>
          <a:xfrm rot="20067600">
            <a:off x="6440040" y="-296640"/>
            <a:ext cx="2500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le of witte strepen worden ook gebruikt om aan te g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voor het aangeven van een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plosiegevaarlijke zone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, wordt het waarschuwingsbord met de letters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9C5D-0F8D-4770-BC3A-57238E4D698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429160" y="4857840"/>
            <a:ext cx="170028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83581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500120"/>
            <a:ext cx="81435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verplicht de Europese Richtlijnen te vol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geving gaat verder </a:t>
            </a:r>
            <a:r>
              <a:rPr b="0" lang="nl-NL" sz="2400" spc="-1" strike="noStrike">
                <a:solidFill>
                  <a:srgbClr val="c0163a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Arbo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rbeidsinspec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BBE8-9A34-421D-89C2-10669517CCE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5149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eidsplaatsen en projectloc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680" y="128556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én werknemer moeten ongevallen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kom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eest voorkomende ongeval is onderuitgaa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het lopen doo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normaal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D54F-0005-4E0E-ACC4-87B760484AF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Afbeelding 7" descr="IMG_5781%20bouwplaats%20entree.jpg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</a:t>
            </a: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ronbestrijd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71680" y="1499760"/>
            <a:ext cx="85723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rg besteden aan ontwerp en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cheiden van mens en gevaa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402D-E411-4A28-AA5D-C2F9CE0435F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Afbeelding 4" descr="Aquallure%201.jpg"/>
          <p:cNvPicPr/>
          <p:nvPr/>
        </p:nvPicPr>
        <p:blipFill>
          <a:blip r:embed="rId1"/>
          <a:stretch/>
        </p:blipFill>
        <p:spPr>
          <a:xfrm>
            <a:off x="2738520" y="407196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 </a:t>
            </a:r>
            <a:br>
              <a:rPr sz="2800"/>
            </a:b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lichten werknemer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680" y="1500120"/>
            <a:ext cx="83707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elf do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aangegeven, voorziene wegen en paden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ACF8-C531-4317-AAB5-2FE6FCF2F617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ouding en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eigen veiligheid en gezondheid en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ie van a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reventiebel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van ongevallen, gevaren of bijna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A217-DED3-4360-81DD-EA8B69BB936E}" type="slidenum">
              <a:rPr b="1" lang="nl-NL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71320" y="164268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e werkwijze toe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 de goede manier gebruik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gevaarlijke stoffen, vervoermiddelen en andere 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gebrachte beveilig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onlijke 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B036-35F0-4AD7-B1A2-AC1761D60D35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71320" y="499680"/>
            <a:ext cx="815652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163a"/>
                </a:solidFill>
                <a:latin typeface="Arial"/>
              </a:rPr>
              <a:t>rechten van de werknem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breking van werk bij ernstig gevaar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en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2044-222B-43A7-8735-D8E078251AE1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4498920" y="3645000"/>
            <a:ext cx="310824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5 Deskundige bijstand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71680" y="1571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moe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een of meer deskundigen aanste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16B3-8693-4398-8AE5-3AEADCC281F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6" descr=""/>
          <p:cNvPicPr/>
          <p:nvPr/>
        </p:nvPicPr>
        <p:blipFill>
          <a:blip r:embed="rId1"/>
          <a:srcRect l="41175" t="0" r="0" b="0"/>
          <a:stretch/>
        </p:blipFill>
        <p:spPr>
          <a:xfrm>
            <a:off x="7475400" y="0"/>
            <a:ext cx="1668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Bedrijfsgezondheidszor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71680" y="135684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e bedrijfsarts is belangr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is verantwoor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02FF-F59A-45F9-9193-4785B14E556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7410600" y="0"/>
            <a:ext cx="1733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6 Toezicht op V+G 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71680" y="1142640"/>
            <a:ext cx="79819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inspectiediensten waaronder de Arbeidsinspec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en rechten van de inspectiediens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ren naleven van de wetgev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en naleving van de w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 onderzoe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illeggen werk bij ernstig 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-verbaal schrijven bij strafbaar f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agen geldige legitimatie werkne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zoeken van alle werkplek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6952-DB64-4690-980C-3A7652EDC20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7" descr="MPj04373830000[1]"/>
          <p:cNvPicPr/>
          <p:nvPr/>
        </p:nvPicPr>
        <p:blipFill>
          <a:blip r:embed="rId1"/>
          <a:srcRect l="0" t="0" r="35719" b="0"/>
          <a:stretch/>
        </p:blipFill>
        <p:spPr>
          <a:xfrm>
            <a:off x="6934320" y="4495680"/>
            <a:ext cx="17240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7 Milieu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218960"/>
            <a:ext cx="76435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e schadelijke gevolgen van activ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stoot milieubelastende stoff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afvalstromen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doelmatige en correc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erwijdering van afval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0F10-347C-4C91-9A9D-99081B09B26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5" descr="http://www.ivarem.be/images/ladder-van-lansink.GIF"/>
          <p:cNvPicPr/>
          <p:nvPr/>
        </p:nvPicPr>
        <p:blipFill>
          <a:blip r:embed="rId1">
            <a:grayscl/>
          </a:blip>
          <a:stretch/>
        </p:blipFill>
        <p:spPr>
          <a:xfrm>
            <a:off x="6000840" y="-108000"/>
            <a:ext cx="400032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2375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320" y="1499760"/>
            <a:ext cx="8267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bepaling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9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0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648C-D70F-4412-9214-EEE900B3DB4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8 Asbestbepa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 inventar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iet verwerken of be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houdend afval gescheiden afvo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verdacht materiaa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ten onderzoeken door onafhankelijk lab (niet bij werk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houdende producten met gebonden vezels kan iedereen af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1EE0-3A8A-45FA-AF9D-65E4D2A5DF5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9 Arbeidstijden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71680" y="12855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x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in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sttijd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orderen dat werken en zorgtaken/gezin gecombineerd kunne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6DC7-D70C-4DDD-BAEA-0D96754AAB2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3144960" y="4071960"/>
            <a:ext cx="3017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71680" y="1285560"/>
            <a:ext cx="8370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-gecertificeerde uitzendbureaus moeten vooraf goede voorlichting over risicobeheersing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lenende organisatie is verantwoordelijk voor bescherming en veilig laten werken van inleenkrach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EEE2-A11F-4A61-B169-6156669407D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3520" y="12189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organisatie informeert  medewerker over eigen beleid, inlenende bedrijf, werk en werkpl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eidsverklaring uitzendorganis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regels inlenende bedrij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ne veiligheid- en gezondheids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onveiligheid en 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 en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unctie-eisen, gevaren, beheersmaatreg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-gebruik, vergunningen en specifieke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C906-D3E7-4068-991B-1F16F8C4F53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kstvak 6"/>
          <p:cNvSpPr/>
          <p:nvPr/>
        </p:nvSpPr>
        <p:spPr>
          <a:xfrm>
            <a:off x="1714680" y="548640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e inleenkracht krijgt documentatie mee</a:t>
            </a:r>
            <a:r>
              <a:rPr b="0" i="1" lang="nl-NL" sz="2000" spc="-1" strike="noStrike">
                <a:solidFill>
                  <a:srgbClr val="00ffff"/>
                </a:solidFill>
                <a:latin typeface="Arial"/>
                <a:ea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71400" y="1147680"/>
            <a:ext cx="7227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56F9-37DF-462A-AEDC-5976005CAC8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kstvak 6"/>
          <p:cNvSpPr/>
          <p:nvPr/>
        </p:nvSpPr>
        <p:spPr>
          <a:xfrm>
            <a:off x="571680" y="1285920"/>
            <a:ext cx="842940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lenende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bedrij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directe instructie over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lden geva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handelen bij noodsitua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edoen met oefeni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inschakelen hulpdien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zet inleenkracht op afgesproken wer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oor nieuwe taken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angeven wat de risico’s en preventiemaatregelen zij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fspraken met uitzendorganisatie over  taakverdeling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wie informeert, instrueert en verstrekt de PB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70722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 Invloed van Europ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828440"/>
            <a:ext cx="795168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lid van de Europese U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ten moeten zo nodig worden aangepa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CE-marke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CE-markering op machines en PB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.b.t. veiligheid voldoen CE-producten aan de betreffende Europese richtl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lleen CE-gemarkeerde arbeidsmiddelen mogen op de markt worden gebracht en worden gebrui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7FBD-43AD-4361-9E55-4EA44D12A27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181080" y="-509760"/>
            <a:ext cx="16192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1"/>
          <a:stretch/>
        </p:blipFill>
        <p:spPr>
          <a:xfrm>
            <a:off x="6242040" y="30240"/>
            <a:ext cx="27259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over veilig  en gezond werken</a:t>
            </a:r>
            <a:r>
              <a:rPr b="1" lang="nl-NL" sz="2800" spc="-1" strike="noStrike">
                <a:solidFill>
                  <a:srgbClr val="47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00120"/>
            <a:ext cx="815652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rbeidsomstandighedenwet  is 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angrijkste wet op het gebied v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 en gezondheid bij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werknemers bij het werk bescherm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eteren van de veilig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gezondheid en welzij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alle plaatsen waar 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00CE-78C9-4991-94DD-37E51D53443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71320" y="1428480"/>
            <a:ext cx="7143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s én werknemers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geve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an het bedrijf waar je in dienst bent, maar ook degene die jou aanwijzingen geeft, toezicht houdt en middelen verstrekt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nemer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vaste/tijdelijke dienst, uitzendkrachten, stagiairs, vrijwillig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58D8-FCA2-4134-94ED-2399032BEFF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65354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Welzijn in de 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71320" y="1428840"/>
            <a:ext cx="82674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richting werkplek aan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ten op persoonsfacto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eftijd en gesl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, vakmanschap en voer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3FDE-AA70-4369-B3FD-2E39313F1B7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2" name="Tijdelijke aanduiding voor inhoud 3"/>
          <p:cNvSpPr/>
          <p:nvPr/>
        </p:nvSpPr>
        <p:spPr>
          <a:xfrm>
            <a:off x="571680" y="3571920"/>
            <a:ext cx="82674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vloed op eigen werkzaamhe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eentonig werk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62308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Kennis als uitgangspun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320" y="1643040"/>
            <a:ext cx="7886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 aan werknemers  o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GW algem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plekgevaren en veiligheids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schriften en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toets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EFAE-1CEA-4766-BE1C-B25610679C7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7" name="Tijdelijke aanduiding voor inhoud 3"/>
          <p:cNvSpPr/>
          <p:nvPr/>
        </p:nvSpPr>
        <p:spPr>
          <a:xfrm>
            <a:off x="609480" y="3733920"/>
            <a:ext cx="7013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gever laat zich bijstaan door deskundig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30456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1B53-5382-47FB-9D7F-A2A0FC68296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358040" y="0"/>
            <a:ext cx="1785960" cy="235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01" name=""/>
          <p:cNvSpPr txBox="1"/>
          <p:nvPr/>
        </p:nvSpPr>
        <p:spPr>
          <a:xfrm>
            <a:off x="571680" y="18396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dat de werknemer veilig werkt en geen gezondheidsschade oploopt door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als de werkgever dat niet goed doet, kan hij gestraft   worden en zal hij de schade aan de werknemer moeten vergoe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Hans Mulder</cp:lastModifiedBy>
  <dcterms:modified xsi:type="dcterms:W3CDTF">2016-10-06T09:07:09Z</dcterms:modified>
  <cp:revision>211</cp:revision>
  <dc:subject/>
  <dc:title>Taak en positie VFP</dc:title>
</cp:coreProperties>
</file>