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CEE1-B2CD-498C-8AA5-6AE9D2D47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D0AD-A3D9-4B7F-9B45-4C28B9409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D759-E211-4276-8DC1-959AD68C0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0B4A-82BD-4F44-8499-913D6D513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32E2-D7C4-4522-9C7A-1262FA86E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FC9F-D5F6-45F0-9F35-227F79F46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7018-F5D3-43AF-86BA-D592CCECC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6DB5-68B9-4E67-99D7-5947EC3D4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298B-CACC-4D0D-B4BD-D0C3D5783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0AFA-0E8B-46C7-9A96-D0A8E6F1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02B8-4B22-4322-8C54-95B37D64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485C-6A85-4CC7-AB22-CC601980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752E4-9401-4CB4-B68C-04CD500CF7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Garamond"/>
              </a:rPr>
              <a:t>Toolboxmeeting </a:t>
            </a:r>
            <a:br>
              <a:rPr sz="1200"/>
            </a:br>
            <a:r>
              <a:rPr b="1" lang="en-US" sz="1200" spc="-1" strike="noStrike">
                <a:solidFill>
                  <a:srgbClr val="0066ff"/>
                </a:solidFill>
                <a:latin typeface="Garamond"/>
              </a:rPr>
              <a:t>Versie 1, juni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77bbb"/>
                </a:solidFill>
                <a:latin typeface="Times New Roman"/>
              </a:rPr>
              <a:t>Tillen van zware last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44" name="logo%20CUMELA%20RGB" descr=""/>
          <p:cNvPicPr/>
          <p:nvPr/>
        </p:nvPicPr>
        <p:blipFill>
          <a:blip r:embed="rId2"/>
          <a:stretch/>
        </p:blipFill>
        <p:spPr>
          <a:xfrm>
            <a:off x="76320" y="5987880"/>
            <a:ext cx="1447560" cy="7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Gezonde uitvo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robeer niet te ver te reiken, te strekken of te bukk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Zorg voor een goede lichamelijke condit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il alleen niet meer dan 25 k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logo%20nieuw" descr=""/>
          <p:cNvPicPr/>
          <p:nvPr/>
        </p:nvPicPr>
        <p:blipFill>
          <a:blip r:embed="rId1"/>
          <a:stretch/>
        </p:blipFill>
        <p:spPr>
          <a:xfrm>
            <a:off x="7238880" y="6248520"/>
            <a:ext cx="1828800" cy="603000"/>
          </a:xfrm>
          <a:prstGeom prst="rect">
            <a:avLst/>
          </a:prstGeom>
          <a:ln w="0">
            <a:noFill/>
          </a:ln>
        </p:spPr>
      </p:pic>
      <p:pic>
        <p:nvPicPr>
          <p:cNvPr id="96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609480" y="3733920"/>
            <a:ext cx="3353040" cy="26604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4673520" y="3657600"/>
            <a:ext cx="183528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Gezonde uitvo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aramond"/>
              </a:rPr>
              <a:t>Houd de last dicht bij je licha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aramond"/>
              </a:rPr>
              <a:t>Draai tijdens het tillen nooit met je ru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aramond"/>
              </a:rPr>
              <a:t>Maak een positieverandering alleen met de voe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103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990720" y="1903320"/>
            <a:ext cx="3047760" cy="2430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5867280" y="1066680"/>
            <a:ext cx="219096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Gezonde uitvo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1920" y="9140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Zorg voor voldoende bewegingsruimte en een stabiele ondergro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chat de noodzakelijke kracht goed 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il over een zo kort mogelijke afst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chuif, kantel of rol de la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110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0" y="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685800" y="3149640"/>
            <a:ext cx="2514600" cy="16794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5943600" y="3135240"/>
            <a:ext cx="2133720" cy="1665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4038480" y="2971800"/>
            <a:ext cx="1490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Voordelen van verantwoord til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Het lichaam blijft gezond, ook op lange termij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Minder ziekteverzuim en WAO-instro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Lagere reïntegratiekosten en verzekeringsprem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Veilig tillen kan ongevallen voorkom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118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Belangrijke aandachtspun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ak de te tillen last stevig va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Neem een goede tilhouding a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Gebruik hulpmiddelen of til met meerdere person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ees deskundig in het gebruik van tilhulpmiddel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Zorg voor een goede lichamelijke condit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123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Inhou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andachtspun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Gevol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etge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Verantwoordelijkhe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Knelpun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Gezonde uitvo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48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Aandachtspun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Veel lasten worden mechanisch geti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Zware lichamelijke belasting bij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wielen verwisse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mestsla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aanbouwwerktu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frontgewich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kunstmestzak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n het veld of in de werkplaa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53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29200" y="2819520"/>
            <a:ext cx="304812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Gevolg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Overbelasting van de ru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Lichamelijke klach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Ziekteverzuim, (gedeeltelijk) arbeidsongeschik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Bij onveilig tillen letsel door beknellin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59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943600" y="1143000"/>
            <a:ext cx="2327400" cy="23162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380880" y="4202280"/>
            <a:ext cx="304812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Wetgev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Arbowe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De werkzaamheden mogen geen gezondheidsschade veroorzak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Arboregelingen en norm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Praktische voorschriften over bijv. het max. te tillen gewicht en de omstandighed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66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Verantwoordelijkhed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Werkgev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moet zorg dragen dat het tillen van (te) zware lasten verantwoord gebeu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Werknem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moet de voorschriften en de voorlichting over de juiste wijze van tillen opvolg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abrika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geeft de gebruiksmogelijkheden en de technische veiligheidseisen a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71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Knelpun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De last is moeilijk goed vast te pakk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lechte stand van het lichaam t.o.v. de la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76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533520" y="2895480"/>
            <a:ext cx="3047760" cy="27432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4648320" y="2911320"/>
            <a:ext cx="3429000" cy="27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Knelpun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lechte terreinomstandighed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toringen in het ve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De noodzakelijke spieren zijn in een slechte condit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83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876920" y="3809880"/>
            <a:ext cx="312408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Gezonde uitvo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6854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aramond"/>
              </a:rPr>
              <a:t>Gebruik handschoenen, steunbalkjes, strop of ketting als een beter aangrijpingspu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aramond"/>
              </a:rPr>
              <a:t>Gebruik bij te zware lasten tilhulpmiddelen (tilbok, steek-/kruiwagen, hijs- en hefwerktuigen, bandenka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89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066680" y="1981080"/>
            <a:ext cx="1828800" cy="2590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5562720" y="1865160"/>
            <a:ext cx="281916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07:56:57Z</dcterms:created>
  <dc:creator>jpolman</dc:creator>
  <dc:description/>
  <dc:language>en-US</dc:language>
  <cp:lastModifiedBy>Anne Soldaat</cp:lastModifiedBy>
  <dcterms:modified xsi:type="dcterms:W3CDTF">2005-06-08T13:16:58Z</dcterms:modified>
  <cp:revision>23</cp:revision>
  <dc:subject/>
  <dc:title>Toolboxmeeting NUMMER Maand en jaar</dc:title>
</cp:coreProperties>
</file>