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0DD-D797-446B-A5C1-6A143DE8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B73-7427-4F20-AAE3-EF2C23FD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8A7-564E-4067-8429-DB032090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E9D0-8555-4732-9743-60E0A260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9A8-1E00-4AE9-A9E6-B1D3727E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72A3-96D0-4F23-B18A-D1C7DCD6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DBEE-D8DF-4687-93BC-E8A3151B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A87-AE6A-4EF5-9310-5D72E6F4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39ED-124E-4F30-9874-97E9976C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3A4D-CA10-4E5D-B003-623F77B5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B68-B024-4C71-ACD6-7419E84D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3BA-B2CE-4391-AFAC-401ADE75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3D49-181D-4115-AD9D-5FB25EBCF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Toolboxmeeting 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Versie 1, juni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7bbb"/>
                </a:solidFill>
                <a:latin typeface="Times New Roman"/>
              </a:rPr>
              <a:t>Tillen van zware las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4" name="logo%20CUMELA%20RGB" descr=""/>
          <p:cNvPicPr/>
          <p:nvPr/>
        </p:nvPicPr>
        <p:blipFill>
          <a:blip r:embed="rId2"/>
          <a:stretch/>
        </p:blipFill>
        <p:spPr>
          <a:xfrm>
            <a:off x="76320" y="5987880"/>
            <a:ext cx="144756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beer niet te ver te reiken, te strekken of te bu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alleen niet meer dan 25 k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ogo%20nieuw" descr=""/>
          <p:cNvPicPr/>
          <p:nvPr/>
        </p:nvPicPr>
        <p:blipFill>
          <a:blip r:embed="rId1"/>
          <a:stretch/>
        </p:blipFill>
        <p:spPr>
          <a:xfrm>
            <a:off x="7238880" y="6248520"/>
            <a:ext cx="1828800" cy="603000"/>
          </a:xfrm>
          <a:prstGeom prst="rect">
            <a:avLst/>
          </a:prstGeom>
          <a:ln w="0">
            <a:noFill/>
          </a:ln>
        </p:spPr>
      </p:pic>
      <p:pic>
        <p:nvPicPr>
          <p:cNvPr id="9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353040" cy="2660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73520" y="3657600"/>
            <a:ext cx="18352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Houd de last dicht bij je licha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Draai tijdens het tillen nooit met j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Maak een positieverandering alleen met de voe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0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1903320"/>
            <a:ext cx="3047760" cy="243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867280" y="1066680"/>
            <a:ext cx="21909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voldoende bewegingsruimte en een stabiele ondergr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at de noodzakelijke kracht goed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over een zo kort mogelijke afst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uif, kantel of rol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0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85800" y="3149640"/>
            <a:ext cx="2514600" cy="1679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943600" y="3135240"/>
            <a:ext cx="2133720" cy="1665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038480" y="2971800"/>
            <a:ext cx="1490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oordelen van verantwoord til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et lichaam blijft gezond, ook op lange termij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inder ziekteverzuim en WAO-inst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agere reïntegratiekosten en verzekeringsprem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ilig tillen kan ongevallen voorko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Belangrijke 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k de te tillen last stevig v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eem een goede tilhouding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bruik hulpmiddelen of til met meerdere person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es deskundig in het gebruik van tilhulpmidde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2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andachts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vol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tge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rantwoordelijkh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Knel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zonde uitvo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el lasten worden mechanisch get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ware lichamelijke belasting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wielen verwis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estsla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aanbouwwerktu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frontgewi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kunstmestza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het veld of in de werkpla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29200" y="2819520"/>
            <a:ext cx="30481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vol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verbelasting van d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ichamelijke klach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iekteverzuim, (gedeeltelijk) arbeidsongeschik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ij onveilig tillen letsel door beknell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943600" y="1143000"/>
            <a:ext cx="2327400" cy="2316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80880" y="4202280"/>
            <a:ext cx="30481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Wetge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w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De werkzaamheden mogen geen gezondheidsschade veroorz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regelingen en norm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Praktische voorschriften over bijv. het max. te tillen gewicht en de 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6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erantwoordelijkhe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gev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zorg dragen dat het tillen van (te) zware lasten verantwoord gebeu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nem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de voorschriften en de voorlichting over de juiste wijze van tillen opvol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abrik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geeft de gebruiksmogelijkheden en de technische veiligheidseisen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last is moeilijk goed vast te pa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stand van het lichaam t.o.v.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3520" y="2895480"/>
            <a:ext cx="304776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648320" y="2911320"/>
            <a:ext cx="3429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terrein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oringen in het v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noodzakelijke spieren zijn in een slecht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31240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handschoenen, steunbalkjes, strop of ketting als een beter aangrijpingspu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bij te zware lasten tilhulpmiddelen (tilbok, steek-/kruiwagen, hijs- en hefwerktuigen, bandenka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6680" y="1981080"/>
            <a:ext cx="18288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562720" y="1865160"/>
            <a:ext cx="28191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07:56:57Z</dcterms:created>
  <dc:creator>jpolman</dc:creator>
  <dc:description/>
  <dc:language>en-US</dc:language>
  <cp:lastModifiedBy>Anne Soldaat</cp:lastModifiedBy>
  <dcterms:modified xsi:type="dcterms:W3CDTF">2005-06-08T13:16:58Z</dcterms:modified>
  <cp:revision>23</cp:revision>
  <dc:subject/>
  <dc:title>Toolboxmeeting NUMMER Maand en jaar</dc:title>
</cp:coreProperties>
</file>