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4C4-DDE4-44B8-AFBB-EF13B9429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6E6-125D-44C3-BFCF-9A253F02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9E9-DE81-4213-B6CE-16407CAE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08E-6BDA-40A4-8CDF-C6951721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6DF-B6C4-4B52-A0F9-03510F96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165-7637-415C-9F83-F3B3C147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6A2-5051-4200-B486-AADA4FB3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D03-9AAC-473D-9C8E-F4B79786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D28-58C8-4DFD-9CB7-9EC742B0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26B-86C1-4DE6-849F-74CCA919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5AD-AA84-43A3-8DD1-BCE2A98E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A11-41EE-413F-9531-33367F75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BFFD-26FF-4FAE-86A6-6924FAC4451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7845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GjvqgyLyy88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ya-sxVfNm_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cQGIMKORTUo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61360" y="3054240"/>
            <a:ext cx="16761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6760" y="3584520"/>
            <a:ext cx="17128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91200" y="6480"/>
            <a:ext cx="21528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ersterkte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terkte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erkte neus en versterkte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e kleding bij explosiegev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ding wisselen bij verandering van taak/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moet goed passen en is afgestemd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veiligheidsharnassen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veiligheidsharnassen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5320" y="2558160"/>
              <a:ext cx="463680" cy="1000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11840" y="2597040"/>
            <a:ext cx="2425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patten 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ststof of metaalgazen scherm rondom het gehel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 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8760" y="1530360"/>
            <a:ext cx="157176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21680" y="3206880"/>
            <a:ext cx="157320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6160" y="4724280"/>
            <a:ext cx="1341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(autogeen)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,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54640" y="2365200"/>
            <a:ext cx="1785960" cy="16099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54640" y="4505400"/>
            <a:ext cx="17622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(druk)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(druk)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6480"/>
            <a:ext cx="19875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Gerrit Hoff</cp:lastModifiedBy>
  <cp:lastPrinted>2015-10-06T06:41:37Z</cp:lastPrinted>
  <dcterms:modified xsi:type="dcterms:W3CDTF">2015-10-06T14:13:37Z</dcterms:modified>
  <cp:revision>42</cp:revision>
  <dc:subject/>
  <dc:title>Test</dc:title>
</cp:coreProperties>
</file>