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.wmf" ContentType="image/x-wmf"/>
  <Override PartName="/ppt/media/image29.png" ContentType="image/png"/>
  <Override PartName="/ppt/media/image43.png" ContentType="image/png"/>
  <Override PartName="/ppt/media/image3.wmf" ContentType="image/x-wmf"/>
  <Override PartName="/ppt/media/image32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46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8.png" ContentType="image/png"/>
  <Override PartName="/ppt/media/image38.png" ContentType="image/png"/>
  <Override PartName="/ppt/media/image12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7.png" ContentType="image/png"/>
  <Override PartName="/ppt/media/image40.wmf" ContentType="image/x-wmf"/>
  <Override PartName="/ppt/media/image37.png" ContentType="image/png"/>
  <Override PartName="/ppt/media/image6.png" ContentType="image/png"/>
  <Override PartName="/ppt/media/image3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8B80-F6EA-42A3-8686-111C59815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A77E-14D4-4E4A-BDA7-CD6F6A6C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9688-02B9-4987-BC0D-A5623EE6F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CC4C-A06B-424D-B391-46F4491B6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1D9C-1074-4FA7-8D4F-9060137E1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75CA-6F28-40D0-96C5-387765F1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499B-B7EA-4510-8ADE-48B8CC7B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3970-DB35-419C-A341-B06C0D9A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DEA2-5502-4AC0-B717-014F3371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CA4C3-8E67-4DB7-A99C-D98A2D70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A514-6B3A-4F9A-8577-6B436034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D045-8882-4457-B277-9E5ED3C3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FFA1-2F23-456B-B692-B068585E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5DBF-F58B-418E-9A3C-A1EEB989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4AD9A-CD11-4F71-A5C7-6380B6E3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3B25-95B2-4CF5-B103-EB0181B9D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4E97-1E41-4916-B37A-0B23815F4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429C1-E44F-4C31-9E13-B261F7550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E150C-2B24-48B3-B784-6D5BA3C0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DBB2E-554D-4AFD-8254-5B3B3754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00123-46A6-4262-89DF-41B23091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2E4EC-3A47-4299-AA41-29439D19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5283-F755-4B0A-985A-A195ECC4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BD680-5AD2-4B59-9CEB-CDA122FA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540A5-129F-4FDB-B55C-438CC4B1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DB91E-D735-4E99-8952-93FA1B49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5A26D-5852-43E3-A986-2014BE59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00F63-61E9-4154-8906-D9F7FCBC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5EB0F-ACC5-4C74-A599-63D2089FF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59BD0-426F-46E2-8D95-ADF452F6A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8222-E03C-4B99-8530-1E3FBF1E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1196-09FF-46D2-9773-D5B2CAAE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C1B0-A196-4E95-9622-E4E13A75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0565-5BD9-4C14-ABC4-290A951B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8698-2177-4471-8ED7-22580282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271A-4B72-49DD-8765-4CAFC646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9A75-8924-48F3-A91B-F7F23C6EC6AD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AF8F-5C81-4FC6-AFF8-952782793ED8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4512-33A4-4AF9-85A4-EDF8F523A73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erckebosch.nl/html/home.php" TargetMode="External"/><Relationship Id="rId3" Type="http://schemas.openxmlformats.org/officeDocument/2006/relationships/hyperlink" Target="http://www.kerckebosch.nl/html/home.php" TargetMode="External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7.png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0.png"/><Relationship Id="rId12" Type="http://schemas.openxmlformats.org/officeDocument/2006/relationships/image" Target="../media/image19.wmf"/><Relationship Id="rId13" Type="http://schemas.openxmlformats.org/officeDocument/2006/relationships/image" Target="../media/image19.wmf"/><Relationship Id="rId14" Type="http://schemas.openxmlformats.org/officeDocument/2006/relationships/image" Target="../media/image19.wmf"/><Relationship Id="rId15" Type="http://schemas.openxmlformats.org/officeDocument/2006/relationships/image" Target="../media/image19.wmf"/><Relationship Id="rId16" Type="http://schemas.openxmlformats.org/officeDocument/2006/relationships/image" Target="../media/image19.wmf"/><Relationship Id="rId17" Type="http://schemas.openxmlformats.org/officeDocument/2006/relationships/image" Target="../media/image19.wmf"/><Relationship Id="rId18" Type="http://schemas.openxmlformats.org/officeDocument/2006/relationships/image" Target="../media/image19.wmf"/><Relationship Id="rId19" Type="http://schemas.openxmlformats.org/officeDocument/2006/relationships/image" Target="../media/image19.wmf"/><Relationship Id="rId20" Type="http://schemas.openxmlformats.org/officeDocument/2006/relationships/image" Target="../media/image20.png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image" Target="../media/image34.png"/><Relationship Id="rId16" Type="http://schemas.openxmlformats.org/officeDocument/2006/relationships/image" Target="../media/image35.png"/><Relationship Id="rId17" Type="http://schemas.openxmlformats.org/officeDocument/2006/relationships/image" Target="../media/image36.png"/><Relationship Id="rId18" Type="http://schemas.openxmlformats.org/officeDocument/2006/relationships/image" Target="../media/image37.png"/><Relationship Id="rId19" Type="http://schemas.openxmlformats.org/officeDocument/2006/relationships/image" Target="../media/image38.png"/><Relationship Id="rId20" Type="http://schemas.openxmlformats.org/officeDocument/2006/relationships/image" Target="../media/image39.png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40.wmf"/><Relationship Id="rId4" Type="http://schemas.openxmlformats.org/officeDocument/2006/relationships/image" Target="../media/image10.png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41.png"/><Relationship Id="rId4" Type="http://schemas.openxmlformats.org/officeDocument/2006/relationships/image" Target="../media/image7.png"/><Relationship Id="rId5" Type="http://schemas.openxmlformats.org/officeDocument/2006/relationships/image" Target="../media/image42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5">
            <a:hlinkClick r:id="rId2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AutoShape 7">
            <a:hlinkClick r:id="rId3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ijdelijke aanduiding voor dianumm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48CC-D3CC-44D7-8ADE-27E09B7DF8B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itel 4"/>
          <p:cNvSpPr/>
          <p:nvPr/>
        </p:nvSpPr>
        <p:spPr>
          <a:xfrm>
            <a:off x="642960" y="571680"/>
            <a:ext cx="8020080" cy="36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bb2d"/>
                </a:solidFill>
                <a:latin typeface="Arial"/>
                <a:ea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b800"/>
                </a:solidFill>
                <a:latin typeface="Arial"/>
                <a:ea typeface="Arial"/>
              </a:rPr>
              <a:t>Hoofdstuk 3</a:t>
            </a:r>
            <a:br>
              <a:rPr sz="4400"/>
            </a:br>
            <a:r>
              <a:rPr b="1" lang="en-US" sz="4400" spc="-1" strike="noStrike">
                <a:solidFill>
                  <a:srgbClr val="44b800"/>
                </a:solidFill>
                <a:latin typeface="Arial"/>
                <a:ea typeface="Arial"/>
              </a:rPr>
              <a:t>Veiligheidsmotivatie,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b800"/>
                </a:solidFill>
                <a:latin typeface="Arial"/>
                <a:ea typeface="Arial"/>
              </a:rPr>
              <a:t>leiderschap en veilig werkgedrag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4A0F-271B-4974-BAB8-0F8445F4457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71680" y="14997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uwe medewerker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lgemene voorlicht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odmaatreg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ldingsprocedur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t te doen bij een ongev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BM-gebrui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plek inf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5 VGM-instructi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356E-761A-4E65-A2D9-690373EBF6D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71680" y="1499760"/>
            <a:ext cx="8370720" cy="16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ste structuur en regelma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bereid, agenda en versl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breng van iedere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5 VGM-overle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BBE4-6151-479E-95E4-E816E51FB78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571680" y="1285560"/>
            <a:ext cx="83325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werken volgens veiligheidsvoorschrif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kaar aanspreken op onveilig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grijpen bij onveilige situati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agen stellen bij onduidelijkhe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leidinggevende stimuleert dit door voorbeeld gedra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zicht  te houden en te corrig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kening te houden met de inbreng v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kundigen en medewerk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tuigende en onderbouwde instructies te gev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6 Gewenst gedra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9A25-EDE8-4A65-9EDA-A5240439A8C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05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7 Gedrag beïnvloeden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16" name="Tekstvak 6"/>
          <p:cNvGrpSpPr/>
          <p:nvPr/>
        </p:nvGrpSpPr>
        <p:grpSpPr>
          <a:xfrm>
            <a:off x="249120" y="1047600"/>
            <a:ext cx="1378080" cy="689040"/>
            <a:chOff x="249120" y="1047600"/>
            <a:chExt cx="1378080" cy="689040"/>
          </a:xfrm>
        </p:grpSpPr>
        <p:pic>
          <p:nvPicPr>
            <p:cNvPr id="317" name="Tekstvak 6" descr=""/>
            <p:cNvPicPr/>
            <p:nvPr/>
          </p:nvPicPr>
          <p:blipFill>
            <a:blip r:embed="rId2"/>
            <a:stretch/>
          </p:blipFill>
          <p:spPr>
            <a:xfrm>
              <a:off x="249120" y="1047600"/>
              <a:ext cx="13780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428760" y="11430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oel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" name="Tekstvak 7"/>
          <p:cNvGrpSpPr/>
          <p:nvPr/>
        </p:nvGrpSpPr>
        <p:grpSpPr>
          <a:xfrm>
            <a:off x="249120" y="2120760"/>
            <a:ext cx="1463760" cy="689040"/>
            <a:chOff x="249120" y="2120760"/>
            <a:chExt cx="1463760" cy="689040"/>
          </a:xfrm>
        </p:grpSpPr>
        <p:pic>
          <p:nvPicPr>
            <p:cNvPr id="320" name="Tekstvak 7" descr=""/>
            <p:cNvPicPr/>
            <p:nvPr/>
          </p:nvPicPr>
          <p:blipFill>
            <a:blip r:embed="rId3"/>
            <a:stretch/>
          </p:blipFill>
          <p:spPr>
            <a:xfrm>
              <a:off x="249120" y="2120760"/>
              <a:ext cx="146376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428760" y="221472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asis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2" name="Tekstvak 8"/>
          <p:cNvGrpSpPr/>
          <p:nvPr/>
        </p:nvGrpSpPr>
        <p:grpSpPr>
          <a:xfrm>
            <a:off x="228600" y="3352680"/>
            <a:ext cx="1784160" cy="1066680"/>
            <a:chOff x="228600" y="3352680"/>
            <a:chExt cx="1784160" cy="1066680"/>
          </a:xfrm>
        </p:grpSpPr>
        <p:pic>
          <p:nvPicPr>
            <p:cNvPr id="323" name="Tekstvak 8" descr=""/>
            <p:cNvPicPr/>
            <p:nvPr/>
          </p:nvPicPr>
          <p:blipFill>
            <a:blip r:embed="rId4"/>
            <a:stretch/>
          </p:blipFill>
          <p:spPr>
            <a:xfrm>
              <a:off x="228600" y="3352680"/>
              <a:ext cx="17841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416160" y="3448080"/>
              <a:ext cx="149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ategie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25" name="Groep 15" descr=""/>
          <p:cNvPicPr/>
          <p:nvPr/>
        </p:nvPicPr>
        <p:blipFill>
          <a:blip r:embed="rId5"/>
          <a:stretch/>
        </p:blipFill>
        <p:spPr>
          <a:xfrm>
            <a:off x="2798640" y="2151000"/>
            <a:ext cx="2565360" cy="590760"/>
          </a:xfrm>
          <a:prstGeom prst="rect">
            <a:avLst/>
          </a:prstGeom>
          <a:ln w="0">
            <a:noFill/>
          </a:ln>
        </p:spPr>
      </p:pic>
      <p:grpSp>
        <p:nvGrpSpPr>
          <p:cNvPr id="326" name="Tekstvak 9"/>
          <p:cNvGrpSpPr/>
          <p:nvPr/>
        </p:nvGrpSpPr>
        <p:grpSpPr>
          <a:xfrm>
            <a:off x="249120" y="4681440"/>
            <a:ext cx="1457280" cy="695520"/>
            <a:chOff x="249120" y="4681440"/>
            <a:chExt cx="1457280" cy="695520"/>
          </a:xfrm>
        </p:grpSpPr>
        <p:pic>
          <p:nvPicPr>
            <p:cNvPr id="327" name="Tekstvak 9" descr=""/>
            <p:cNvPicPr/>
            <p:nvPr/>
          </p:nvPicPr>
          <p:blipFill>
            <a:blip r:embed="rId6"/>
            <a:stretch/>
          </p:blipFill>
          <p:spPr>
            <a:xfrm>
              <a:off x="249120" y="4681440"/>
              <a:ext cx="145728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428760" y="477684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cties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9" name="Tekstvak 10"/>
          <p:cNvSpPr/>
          <p:nvPr/>
        </p:nvSpPr>
        <p:spPr>
          <a:xfrm>
            <a:off x="3146400" y="1071720"/>
            <a:ext cx="371484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veiliger  werkgedra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kstvak 12"/>
          <p:cNvSpPr/>
          <p:nvPr/>
        </p:nvSpPr>
        <p:spPr>
          <a:xfrm>
            <a:off x="1905120" y="3357720"/>
            <a:ext cx="1806480" cy="947160"/>
          </a:xfrm>
          <a:prstGeom prst="rect">
            <a:avLst/>
          </a:prstGeom>
          <a:solidFill>
            <a:srgbClr val="ee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benadruk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succes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1" name="Groep 19" descr=""/>
          <p:cNvPicPr/>
          <p:nvPr/>
        </p:nvPicPr>
        <p:blipFill>
          <a:blip r:embed="rId7"/>
          <a:stretch/>
        </p:blipFill>
        <p:spPr>
          <a:xfrm>
            <a:off x="5303880" y="2152800"/>
            <a:ext cx="2560680" cy="590400"/>
          </a:xfrm>
          <a:prstGeom prst="rect">
            <a:avLst/>
          </a:prstGeom>
          <a:ln w="0">
            <a:noFill/>
          </a:ln>
        </p:spPr>
      </p:pic>
      <p:sp>
        <p:nvSpPr>
          <p:cNvPr id="332" name="Tekstvak 27"/>
          <p:cNvSpPr/>
          <p:nvPr/>
        </p:nvSpPr>
        <p:spPr>
          <a:xfrm>
            <a:off x="2071800" y="4776840"/>
            <a:ext cx="164304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acti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strategie 1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Tekstvak 29"/>
          <p:cNvSpPr/>
          <p:nvPr/>
        </p:nvSpPr>
        <p:spPr>
          <a:xfrm>
            <a:off x="3581280" y="3357720"/>
            <a:ext cx="1844640" cy="947160"/>
          </a:xfrm>
          <a:prstGeom prst="rect">
            <a:avLst/>
          </a:prstGeom>
          <a:solidFill>
            <a:srgbClr val="ee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verminder nadel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34" name="Rechte verbindingslijn met pijl 30"/>
          <p:cNvCxnSpPr>
            <a:endCxn id="330" idx="0"/>
          </p:cNvCxnSpPr>
          <p:nvPr/>
        </p:nvCxnSpPr>
        <p:spPr>
          <a:xfrm flipH="1">
            <a:off x="2807640" y="2738520"/>
            <a:ext cx="1253160" cy="619920"/>
          </a:xfrm>
          <a:prstGeom prst="straightConnector1">
            <a:avLst/>
          </a:prstGeom>
          <a:ln w="76320">
            <a:solidFill>
              <a:srgbClr val="44b800"/>
            </a:solidFill>
            <a:miter/>
            <a:tailEnd len="med" type="arrow" w="med"/>
          </a:ln>
        </p:spPr>
      </p:cxnSp>
      <p:cxnSp>
        <p:nvCxnSpPr>
          <p:cNvPr id="335" name="Rechte verbindingslijn met pijl 31"/>
          <p:cNvCxnSpPr/>
          <p:nvPr/>
        </p:nvCxnSpPr>
        <p:spPr>
          <a:xfrm>
            <a:off x="4143240" y="2738520"/>
            <a:ext cx="535680" cy="619920"/>
          </a:xfrm>
          <a:prstGeom prst="straightConnector1">
            <a:avLst/>
          </a:prstGeom>
          <a:ln w="76320">
            <a:solidFill>
              <a:srgbClr val="44b800"/>
            </a:solidFill>
            <a:miter/>
            <a:tailEnd len="med" type="arrow" w="med"/>
          </a:ln>
        </p:spPr>
      </p:cxnSp>
      <p:cxnSp>
        <p:nvCxnSpPr>
          <p:cNvPr id="336" name="Rechte verbindingslijn met pijl 37"/>
          <p:cNvCxnSpPr>
            <a:endCxn id="337" idx="0"/>
          </p:cNvCxnSpPr>
          <p:nvPr/>
        </p:nvCxnSpPr>
        <p:spPr>
          <a:xfrm>
            <a:off x="6642720" y="2738520"/>
            <a:ext cx="1641960" cy="619920"/>
          </a:xfrm>
          <a:prstGeom prst="straightConnector1">
            <a:avLst/>
          </a:prstGeom>
          <a:ln w="76320">
            <a:solidFill>
              <a:srgbClr val="44b800"/>
            </a:solidFill>
            <a:miter/>
            <a:tailEnd len="med" type="arrow" w="med"/>
          </a:ln>
        </p:spPr>
      </p:cxnSp>
      <p:cxnSp>
        <p:nvCxnSpPr>
          <p:cNvPr id="338" name="Rechte verbindingslijn met pijl 38"/>
          <p:cNvCxnSpPr>
            <a:endCxn id="339" idx="0"/>
          </p:cNvCxnSpPr>
          <p:nvPr/>
        </p:nvCxnSpPr>
        <p:spPr>
          <a:xfrm flipH="1">
            <a:off x="6476400" y="2738520"/>
            <a:ext cx="143640" cy="619920"/>
          </a:xfrm>
          <a:prstGeom prst="straightConnector1">
            <a:avLst/>
          </a:prstGeom>
          <a:ln w="76320">
            <a:solidFill>
              <a:srgbClr val="44b800"/>
            </a:solidFill>
            <a:miter/>
            <a:tailEnd len="med" type="arrow" w="med"/>
          </a:ln>
        </p:spPr>
      </p:cxnSp>
      <p:sp>
        <p:nvSpPr>
          <p:cNvPr id="339" name="Tekstvak 40"/>
          <p:cNvSpPr/>
          <p:nvPr/>
        </p:nvSpPr>
        <p:spPr>
          <a:xfrm>
            <a:off x="5334120" y="3357720"/>
            <a:ext cx="2286000" cy="947160"/>
          </a:xfrm>
          <a:prstGeom prst="rect">
            <a:avLst/>
          </a:prstGeom>
          <a:solidFill>
            <a:srgbClr val="ee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gevolg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benadrukk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Tekstvak 41"/>
          <p:cNvSpPr/>
          <p:nvPr/>
        </p:nvSpPr>
        <p:spPr>
          <a:xfrm>
            <a:off x="7572240" y="3357720"/>
            <a:ext cx="1425600" cy="947160"/>
          </a:xfrm>
          <a:prstGeom prst="rect">
            <a:avLst/>
          </a:prstGeom>
          <a:solidFill>
            <a:srgbClr val="ee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moeilijk mak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Tekstvak 47"/>
          <p:cNvSpPr/>
          <p:nvPr/>
        </p:nvSpPr>
        <p:spPr>
          <a:xfrm>
            <a:off x="3786120" y="4786200"/>
            <a:ext cx="1643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acti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strategie 2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Tekstvak 48"/>
          <p:cNvSpPr/>
          <p:nvPr/>
        </p:nvSpPr>
        <p:spPr>
          <a:xfrm>
            <a:off x="5572080" y="4786200"/>
            <a:ext cx="1928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acti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strategie 3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Tekstvak 49"/>
          <p:cNvSpPr/>
          <p:nvPr/>
        </p:nvSpPr>
        <p:spPr>
          <a:xfrm>
            <a:off x="7543800" y="4724280"/>
            <a:ext cx="1600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acti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strategie 4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17F4-A2EF-4A93-9481-6BF027E93D8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143000" y="1828440"/>
            <a:ext cx="371808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ucces benadruk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beeldgedra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kmansch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ard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ef bespre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idelijke instructies ge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Strategische acties bevorderen veilig gedra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6" name="Tekstvak 6"/>
          <p:cNvSpPr/>
          <p:nvPr/>
        </p:nvSpPr>
        <p:spPr>
          <a:xfrm>
            <a:off x="1000080" y="100008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timuleer veilighei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Tijdelijke aanduiding voor inhoud 4"/>
          <p:cNvSpPr/>
          <p:nvPr/>
        </p:nvSpPr>
        <p:spPr>
          <a:xfrm>
            <a:off x="5003640" y="1785960"/>
            <a:ext cx="385452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2. nadelen verminder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anteerbare voorschrift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reikbare veiligheids-    voorziening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comfortabele PBM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tijd voor veilig werk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B525-1ADD-4E8B-AC38-08B25DAD98F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762120" y="1785960"/>
            <a:ext cx="409896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gevolgen benadruk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eer ove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preek gevolgen van ongeva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f instructies over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veilig han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veilige situ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Strategische acties bevorderen veilig gedra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1" name="Tekstvak 6"/>
          <p:cNvSpPr/>
          <p:nvPr/>
        </p:nvSpPr>
        <p:spPr>
          <a:xfrm>
            <a:off x="1000080" y="100008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rem onveilighei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Tijdelijke aanduiding voor inhoud 4"/>
          <p:cNvSpPr/>
          <p:nvPr/>
        </p:nvSpPr>
        <p:spPr>
          <a:xfrm>
            <a:off x="4800600" y="1785960"/>
            <a:ext cx="414036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maak het moeilij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mheiningen/afzetting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aak afzetten beveiliging onmogelijk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erwijder slecht   gereedschap en materiaal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ancties bij onveilig gedrag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50C3-2E5E-49E4-9030-DA5CE64AFB5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785880" y="1143000"/>
            <a:ext cx="4857840" cy="44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aag toestemm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m de tij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at om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én perso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ke risico’s genome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schriften nageleef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preek  + en  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k afspra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s corr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8 OOG-ronde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6" name="Tekstvak 6"/>
          <p:cNvSpPr/>
          <p:nvPr/>
        </p:nvSpPr>
        <p:spPr>
          <a:xfrm>
            <a:off x="5003640" y="1143000"/>
            <a:ext cx="383544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Arial"/>
              </a:rPr>
              <a:t>letten op: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rde/netheid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ebruik gereedschap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ouding, plek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erkuitvoering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empo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BB38-D886-4605-B97D-04FE87F643E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71680" y="999720"/>
            <a:ext cx="83325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óór het werk, liefst op de werkpl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opdrachtgevers en aannem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een werktea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ijdens een toolbo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wisseling van ploe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lichtingen afstemmen op niveau werknem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gestemd op de werkzaamhe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aktisch en begrijpelijk (J&amp;J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9 Veiligheid besprek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C202-9F7C-48A5-AB4F-486E7710DD3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99680" y="1071360"/>
            <a:ext cx="86439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risicovol werk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en veiligheidsmaatregelen volgens afspraak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 checken, zo nodig ingrij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werkplekinspec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 met 2 (of 3) perso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ten op middelen, opstellingen beschermings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ook handelingen, procedures volgen, zie OO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orteer tekorten, verbeteracties en de verantwoordelij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andacht voor belasting van medewerk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kom schade, verzuim en arbeidsongeschikt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 op lichamelijke en mentale bela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10 Controle en toezich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850C-EA3A-4568-B5CB-795BA047673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71680" y="1571760"/>
            <a:ext cx="7968960" cy="26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hamelijke of fysieke belas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ische belasting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ynamische bela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ale belas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gonom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11 Overbelast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1320" y="571320"/>
            <a:ext cx="8343720" cy="57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 Leiderschap en werkgedra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71320" y="1071720"/>
            <a:ext cx="83581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 en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GM-beleid en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eutelrol van de leidinggeven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atorische inspanningen om veilig gedrag te bevord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GM-overleg en instruc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merken van gewenst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drag beïnvloe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G-ron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9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lichting en oplei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0 Controle en toezich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1 Aandacht voor lichamelijke en mentale belas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0AB1-88E5-4BC0-A0C6-3B4BE7798D3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E4BE-6843-428C-8BA4-8ECB5F425A8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571680" y="1066320"/>
            <a:ext cx="78739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lichamelijke of fysieke belas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angrijke factore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uding, bewe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panning / werk- en rusttij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ongunstig zij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ng zitten of staan in dezelfde houding (statische belastin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el kracht leveren, zoals bij traplopen en zwaar tillen, trillingen en terugkerende bewegingen (dynamische belastin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ogelijke gevolge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moeidheid, spierpijn, kramp, schade aan gewrichten bij dynamische bela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572320" cy="71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11 Overbelast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A14F-3B11-4C20-B9B5-588EC9B590B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571680" y="766800"/>
            <a:ext cx="83325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zittend en staand 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 mogelijk afwiss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an bij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chtuitoefening, onvoldoende beenruim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elmatig opstaan en laag, ver of hoog rei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ij zittend 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un bovenbenen (zitvlak) en schouders (leuning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rg voor goede rugst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andmatig til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hankelijk van krachten en duur, vooral ook rugbela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liever hulpmiddelen of beperk belasting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or samenwerken of extra pauz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rg voor goede til-instructie en gezondheidskundige beoordel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46288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Praktijkvoorbeeld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Mentale belast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71680" y="928440"/>
            <a:ext cx="83325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druk (regelmogelijkheden / regelvereist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mpetenties (taak / capaciteit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sfeer (relaties collega’s en leidinggevend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ysische omstandighe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(on)zekerhei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chterliggend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frastructuur en uitrust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rsoonlijkheidskenmerke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82B7-339E-4D6A-928F-4E46100FB0A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Ergonomische benader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571680" y="1500120"/>
            <a:ext cx="8370720" cy="33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 ook op langere termijn goed te kunnen werken, is een goede werkomgeving met comfort wenselij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op signalen, klachten en nieuwe ontwikkel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gonomen zorgen voor een mensgericht (her)ontwerp van werkplekk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e houden naast lichamelijke en mentale belasting rekening met licht, geluid, klimaat en trill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55CE-EA4A-4AC3-9475-25B7518857A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0E85-6D1E-42E1-8543-678A3AC7329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Wolk 9"/>
          <p:cNvSpPr/>
          <p:nvPr/>
        </p:nvSpPr>
        <p:spPr>
          <a:xfrm>
            <a:off x="857160" y="762120"/>
            <a:ext cx="7429680" cy="4857480"/>
          </a:xfrm>
          <a:custGeom>
            <a:avLst/>
            <a:gdLst>
              <a:gd name="textAreaLeft" fmla="*/ 1023840 w 7429680"/>
              <a:gd name="textAreaRight" fmla="*/ 5877360 w 7429680"/>
              <a:gd name="textAreaTop" fmla="*/ 733320 h 4857480"/>
              <a:gd name="textAreaBottom" fmla="*/ 3898800 h 48574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fbf"/>
          </a:solidFill>
          <a:ln w="40320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Tekstvak 6"/>
          <p:cNvGrpSpPr/>
          <p:nvPr/>
        </p:nvGrpSpPr>
        <p:grpSpPr>
          <a:xfrm>
            <a:off x="3133800" y="853920"/>
            <a:ext cx="1633320" cy="609840"/>
            <a:chOff x="3133800" y="853920"/>
            <a:chExt cx="1633320" cy="609840"/>
          </a:xfrm>
        </p:grpSpPr>
        <p:pic>
          <p:nvPicPr>
            <p:cNvPr id="175" name="Tekstvak 6" descr=""/>
            <p:cNvPicPr/>
            <p:nvPr/>
          </p:nvPicPr>
          <p:blipFill>
            <a:blip r:embed="rId2"/>
            <a:stretch/>
          </p:blipFill>
          <p:spPr>
            <a:xfrm>
              <a:off x="3133800" y="853920"/>
              <a:ext cx="16333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3286080" y="928800"/>
              <a:ext cx="142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ahoma"/>
                </a:rPr>
                <a:t>bedrijf: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" name="Tekstvak 10"/>
          <p:cNvGrpSpPr/>
          <p:nvPr/>
        </p:nvGrpSpPr>
        <p:grpSpPr>
          <a:xfrm>
            <a:off x="2206800" y="2193840"/>
            <a:ext cx="2877840" cy="689040"/>
            <a:chOff x="2206800" y="2193840"/>
            <a:chExt cx="2877840" cy="689040"/>
          </a:xfrm>
        </p:grpSpPr>
        <p:pic>
          <p:nvPicPr>
            <p:cNvPr id="178" name="Tekstvak 10" descr=""/>
            <p:cNvPicPr/>
            <p:nvPr/>
          </p:nvPicPr>
          <p:blipFill>
            <a:blip r:embed="rId3"/>
            <a:stretch/>
          </p:blipFill>
          <p:spPr>
            <a:xfrm>
              <a:off x="2206800" y="2193840"/>
              <a:ext cx="28778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2386080" y="2286000"/>
              <a:ext cx="264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Tahoma"/>
                </a:rPr>
                <a:t>inspanningen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0" name="Tekstvak 8"/>
          <p:cNvGrpSpPr/>
          <p:nvPr/>
        </p:nvGrpSpPr>
        <p:grpSpPr>
          <a:xfrm>
            <a:off x="2962440" y="1620720"/>
            <a:ext cx="1665000" cy="689040"/>
            <a:chOff x="2962440" y="1620720"/>
            <a:chExt cx="1665000" cy="689040"/>
          </a:xfrm>
        </p:grpSpPr>
        <p:pic>
          <p:nvPicPr>
            <p:cNvPr id="181" name="Tekstvak 8" descr=""/>
            <p:cNvPicPr/>
            <p:nvPr/>
          </p:nvPicPr>
          <p:blipFill>
            <a:blip r:embed="rId4"/>
            <a:stretch/>
          </p:blipFill>
          <p:spPr>
            <a:xfrm>
              <a:off x="2962440" y="1620720"/>
              <a:ext cx="166500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3143160" y="171468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Tahoma"/>
                </a:rPr>
                <a:t>beleid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Wolk 16"/>
          <p:cNvSpPr/>
          <p:nvPr/>
        </p:nvSpPr>
        <p:spPr>
          <a:xfrm>
            <a:off x="5029200" y="3000240"/>
            <a:ext cx="1471680" cy="1428840"/>
          </a:xfrm>
          <a:custGeom>
            <a:avLst/>
            <a:gdLst>
              <a:gd name="textAreaLeft" fmla="*/ 202680 w 1471680"/>
              <a:gd name="textAreaRight" fmla="*/ 1164240 w 1471680"/>
              <a:gd name="textAreaTop" fmla="*/ 215640 h 1428840"/>
              <a:gd name="textAreaBottom" fmla="*/ 1146960 h 14288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Wolk 15"/>
          <p:cNvSpPr/>
          <p:nvPr/>
        </p:nvSpPr>
        <p:spPr>
          <a:xfrm>
            <a:off x="3992400" y="2928960"/>
            <a:ext cx="2073600" cy="1928880"/>
          </a:xfrm>
          <a:custGeom>
            <a:avLst/>
            <a:gdLst>
              <a:gd name="textAreaLeft" fmla="*/ 285840 w 2073600"/>
              <a:gd name="textAreaRight" fmla="*/ 1640520 w 2073600"/>
              <a:gd name="textAreaTop" fmla="*/ 291240 h 1928880"/>
              <a:gd name="textAreaBottom" fmla="*/ 1548360 h 19288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Wolk 17"/>
          <p:cNvSpPr/>
          <p:nvPr/>
        </p:nvSpPr>
        <p:spPr>
          <a:xfrm rot="2026200">
            <a:off x="1433520" y="3270240"/>
            <a:ext cx="2071800" cy="1928880"/>
          </a:xfrm>
          <a:custGeom>
            <a:avLst/>
            <a:gdLst>
              <a:gd name="textAreaLeft" fmla="*/ 285480 w 2071800"/>
              <a:gd name="textAreaRight" fmla="*/ 1639080 w 2071800"/>
              <a:gd name="textAreaTop" fmla="*/ 291240 h 1928880"/>
              <a:gd name="textAreaBottom" fmla="*/ 1548360 h 19288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Wolk 12"/>
          <p:cNvSpPr/>
          <p:nvPr/>
        </p:nvSpPr>
        <p:spPr>
          <a:xfrm>
            <a:off x="2000160" y="3000240"/>
            <a:ext cx="3429000" cy="2357640"/>
          </a:xfrm>
          <a:custGeom>
            <a:avLst/>
            <a:gdLst>
              <a:gd name="textAreaLeft" fmla="*/ 472320 w 3429000"/>
              <a:gd name="textAreaRight" fmla="*/ 2712600 w 3429000"/>
              <a:gd name="textAreaTop" fmla="*/ 356040 h 2357640"/>
              <a:gd name="textAreaBottom" fmla="*/ 1892520 h 23576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Tekstvak 13"/>
          <p:cNvGrpSpPr/>
          <p:nvPr/>
        </p:nvGrpSpPr>
        <p:grpSpPr>
          <a:xfrm>
            <a:off x="2481120" y="3371760"/>
            <a:ext cx="2603520" cy="498600"/>
            <a:chOff x="2481120" y="3371760"/>
            <a:chExt cx="2603520" cy="498600"/>
          </a:xfrm>
        </p:grpSpPr>
        <p:pic>
          <p:nvPicPr>
            <p:cNvPr id="188" name="Tekstvak 13" descr=""/>
            <p:cNvPicPr/>
            <p:nvPr/>
          </p:nvPicPr>
          <p:blipFill>
            <a:blip r:embed="rId5"/>
            <a:stretch/>
          </p:blipFill>
          <p:spPr>
            <a:xfrm>
              <a:off x="2481120" y="3371760"/>
              <a:ext cx="2603520" cy="4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2600280" y="3429000"/>
              <a:ext cx="24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d6"/>
                  </a:solidFill>
                  <a:latin typeface="Arial"/>
                  <a:ea typeface="Tahoma"/>
                </a:rPr>
                <a:t>uitvoeringsteam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 txBox="1"/>
          <p:nvPr/>
        </p:nvSpPr>
        <p:spPr>
          <a:xfrm>
            <a:off x="2314080" y="3785760"/>
            <a:ext cx="271476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ilig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PIJL-RECHTS 7"/>
          <p:cNvGrpSpPr/>
          <p:nvPr/>
        </p:nvGrpSpPr>
        <p:grpSpPr>
          <a:xfrm>
            <a:off x="3475080" y="1298520"/>
            <a:ext cx="291960" cy="457200"/>
            <a:chOff x="3475080" y="1298520"/>
            <a:chExt cx="291960" cy="457200"/>
          </a:xfrm>
        </p:grpSpPr>
        <p:pic>
          <p:nvPicPr>
            <p:cNvPr id="192" name="PIJL-RECHTS 7" descr=""/>
            <p:cNvPicPr/>
            <p:nvPr/>
          </p:nvPicPr>
          <p:blipFill>
            <a:blip r:embed="rId6"/>
            <a:stretch/>
          </p:blipFill>
          <p:spPr>
            <a:xfrm>
              <a:off x="3475080" y="1298520"/>
              <a:ext cx="2919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 rot="6108000">
              <a:off x="3461400" y="1437120"/>
              <a:ext cx="36216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BE12-6FA2-4A17-9CC7-23E9CEB5518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Picture 2" descr="C:\Documents and Settings\gerard\Local Settings\Temporary Internet Files\Content.IE5\4W83JHJS\MCj04339320000[1].png"/>
          <p:cNvPicPr/>
          <p:nvPr/>
        </p:nvPicPr>
        <p:blipFill>
          <a:blip r:embed="rId2"/>
          <a:stretch/>
        </p:blipFill>
        <p:spPr>
          <a:xfrm>
            <a:off x="5003640" y="64296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C:\Documents and Settings\gerard\Local Settings\Temporary Internet Files\Content.IE5\4W83JHJS\MCj04339320000[1].png"/>
          <p:cNvPicPr/>
          <p:nvPr/>
        </p:nvPicPr>
        <p:blipFill>
          <a:blip r:embed="rId3"/>
          <a:stretch/>
        </p:blipFill>
        <p:spPr>
          <a:xfrm>
            <a:off x="1643040" y="1643040"/>
            <a:ext cx="1000080" cy="1428840"/>
          </a:xfrm>
          <a:prstGeom prst="rect">
            <a:avLst/>
          </a:prstGeom>
          <a:ln w="0">
            <a:noFill/>
          </a:ln>
        </p:spPr>
      </p:pic>
      <p:sp>
        <p:nvSpPr>
          <p:cNvPr id="197" name="Tekstvak 9"/>
          <p:cNvSpPr/>
          <p:nvPr/>
        </p:nvSpPr>
        <p:spPr>
          <a:xfrm>
            <a:off x="500040" y="285840"/>
            <a:ext cx="39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b800"/>
                </a:solidFill>
                <a:latin typeface="Arial"/>
              </a:rPr>
              <a:t>veilig gedrag…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2" descr="C:\Documents and Settings\gerard\Local Settings\Temporary Internet Files\Content.IE5\4W83JHJS\MCj04339320000[1].png"/>
          <p:cNvPicPr/>
          <p:nvPr/>
        </p:nvPicPr>
        <p:blipFill>
          <a:blip r:embed="rId4"/>
          <a:stretch/>
        </p:blipFill>
        <p:spPr>
          <a:xfrm rot="1263600">
            <a:off x="6075360" y="4231800"/>
            <a:ext cx="898560" cy="2000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C:\Documents and Settings\gerard\Local Settings\Temporary Internet Files\Content.IE5\4W83JHJS\MCj04339320000[1].png"/>
          <p:cNvPicPr/>
          <p:nvPr/>
        </p:nvPicPr>
        <p:blipFill>
          <a:blip r:embed="rId5">
            <a:lum bright="-32000"/>
          </a:blip>
          <a:stretch/>
        </p:blipFill>
        <p:spPr>
          <a:xfrm>
            <a:off x="7429680" y="2500200"/>
            <a:ext cx="1099800" cy="1428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C:\Documents and Settings\gerard\Local Settings\Temporary Internet Files\Content.IE5\4W83JHJS\MCj04339320000[1].png"/>
          <p:cNvPicPr/>
          <p:nvPr/>
        </p:nvPicPr>
        <p:blipFill>
          <a:blip r:embed="rId6"/>
          <a:stretch/>
        </p:blipFill>
        <p:spPr>
          <a:xfrm flipH="1" rot="20294400">
            <a:off x="1864800" y="4317840"/>
            <a:ext cx="1214640" cy="1428840"/>
          </a:xfrm>
          <a:prstGeom prst="rect">
            <a:avLst/>
          </a:prstGeom>
          <a:ln w="0">
            <a:noFill/>
          </a:ln>
        </p:spPr>
      </p:pic>
      <p:grpSp>
        <p:nvGrpSpPr>
          <p:cNvPr id="201" name="Ovale toelichting 13"/>
          <p:cNvGrpSpPr/>
          <p:nvPr/>
        </p:nvGrpSpPr>
        <p:grpSpPr>
          <a:xfrm>
            <a:off x="2998800" y="3608280"/>
            <a:ext cx="2060640" cy="1324080"/>
            <a:chOff x="2998800" y="3608280"/>
            <a:chExt cx="2060640" cy="1324080"/>
          </a:xfrm>
        </p:grpSpPr>
        <p:pic>
          <p:nvPicPr>
            <p:cNvPr id="202" name="Ovale toelichting 13" descr=""/>
            <p:cNvPicPr/>
            <p:nvPr/>
          </p:nvPicPr>
          <p:blipFill>
            <a:blip r:embed="rId7"/>
            <a:stretch/>
          </p:blipFill>
          <p:spPr>
            <a:xfrm>
              <a:off x="2998800" y="3608280"/>
              <a:ext cx="206064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3659040" y="3821040"/>
              <a:ext cx="111456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" name="Ovale toelichting 14"/>
          <p:cNvGrpSpPr/>
          <p:nvPr/>
        </p:nvGrpSpPr>
        <p:grpSpPr>
          <a:xfrm>
            <a:off x="2335320" y="2109960"/>
            <a:ext cx="2077920" cy="1176120"/>
            <a:chOff x="2335320" y="2109960"/>
            <a:chExt cx="2077920" cy="1176120"/>
          </a:xfrm>
        </p:grpSpPr>
        <p:pic>
          <p:nvPicPr>
            <p:cNvPr id="205" name="Ovale toelichting 14" descr=""/>
            <p:cNvPicPr/>
            <p:nvPr/>
          </p:nvPicPr>
          <p:blipFill>
            <a:blip r:embed="rId8"/>
            <a:stretch/>
          </p:blipFill>
          <p:spPr>
            <a:xfrm>
              <a:off x="2335320" y="2109960"/>
              <a:ext cx="207792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3260880" y="2300400"/>
              <a:ext cx="91116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Ovale toelichting 15"/>
          <p:cNvGrpSpPr/>
          <p:nvPr/>
        </p:nvGrpSpPr>
        <p:grpSpPr>
          <a:xfrm>
            <a:off x="5151600" y="3078000"/>
            <a:ext cx="2535120" cy="1208160"/>
            <a:chOff x="5151600" y="3078000"/>
            <a:chExt cx="2535120" cy="1208160"/>
          </a:xfrm>
        </p:grpSpPr>
        <p:pic>
          <p:nvPicPr>
            <p:cNvPr id="208" name="Ovale toelichting 15" descr=""/>
            <p:cNvPicPr/>
            <p:nvPr/>
          </p:nvPicPr>
          <p:blipFill>
            <a:blip r:embed="rId9"/>
            <a:stretch/>
          </p:blipFill>
          <p:spPr>
            <a:xfrm>
              <a:off x="5151600" y="3078000"/>
              <a:ext cx="2535120" cy="12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5403960" y="3422520"/>
              <a:ext cx="9111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Ovale toelichting 16"/>
          <p:cNvGrpSpPr/>
          <p:nvPr/>
        </p:nvGrpSpPr>
        <p:grpSpPr>
          <a:xfrm>
            <a:off x="4943520" y="4322880"/>
            <a:ext cx="1469880" cy="725400"/>
            <a:chOff x="4943520" y="4322880"/>
            <a:chExt cx="1469880" cy="725400"/>
          </a:xfrm>
        </p:grpSpPr>
        <p:pic>
          <p:nvPicPr>
            <p:cNvPr id="211" name="Ovale toelichting 16" descr=""/>
            <p:cNvPicPr/>
            <p:nvPr/>
          </p:nvPicPr>
          <p:blipFill>
            <a:blip r:embed="rId10"/>
            <a:stretch/>
          </p:blipFill>
          <p:spPr>
            <a:xfrm>
              <a:off x="4943520" y="4322880"/>
              <a:ext cx="146988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5129280" y="4441680"/>
              <a:ext cx="60336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Ovale toelichting 17"/>
          <p:cNvGrpSpPr/>
          <p:nvPr/>
        </p:nvGrpSpPr>
        <p:grpSpPr>
          <a:xfrm>
            <a:off x="4511520" y="1401840"/>
            <a:ext cx="1401840" cy="1743120"/>
            <a:chOff x="4511520" y="1401840"/>
            <a:chExt cx="1401840" cy="1743120"/>
          </a:xfrm>
        </p:grpSpPr>
        <p:pic>
          <p:nvPicPr>
            <p:cNvPr id="214" name="Ovale toelichting 17" descr=""/>
            <p:cNvPicPr/>
            <p:nvPr/>
          </p:nvPicPr>
          <p:blipFill>
            <a:blip r:embed="rId11"/>
            <a:stretch/>
          </p:blipFill>
          <p:spPr>
            <a:xfrm>
              <a:off x="4511520" y="1401840"/>
              <a:ext cx="140184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4761000" y="2279520"/>
              <a:ext cx="9111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Tekstvak 18"/>
          <p:cNvSpPr/>
          <p:nvPr/>
        </p:nvSpPr>
        <p:spPr>
          <a:xfrm>
            <a:off x="5003640" y="435780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ff"/>
                </a:solidFill>
                <a:latin typeface="Arial Narrow"/>
              </a:rPr>
              <a:t>oh!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kstvak 19"/>
          <p:cNvSpPr/>
          <p:nvPr/>
        </p:nvSpPr>
        <p:spPr>
          <a:xfrm>
            <a:off x="3214800" y="2286000"/>
            <a:ext cx="107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k volg precie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 regel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kstvak 21"/>
          <p:cNvSpPr/>
          <p:nvPr/>
        </p:nvSpPr>
        <p:spPr>
          <a:xfrm>
            <a:off x="3571920" y="3786120"/>
            <a:ext cx="16095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d0dff"/>
                </a:solidFill>
                <a:latin typeface="Arial"/>
              </a:rPr>
              <a:t>stumperds!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d0dff"/>
                </a:solidFill>
                <a:latin typeface="Arial"/>
              </a:rPr>
              <a:t>gewoon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d0dff"/>
                </a:solidFill>
                <a:latin typeface="Arial"/>
              </a:rPr>
              <a:t>doorpakken !!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kstvak 22"/>
          <p:cNvSpPr/>
          <p:nvPr/>
        </p:nvSpPr>
        <p:spPr>
          <a:xfrm>
            <a:off x="4714920" y="2214720"/>
            <a:ext cx="107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e moet hier goed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pletten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kstvak 23"/>
          <p:cNvSpPr/>
          <p:nvPr/>
        </p:nvSpPr>
        <p:spPr>
          <a:xfrm>
            <a:off x="5286240" y="3357720"/>
            <a:ext cx="134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d0dff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d0dff"/>
                </a:solidFill>
                <a:latin typeface="Arial"/>
              </a:rPr>
              <a:t>ik heb m’n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d0dff"/>
                </a:solidFill>
                <a:latin typeface="Arial"/>
              </a:rPr>
              <a:t>eigen regel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BC33-7962-4460-8A86-EDACC122546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Wolk 7"/>
          <p:cNvSpPr/>
          <p:nvPr/>
        </p:nvSpPr>
        <p:spPr>
          <a:xfrm>
            <a:off x="1214280" y="749160"/>
            <a:ext cx="6715440" cy="5359680"/>
          </a:xfrm>
          <a:custGeom>
            <a:avLst/>
            <a:gdLst>
              <a:gd name="textAreaLeft" fmla="*/ 925560 w 6715440"/>
              <a:gd name="textAreaRight" fmla="*/ 5312520 w 6715440"/>
              <a:gd name="textAreaTop" fmla="*/ 809280 h 5359680"/>
              <a:gd name="textAreaBottom" fmla="*/ 4302000 h 53596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Picture 2" descr="C:\Documents and Settings\gerard\Local Settings\Temporary Internet Files\Content.IE5\4W83JHJS\MCj04339320000[1].png"/>
          <p:cNvPicPr/>
          <p:nvPr/>
        </p:nvPicPr>
        <p:blipFill>
          <a:blip r:embed="rId2"/>
          <a:stretch/>
        </p:blipFill>
        <p:spPr>
          <a:xfrm flipH="1" rot="587400">
            <a:off x="3842640" y="4295880"/>
            <a:ext cx="1071720" cy="1428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C:\Documents and Settings\gerard\Local Settings\Temporary Internet Files\Content.IE5\4W83JHJS\MCj04339320000[1].png"/>
          <p:cNvPicPr/>
          <p:nvPr/>
        </p:nvPicPr>
        <p:blipFill>
          <a:blip r:embed="rId3"/>
          <a:stretch/>
        </p:blipFill>
        <p:spPr>
          <a:xfrm>
            <a:off x="2428920" y="4286160"/>
            <a:ext cx="1214280" cy="14288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C:\Documents and Settings\gerard\Local Settings\Temporary Internet Files\Content.IE5\4W83JHJS\MCj04339320000[1].png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5029200" y="4000680"/>
            <a:ext cx="78588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C:\Documents and Settings\gerard\Local Settings\Temporary Internet Files\Content.IE5\4W83JHJS\MCj04339320000[1].png"/>
          <p:cNvPicPr/>
          <p:nvPr/>
        </p:nvPicPr>
        <p:blipFill>
          <a:blip r:embed="rId5"/>
          <a:stretch/>
        </p:blipFill>
        <p:spPr>
          <a:xfrm rot="382800">
            <a:off x="6071760" y="3429000"/>
            <a:ext cx="642960" cy="20001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C:\Documents and Settings\gerard\Local Settings\Temporary Internet Files\Content.IE5\4W83JHJS\MCj04339320000[1].png"/>
          <p:cNvPicPr/>
          <p:nvPr/>
        </p:nvPicPr>
        <p:blipFill>
          <a:blip r:embed="rId6"/>
          <a:stretch/>
        </p:blipFill>
        <p:spPr>
          <a:xfrm rot="21005400">
            <a:off x="3286080" y="3214440"/>
            <a:ext cx="785880" cy="14284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Documents and Settings\gerard\Local Settings\Temporary Internet Files\Content.IE5\4W83JHJS\MCj04339320000[1].png"/>
          <p:cNvPicPr/>
          <p:nvPr/>
        </p:nvPicPr>
        <p:blipFill>
          <a:blip r:embed="rId7"/>
          <a:stretch/>
        </p:blipFill>
        <p:spPr>
          <a:xfrm>
            <a:off x="1643040" y="3643200"/>
            <a:ext cx="1000080" cy="1428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C:\Documents and Settings\gerard\Local Settings\Temporary Internet Files\Content.IE5\4W83JHJS\MCj04339320000[1].png"/>
          <p:cNvPicPr/>
          <p:nvPr/>
        </p:nvPicPr>
        <p:blipFill>
          <a:blip r:embed="rId8">
            <a:lum bright="-32000"/>
          </a:blip>
          <a:stretch/>
        </p:blipFill>
        <p:spPr>
          <a:xfrm>
            <a:off x="5357880" y="2714760"/>
            <a:ext cx="1100160" cy="14284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C:\Documents and Settings\gerard\Local Settings\Temporary Internet Files\Content.IE5\4W83JHJS\MCj04339320000[1].png"/>
          <p:cNvPicPr/>
          <p:nvPr/>
        </p:nvPicPr>
        <p:blipFill>
          <a:blip r:embed="rId9"/>
          <a:stretch/>
        </p:blipFill>
        <p:spPr>
          <a:xfrm>
            <a:off x="6572160" y="2714760"/>
            <a:ext cx="1071720" cy="1428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C:\Documents and Settings\gerard\Local Settings\Temporary Internet Files\Content.IE5\SH0PLZ11\MPj02160520000[1].jpg"/>
          <p:cNvPicPr/>
          <p:nvPr/>
        </p:nvPicPr>
        <p:blipFill>
          <a:blip r:embed="rId10"/>
          <a:stretch/>
        </p:blipFill>
        <p:spPr>
          <a:xfrm>
            <a:off x="3852720" y="1494000"/>
            <a:ext cx="1621080" cy="21571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C:\Documents and Settings\gerard\Local Settings\Temporary Internet Files\Content.IE5\4W83JHJS\MCj04339320000[1].png"/>
          <p:cNvPicPr/>
          <p:nvPr/>
        </p:nvPicPr>
        <p:blipFill>
          <a:blip r:embed="rId11"/>
          <a:stretch/>
        </p:blipFill>
        <p:spPr>
          <a:xfrm>
            <a:off x="4286160" y="3000240"/>
            <a:ext cx="1042920" cy="1897200"/>
          </a:xfrm>
          <a:prstGeom prst="rect">
            <a:avLst/>
          </a:prstGeom>
          <a:ln w="0">
            <a:noFill/>
          </a:ln>
        </p:spPr>
      </p:pic>
      <p:sp>
        <p:nvSpPr>
          <p:cNvPr id="233" name="Ovale toelichting 18"/>
          <p:cNvSpPr/>
          <p:nvPr/>
        </p:nvSpPr>
        <p:spPr>
          <a:xfrm>
            <a:off x="5029200" y="1071720"/>
            <a:ext cx="1971720" cy="1214280"/>
          </a:xfrm>
          <a:prstGeom prst="wedgeEllipseCallout">
            <a:avLst>
              <a:gd name="adj1" fmla="val -72171"/>
              <a:gd name="adj2" fmla="val 64851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Ovale toelichting 19"/>
          <p:cNvSpPr/>
          <p:nvPr/>
        </p:nvSpPr>
        <p:spPr>
          <a:xfrm flipH="1">
            <a:off x="2642400" y="1428840"/>
            <a:ext cx="1538280" cy="642960"/>
          </a:xfrm>
          <a:prstGeom prst="wedgeEllipseCallout">
            <a:avLst>
              <a:gd name="adj1" fmla="val -72171"/>
              <a:gd name="adj2" fmla="val 64851"/>
            </a:avLst>
          </a:prstGeom>
          <a:solidFill>
            <a:srgbClr val="00b0f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wij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2"/>
          <a:stretch/>
        </p:blipFill>
        <p:spPr>
          <a:xfrm rot="3629400">
            <a:off x="3199320" y="4186800"/>
            <a:ext cx="970200" cy="2923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13"/>
          <a:stretch/>
        </p:blipFill>
        <p:spPr>
          <a:xfrm flipH="1" rot="14430600">
            <a:off x="2144520" y="4358880"/>
            <a:ext cx="650880" cy="5464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"/>
          <p:cNvPicPr/>
          <p:nvPr/>
        </p:nvPicPr>
        <p:blipFill>
          <a:blip r:embed="rId14"/>
          <a:stretch/>
        </p:blipFill>
        <p:spPr>
          <a:xfrm flipH="1" rot="17535600">
            <a:off x="2980440" y="5059440"/>
            <a:ext cx="649080" cy="546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15"/>
          <a:stretch/>
        </p:blipFill>
        <p:spPr>
          <a:xfrm flipH="1" rot="15644400">
            <a:off x="4430520" y="4859280"/>
            <a:ext cx="650880" cy="546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"/>
          <p:cNvPicPr/>
          <p:nvPr/>
        </p:nvPicPr>
        <p:blipFill>
          <a:blip r:embed="rId16">
            <a:lum bright="-4000"/>
          </a:blip>
          <a:stretch/>
        </p:blipFill>
        <p:spPr>
          <a:xfrm flipH="1" rot="15643800">
            <a:off x="4529880" y="3783600"/>
            <a:ext cx="1036800" cy="8697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17">
            <a:lum contrast="78000"/>
          </a:blip>
          <a:stretch/>
        </p:blipFill>
        <p:spPr>
          <a:xfrm flipH="1" rot="7727400">
            <a:off x="5073120" y="4789080"/>
            <a:ext cx="419040" cy="412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18"/>
          <a:stretch/>
        </p:blipFill>
        <p:spPr>
          <a:xfrm flipH="1" rot="11916000">
            <a:off x="6716880" y="3573000"/>
            <a:ext cx="649080" cy="5461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"/>
          <p:cNvPicPr/>
          <p:nvPr/>
        </p:nvPicPr>
        <p:blipFill>
          <a:blip r:embed="rId19">
            <a:lum contrast="74000"/>
          </a:blip>
          <a:stretch/>
        </p:blipFill>
        <p:spPr>
          <a:xfrm flipH="1" rot="11916600">
            <a:off x="5927400" y="4446360"/>
            <a:ext cx="651240" cy="546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"/>
          <p:cNvPicPr/>
          <p:nvPr/>
        </p:nvPicPr>
        <p:blipFill>
          <a:blip r:embed="rId20"/>
          <a:stretch/>
        </p:blipFill>
        <p:spPr>
          <a:xfrm>
            <a:off x="5492880" y="3419640"/>
            <a:ext cx="768240" cy="628560"/>
          </a:xfrm>
          <a:prstGeom prst="rect">
            <a:avLst/>
          </a:prstGeom>
          <a:ln w="0">
            <a:noFill/>
          </a:ln>
        </p:spPr>
      </p:pic>
      <p:sp>
        <p:nvSpPr>
          <p:cNvPr id="244" name="Tekstvak 28"/>
          <p:cNvSpPr/>
          <p:nvPr/>
        </p:nvSpPr>
        <p:spPr>
          <a:xfrm>
            <a:off x="5562720" y="1355760"/>
            <a:ext cx="150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d6"/>
                </a:solidFill>
                <a:latin typeface="Arial"/>
              </a:rPr>
              <a:t>ons bedrijf…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kstvak 29"/>
          <p:cNvSpPr/>
          <p:nvPr/>
        </p:nvSpPr>
        <p:spPr>
          <a:xfrm>
            <a:off x="571680" y="214200"/>
            <a:ext cx="621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b800"/>
                </a:solidFill>
                <a:latin typeface="Arial"/>
                <a:ea typeface="Tahoma"/>
              </a:rPr>
              <a:t>sleutelrol leidinggevend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F7FD-E264-49D3-B9F0-542A5C211A1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Wolk 7"/>
          <p:cNvSpPr/>
          <p:nvPr/>
        </p:nvSpPr>
        <p:spPr>
          <a:xfrm>
            <a:off x="1214280" y="749160"/>
            <a:ext cx="6715440" cy="5359680"/>
          </a:xfrm>
          <a:custGeom>
            <a:avLst/>
            <a:gdLst>
              <a:gd name="textAreaLeft" fmla="*/ 925560 w 6715440"/>
              <a:gd name="textAreaRight" fmla="*/ 5312520 w 6715440"/>
              <a:gd name="textAreaTop" fmla="*/ 809280 h 5359680"/>
              <a:gd name="textAreaBottom" fmla="*/ 4302000 h 53596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Picture 2" descr="C:\Documents and Settings\gerard\Local Settings\Temporary Internet Files\Content.IE5\4W83JHJS\MCj04339320000[1].png"/>
          <p:cNvPicPr/>
          <p:nvPr/>
        </p:nvPicPr>
        <p:blipFill>
          <a:blip r:embed="rId2"/>
          <a:stretch/>
        </p:blipFill>
        <p:spPr>
          <a:xfrm>
            <a:off x="3724200" y="4206960"/>
            <a:ext cx="1311480" cy="16034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C:\Documents and Settings\gerard\Local Settings\Temporary Internet Files\Content.IE5\4W83JHJS\MCj04339320000[1].png"/>
          <p:cNvPicPr/>
          <p:nvPr/>
        </p:nvPicPr>
        <p:blipFill>
          <a:blip r:embed="rId3"/>
          <a:stretch/>
        </p:blipFill>
        <p:spPr>
          <a:xfrm>
            <a:off x="2419200" y="4280040"/>
            <a:ext cx="1231920" cy="14443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" descr="C:\Documents and Settings\gerard\Local Settings\Temporary Internet Files\Content.IE5\4W83JHJS\MCj04339320000[1].png"/>
          <p:cNvPicPr/>
          <p:nvPr/>
        </p:nvPicPr>
        <p:blipFill>
          <a:blip r:embed="rId4"/>
          <a:stretch/>
        </p:blipFill>
        <p:spPr>
          <a:xfrm>
            <a:off x="5022720" y="3992400"/>
            <a:ext cx="798480" cy="11592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C:\Documents and Settings\gerard\Local Settings\Temporary Internet Files\Content.IE5\4W83JHJS\MCj04339320000[1].png"/>
          <p:cNvPicPr/>
          <p:nvPr/>
        </p:nvPicPr>
        <p:blipFill>
          <a:blip r:embed="rId5"/>
          <a:stretch/>
        </p:blipFill>
        <p:spPr>
          <a:xfrm>
            <a:off x="5956200" y="3395520"/>
            <a:ext cx="871560" cy="20671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C:\Documents and Settings\gerard\Local Settings\Temporary Internet Files\Content.IE5\4W83JHJS\MCj04339320000[1].png"/>
          <p:cNvPicPr/>
          <p:nvPr/>
        </p:nvPicPr>
        <p:blipFill>
          <a:blip r:embed="rId6"/>
          <a:stretch/>
        </p:blipFill>
        <p:spPr>
          <a:xfrm>
            <a:off x="3164040" y="3151080"/>
            <a:ext cx="1029960" cy="15541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C:\Documents and Settings\gerard\Local Settings\Temporary Internet Files\Content.IE5\4W83JHJS\MCj04339320000[1].png"/>
          <p:cNvPicPr/>
          <p:nvPr/>
        </p:nvPicPr>
        <p:blipFill>
          <a:blip r:embed="rId7"/>
          <a:stretch/>
        </p:blipFill>
        <p:spPr>
          <a:xfrm>
            <a:off x="1639800" y="3638520"/>
            <a:ext cx="1011240" cy="1440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" descr="C:\Documents and Settings\gerard\Local Settings\Temporary Internet Files\Content.IE5\4W83JHJS\MCj04339320000[1].png"/>
          <p:cNvPicPr/>
          <p:nvPr/>
        </p:nvPicPr>
        <p:blipFill>
          <a:blip r:embed="rId8"/>
          <a:stretch/>
        </p:blipFill>
        <p:spPr>
          <a:xfrm>
            <a:off x="5353200" y="2706840"/>
            <a:ext cx="1108080" cy="14443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C:\Documents and Settings\gerard\Local Settings\Temporary Internet Files\Content.IE5\4W83JHJS\MCj04339320000[1].png"/>
          <p:cNvPicPr/>
          <p:nvPr/>
        </p:nvPicPr>
        <p:blipFill>
          <a:blip r:embed="rId9"/>
          <a:stretch/>
        </p:blipFill>
        <p:spPr>
          <a:xfrm>
            <a:off x="6566040" y="2706840"/>
            <a:ext cx="1083960" cy="14443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C:\Documents and Settings\gerard\Local Settings\Temporary Internet Files\Content.IE5\SH0PLZ11\MPj02160520000[1].jpg"/>
          <p:cNvPicPr/>
          <p:nvPr/>
        </p:nvPicPr>
        <p:blipFill>
          <a:blip r:embed="rId10"/>
          <a:stretch/>
        </p:blipFill>
        <p:spPr>
          <a:xfrm>
            <a:off x="3852720" y="1494000"/>
            <a:ext cx="1621080" cy="21571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C:\Documents and Settings\gerard\Local Settings\Temporary Internet Files\Content.IE5\4W83JHJS\MCj04339320000[1].png"/>
          <p:cNvPicPr/>
          <p:nvPr/>
        </p:nvPicPr>
        <p:blipFill>
          <a:blip r:embed="rId11"/>
          <a:stretch/>
        </p:blipFill>
        <p:spPr>
          <a:xfrm>
            <a:off x="4280040" y="2992320"/>
            <a:ext cx="1054080" cy="1908360"/>
          </a:xfrm>
          <a:prstGeom prst="rect">
            <a:avLst/>
          </a:prstGeom>
          <a:ln w="0">
            <a:noFill/>
          </a:ln>
        </p:spPr>
      </p:pic>
      <p:sp>
        <p:nvSpPr>
          <p:cNvPr id="258" name="Ovale toelichting 18"/>
          <p:cNvSpPr/>
          <p:nvPr/>
        </p:nvSpPr>
        <p:spPr>
          <a:xfrm>
            <a:off x="5029200" y="1071720"/>
            <a:ext cx="1971720" cy="1214280"/>
          </a:xfrm>
          <a:prstGeom prst="wedgeEllipseCallout">
            <a:avLst>
              <a:gd name="adj1" fmla="val -72171"/>
              <a:gd name="adj2" fmla="val 64851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Ovale toelichting 19"/>
          <p:cNvSpPr/>
          <p:nvPr/>
        </p:nvSpPr>
        <p:spPr>
          <a:xfrm flipH="1">
            <a:off x="2642400" y="1428840"/>
            <a:ext cx="1538280" cy="642960"/>
          </a:xfrm>
          <a:prstGeom prst="wedgeEllipseCallout">
            <a:avLst>
              <a:gd name="adj1" fmla="val -72171"/>
              <a:gd name="adj2" fmla="val 64851"/>
            </a:avLst>
          </a:prstGeom>
          <a:solidFill>
            <a:srgbClr val="00b0f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j..,,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2"/>
          <a:stretch/>
        </p:blipFill>
        <p:spPr>
          <a:xfrm>
            <a:off x="3309840" y="3833640"/>
            <a:ext cx="749520" cy="10004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13"/>
          <a:stretch/>
        </p:blipFill>
        <p:spPr>
          <a:xfrm>
            <a:off x="2066760" y="4206960"/>
            <a:ext cx="804960" cy="846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"/>
          <p:cNvPicPr/>
          <p:nvPr/>
        </p:nvPicPr>
        <p:blipFill>
          <a:blip r:embed="rId14"/>
          <a:stretch/>
        </p:blipFill>
        <p:spPr>
          <a:xfrm>
            <a:off x="2919240" y="4925880"/>
            <a:ext cx="768600" cy="816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" descr=""/>
          <p:cNvPicPr/>
          <p:nvPr/>
        </p:nvPicPr>
        <p:blipFill>
          <a:blip r:embed="rId15"/>
          <a:stretch/>
        </p:blipFill>
        <p:spPr>
          <a:xfrm>
            <a:off x="4425840" y="4761000"/>
            <a:ext cx="658800" cy="744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16"/>
          <a:stretch/>
        </p:blipFill>
        <p:spPr>
          <a:xfrm>
            <a:off x="4529160" y="3633840"/>
            <a:ext cx="1036440" cy="1170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"/>
          <p:cNvPicPr/>
          <p:nvPr/>
        </p:nvPicPr>
        <p:blipFill>
          <a:blip r:embed="rId17"/>
          <a:stretch/>
        </p:blipFill>
        <p:spPr>
          <a:xfrm>
            <a:off x="4986360" y="4694400"/>
            <a:ext cx="596880" cy="5968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"/>
          <p:cNvPicPr/>
          <p:nvPr/>
        </p:nvPicPr>
        <p:blipFill>
          <a:blip r:embed="rId18"/>
          <a:stretch/>
        </p:blipFill>
        <p:spPr>
          <a:xfrm>
            <a:off x="6638760" y="3481560"/>
            <a:ext cx="804960" cy="7300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" descr=""/>
          <p:cNvPicPr/>
          <p:nvPr/>
        </p:nvPicPr>
        <p:blipFill>
          <a:blip r:embed="rId19"/>
          <a:stretch/>
        </p:blipFill>
        <p:spPr>
          <a:xfrm>
            <a:off x="5851440" y="4352760"/>
            <a:ext cx="804960" cy="736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" descr=""/>
          <p:cNvPicPr/>
          <p:nvPr/>
        </p:nvPicPr>
        <p:blipFill>
          <a:blip r:embed="rId20"/>
          <a:stretch/>
        </p:blipFill>
        <p:spPr>
          <a:xfrm>
            <a:off x="5492880" y="3419640"/>
            <a:ext cx="768240" cy="628560"/>
          </a:xfrm>
          <a:prstGeom prst="rect">
            <a:avLst/>
          </a:prstGeom>
          <a:ln w="0">
            <a:noFill/>
          </a:ln>
        </p:spPr>
      </p:pic>
      <p:sp>
        <p:nvSpPr>
          <p:cNvPr id="269" name="Tekstvak 28"/>
          <p:cNvSpPr/>
          <p:nvPr/>
        </p:nvSpPr>
        <p:spPr>
          <a:xfrm>
            <a:off x="5586480" y="1355760"/>
            <a:ext cx="150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ffff"/>
                </a:solidFill>
                <a:latin typeface="Arial"/>
              </a:rPr>
              <a:t>ons bedrijf..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kstvak 29"/>
          <p:cNvSpPr/>
          <p:nvPr/>
        </p:nvSpPr>
        <p:spPr>
          <a:xfrm>
            <a:off x="609480" y="214200"/>
            <a:ext cx="4672080" cy="3750480"/>
          </a:xfrm>
          <a:prstGeom prst="rect">
            <a:avLst/>
          </a:prstGeom>
          <a:solidFill>
            <a:srgbClr val="ffffff"/>
          </a:solidFill>
          <a:ln cap="rnd" w="57240">
            <a:solidFill>
              <a:srgbClr val="44b8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b800"/>
                </a:solidFill>
                <a:latin typeface="Arial"/>
                <a:ea typeface="Tahoma"/>
              </a:rPr>
              <a:t>sleutelrol leidinggevend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heeft info over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7120" indent="-284040">
              <a:lnSpc>
                <a:spcPct val="100000"/>
              </a:lnSpc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de medewerker, zijn werk en werkomstandighed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7120" indent="-284040">
              <a:lnSpc>
                <a:spcPct val="100000"/>
              </a:lnSpc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bepaalt de werkwijze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7120" indent="-284040">
              <a:lnSpc>
                <a:spcPct val="100000"/>
              </a:lnSpc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houdt toezicht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7120" indent="-284040">
              <a:lnSpc>
                <a:spcPct val="100000"/>
              </a:lnSpc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corrigeert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70A8-036C-4636-B7B2-B58360D1908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Picture 2" descr="C:\Documents and Settings\gerard\Local Settings\Temporary Internet Files\Content.IE5\SH0PLZ11\MPj02160520000[1].jpg"/>
          <p:cNvPicPr/>
          <p:nvPr/>
        </p:nvPicPr>
        <p:blipFill>
          <a:blip r:embed="rId2"/>
          <a:stretch/>
        </p:blipFill>
        <p:spPr>
          <a:xfrm>
            <a:off x="3925800" y="353880"/>
            <a:ext cx="1621080" cy="21574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"/>
          <p:cNvPicPr/>
          <p:nvPr/>
        </p:nvPicPr>
        <p:blipFill>
          <a:blip r:embed="rId3"/>
          <a:stretch/>
        </p:blipFill>
        <p:spPr>
          <a:xfrm>
            <a:off x="3857760" y="1643040"/>
            <a:ext cx="1822320" cy="2149560"/>
          </a:xfrm>
          <a:prstGeom prst="rect">
            <a:avLst/>
          </a:prstGeom>
          <a:ln w="0">
            <a:noFill/>
          </a:ln>
        </p:spPr>
      </p:pic>
      <p:sp>
        <p:nvSpPr>
          <p:cNvPr id="274" name="Gekromde PIJL-RECHTS 8"/>
          <p:cNvSpPr/>
          <p:nvPr/>
        </p:nvSpPr>
        <p:spPr>
          <a:xfrm>
            <a:off x="2286000" y="857160"/>
            <a:ext cx="1571760" cy="3714840"/>
          </a:xfrm>
          <a:custGeom>
            <a:avLst/>
            <a:gdLst>
              <a:gd name="textAreaLeft" fmla="*/ 210600 w 1571760"/>
              <a:gd name="textAreaRight" fmla="*/ 1361160 w 1571760"/>
              <a:gd name="textAreaTop" fmla="*/ 781200 h 3714840"/>
              <a:gd name="textAreaBottom" fmla="*/ 2737080 h 371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087" stAng="-5400000" swAng="-5400000"/>
                <a:lnTo>
                  <a:pt x="0" y="11372"/>
                </a:lnTo>
                <a:arcTo wR="21600" hR="9087" stAng="10800000" swAng="-3507558"/>
                <a:lnTo>
                  <a:pt x="16200" y="21311"/>
                </a:lnTo>
                <a:lnTo>
                  <a:pt x="21600" y="19316"/>
                </a:lnTo>
                <a:lnTo>
                  <a:pt x="16200" y="16742"/>
                </a:lnTo>
                <a:lnTo>
                  <a:pt x="16200" y="17884"/>
                </a:lnTo>
                <a:arcTo wR="21600" hR="9087" stAng="7292442" swAng="3324442"/>
                <a:lnTo>
                  <a:pt x="171" y="10229"/>
                </a:lnTo>
                <a:arcTo wR="21600" hR="9087" stAng="-10616884" swAng="5216884"/>
                <a:close/>
              </a:path>
              <a:path fill="darkenLess" w="21600" h="21600">
                <a:moveTo>
                  <a:pt x="21600" y="0"/>
                </a:moveTo>
                <a:arcTo wR="21600" hR="9087" stAng="-5400000" swAng="-5400000"/>
                <a:lnTo>
                  <a:pt x="0" y="9087"/>
                </a:lnTo>
                <a:arcTo wR="21600" hR="9087" stAng="10800000" swAng="-183116"/>
                <a:lnTo>
                  <a:pt x="171" y="10229"/>
                </a:lnTo>
                <a:arcTo wR="21600" hR="9087" stAng="-10616884" swAng="5216884"/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Picture 2" descr="C:\Documents and Settings\gerard\Local Settings\Temporary Internet Files\Content.IE5\4W83JHJS\MCj04339320000[1].png"/>
          <p:cNvPicPr/>
          <p:nvPr/>
        </p:nvPicPr>
        <p:blipFill>
          <a:blip r:embed="rId4"/>
          <a:stretch/>
        </p:blipFill>
        <p:spPr>
          <a:xfrm>
            <a:off x="3786120" y="3214800"/>
            <a:ext cx="1932120" cy="25765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"/>
          <p:cNvPicPr/>
          <p:nvPr/>
        </p:nvPicPr>
        <p:blipFill>
          <a:blip r:embed="rId5"/>
          <a:stretch/>
        </p:blipFill>
        <p:spPr>
          <a:xfrm flipH="1" rot="11916600">
            <a:off x="4282560" y="4731840"/>
            <a:ext cx="651240" cy="546120"/>
          </a:xfrm>
          <a:prstGeom prst="rect">
            <a:avLst/>
          </a:prstGeom>
          <a:ln w="0">
            <a:noFill/>
          </a:ln>
        </p:spPr>
      </p:pic>
      <p:sp>
        <p:nvSpPr>
          <p:cNvPr id="277" name="Gekromde PIJL-RECHTS 13"/>
          <p:cNvSpPr/>
          <p:nvPr/>
        </p:nvSpPr>
        <p:spPr>
          <a:xfrm flipH="1">
            <a:off x="5643000" y="928800"/>
            <a:ext cx="1285560" cy="3714480"/>
          </a:xfrm>
          <a:custGeom>
            <a:avLst/>
            <a:gdLst>
              <a:gd name="textAreaLeft" fmla="*/ 172080 w 1285560"/>
              <a:gd name="textAreaRight" fmla="*/ 1113480 w 1285560"/>
              <a:gd name="textAreaTop" fmla="*/ 807840 h 3714480"/>
              <a:gd name="textAreaBottom" fmla="*/ 2745720 h 371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398" stAng="-5400000" swAng="-5400000"/>
                <a:lnTo>
                  <a:pt x="0" y="11268"/>
                </a:lnTo>
                <a:arcTo wR="21600" hR="9398" stAng="10800000" swAng="-3558819"/>
                <a:lnTo>
                  <a:pt x="16200" y="21302"/>
                </a:lnTo>
                <a:lnTo>
                  <a:pt x="21600" y="19731"/>
                </a:lnTo>
                <a:lnTo>
                  <a:pt x="16200" y="17564"/>
                </a:lnTo>
                <a:lnTo>
                  <a:pt x="16200" y="18498"/>
                </a:lnTo>
                <a:arcTo wR="21600" hR="9398" stAng="7241181" swAng="3409361"/>
                <a:lnTo>
                  <a:pt x="107" y="10333"/>
                </a:lnTo>
                <a:arcTo wR="21600" hR="9398" stAng="-10650542" swAng="5250542"/>
                <a:close/>
              </a:path>
              <a:path fill="darkenLess" w="21600" h="21600">
                <a:moveTo>
                  <a:pt x="21600" y="0"/>
                </a:moveTo>
                <a:arcTo wR="21600" hR="9398" stAng="-5400000" swAng="-5400000"/>
                <a:lnTo>
                  <a:pt x="0" y="9398"/>
                </a:lnTo>
                <a:arcTo wR="21600" hR="9398" stAng="10800000" swAng="-149458"/>
                <a:lnTo>
                  <a:pt x="107" y="10333"/>
                </a:lnTo>
                <a:arcTo wR="21600" hR="9398" stAng="-10650542" swAng="5250542"/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kstvak 14"/>
          <p:cNvSpPr/>
          <p:nvPr/>
        </p:nvSpPr>
        <p:spPr>
          <a:xfrm>
            <a:off x="609480" y="857160"/>
            <a:ext cx="2033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wat wil je? kijk zelf.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dat moet,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want…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wel veilig,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dat doe ik zelf ook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kstvak 15"/>
          <p:cNvSpPr/>
          <p:nvPr/>
        </p:nvSpPr>
        <p:spPr>
          <a:xfrm>
            <a:off x="6929280" y="285840"/>
            <a:ext cx="2214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k vind dat jij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 veiligheid betreft 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rijp ik wel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 ook niet perfect 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ar…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7906-2D5D-4043-8DFB-6809F5CBE25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Wolk 9"/>
          <p:cNvSpPr/>
          <p:nvPr/>
        </p:nvSpPr>
        <p:spPr>
          <a:xfrm>
            <a:off x="714240" y="785880"/>
            <a:ext cx="7429680" cy="4857840"/>
          </a:xfrm>
          <a:custGeom>
            <a:avLst/>
            <a:gdLst>
              <a:gd name="textAreaLeft" fmla="*/ 1023840 w 7429680"/>
              <a:gd name="textAreaRight" fmla="*/ 5877360 w 7429680"/>
              <a:gd name="textAreaTop" fmla="*/ 733320 h 4857840"/>
              <a:gd name="textAreaBottom" fmla="*/ 3899160 h 48578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fbf"/>
          </a:solidFill>
          <a:ln w="40320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Tekstvak 6"/>
          <p:cNvGrpSpPr/>
          <p:nvPr/>
        </p:nvGrpSpPr>
        <p:grpSpPr>
          <a:xfrm>
            <a:off x="3133800" y="853920"/>
            <a:ext cx="1633320" cy="609840"/>
            <a:chOff x="3133800" y="853920"/>
            <a:chExt cx="1633320" cy="609840"/>
          </a:xfrm>
        </p:grpSpPr>
        <p:pic>
          <p:nvPicPr>
            <p:cNvPr id="283" name="Tekstvak 6" descr=""/>
            <p:cNvPicPr/>
            <p:nvPr/>
          </p:nvPicPr>
          <p:blipFill>
            <a:blip r:embed="rId2"/>
            <a:stretch/>
          </p:blipFill>
          <p:spPr>
            <a:xfrm>
              <a:off x="3133800" y="853920"/>
              <a:ext cx="16333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3286080" y="928800"/>
              <a:ext cx="142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ff"/>
                  </a:solidFill>
                  <a:latin typeface="Arial"/>
                  <a:ea typeface="Tahoma"/>
                </a:rPr>
                <a:t>bedrijf: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5" name="Tekstvak 10"/>
          <p:cNvGrpSpPr/>
          <p:nvPr/>
        </p:nvGrpSpPr>
        <p:grpSpPr>
          <a:xfrm>
            <a:off x="1127160" y="2120760"/>
            <a:ext cx="6284880" cy="871560"/>
            <a:chOff x="1127160" y="2120760"/>
            <a:chExt cx="6284880" cy="871560"/>
          </a:xfrm>
        </p:grpSpPr>
        <p:pic>
          <p:nvPicPr>
            <p:cNvPr id="286" name="Tekstvak 10" descr=""/>
            <p:cNvPicPr/>
            <p:nvPr/>
          </p:nvPicPr>
          <p:blipFill>
            <a:blip r:embed="rId3"/>
            <a:stretch/>
          </p:blipFill>
          <p:spPr>
            <a:xfrm>
              <a:off x="1127160" y="2120760"/>
              <a:ext cx="62848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214280" y="2214720"/>
              <a:ext cx="614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Tahoma"/>
                </a:rPr>
                <a:t> </a:t>
              </a:r>
              <a:r>
                <a:rPr b="0" lang="en-US" sz="2800" spc="-1" strike="noStrike">
                  <a:solidFill>
                    <a:srgbClr val="0000b3"/>
                  </a:solidFill>
                  <a:latin typeface="Arial"/>
                  <a:ea typeface="Tahoma"/>
                </a:rPr>
                <a:t>organisatorische inspanningen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8" name="Tekstvak 8"/>
          <p:cNvGrpSpPr/>
          <p:nvPr/>
        </p:nvGrpSpPr>
        <p:grpSpPr>
          <a:xfrm>
            <a:off x="2962440" y="1620720"/>
            <a:ext cx="1665000" cy="689040"/>
            <a:chOff x="2962440" y="1620720"/>
            <a:chExt cx="1665000" cy="689040"/>
          </a:xfrm>
        </p:grpSpPr>
        <p:pic>
          <p:nvPicPr>
            <p:cNvPr id="289" name="Tekstvak 8" descr=""/>
            <p:cNvPicPr/>
            <p:nvPr/>
          </p:nvPicPr>
          <p:blipFill>
            <a:blip r:embed="rId4"/>
            <a:stretch/>
          </p:blipFill>
          <p:spPr>
            <a:xfrm>
              <a:off x="2962440" y="1620720"/>
              <a:ext cx="166500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3143160" y="171468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ffff"/>
                  </a:solidFill>
                  <a:latin typeface="Arial"/>
                  <a:ea typeface="Tahoma"/>
                </a:rPr>
                <a:t>beleid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1" name="Wolk 16"/>
          <p:cNvSpPr/>
          <p:nvPr/>
        </p:nvSpPr>
        <p:spPr>
          <a:xfrm>
            <a:off x="5029200" y="3000240"/>
            <a:ext cx="1471680" cy="1428840"/>
          </a:xfrm>
          <a:custGeom>
            <a:avLst/>
            <a:gdLst>
              <a:gd name="textAreaLeft" fmla="*/ 202680 w 1471680"/>
              <a:gd name="textAreaRight" fmla="*/ 1164240 w 1471680"/>
              <a:gd name="textAreaTop" fmla="*/ 215640 h 1428840"/>
              <a:gd name="textAreaBottom" fmla="*/ 1146960 h 14288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Wolk 15"/>
          <p:cNvSpPr/>
          <p:nvPr/>
        </p:nvSpPr>
        <p:spPr>
          <a:xfrm>
            <a:off x="3992400" y="2928960"/>
            <a:ext cx="2073600" cy="1928880"/>
          </a:xfrm>
          <a:custGeom>
            <a:avLst/>
            <a:gdLst>
              <a:gd name="textAreaLeft" fmla="*/ 285840 w 2073600"/>
              <a:gd name="textAreaRight" fmla="*/ 1640520 w 2073600"/>
              <a:gd name="textAreaTop" fmla="*/ 291240 h 1928880"/>
              <a:gd name="textAreaBottom" fmla="*/ 1548360 h 19288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Wolk 17"/>
          <p:cNvSpPr/>
          <p:nvPr/>
        </p:nvSpPr>
        <p:spPr>
          <a:xfrm rot="2026200">
            <a:off x="1433520" y="3270240"/>
            <a:ext cx="2071800" cy="1928880"/>
          </a:xfrm>
          <a:custGeom>
            <a:avLst/>
            <a:gdLst>
              <a:gd name="textAreaLeft" fmla="*/ 285480 w 2071800"/>
              <a:gd name="textAreaRight" fmla="*/ 1639080 w 2071800"/>
              <a:gd name="textAreaTop" fmla="*/ 291240 h 1928880"/>
              <a:gd name="textAreaBottom" fmla="*/ 1548360 h 19288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Wolk 12"/>
          <p:cNvSpPr/>
          <p:nvPr/>
        </p:nvSpPr>
        <p:spPr>
          <a:xfrm>
            <a:off x="2000160" y="3000240"/>
            <a:ext cx="3429000" cy="2357640"/>
          </a:xfrm>
          <a:custGeom>
            <a:avLst/>
            <a:gdLst>
              <a:gd name="textAreaLeft" fmla="*/ 472320 w 3429000"/>
              <a:gd name="textAreaRight" fmla="*/ 2712600 w 3429000"/>
              <a:gd name="textAreaTop" fmla="*/ 356040 h 2357640"/>
              <a:gd name="textAreaBottom" fmla="*/ 1892520 h 23576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Tekstvak 13"/>
          <p:cNvGrpSpPr/>
          <p:nvPr/>
        </p:nvGrpSpPr>
        <p:grpSpPr>
          <a:xfrm>
            <a:off x="2494080" y="3365640"/>
            <a:ext cx="2590560" cy="504720"/>
            <a:chOff x="2494080" y="3365640"/>
            <a:chExt cx="2590560" cy="504720"/>
          </a:xfrm>
        </p:grpSpPr>
        <p:pic>
          <p:nvPicPr>
            <p:cNvPr id="296" name="Tekstvak 13" descr=""/>
            <p:cNvPicPr/>
            <p:nvPr/>
          </p:nvPicPr>
          <p:blipFill>
            <a:blip r:embed="rId5"/>
            <a:stretch/>
          </p:blipFill>
          <p:spPr>
            <a:xfrm>
              <a:off x="2494080" y="3365640"/>
              <a:ext cx="25905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2600280" y="3429000"/>
              <a:ext cx="242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7ffff"/>
                  </a:solidFill>
                  <a:latin typeface="Arial"/>
                  <a:ea typeface="Tahoma"/>
                </a:rPr>
                <a:t>uitvoeringsteam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 txBox="1"/>
          <p:nvPr/>
        </p:nvSpPr>
        <p:spPr>
          <a:xfrm>
            <a:off x="2590920" y="4038480"/>
            <a:ext cx="271440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Arial"/>
              </a:rPr>
              <a:t>veilig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9" name="PIJL-RECHTS 7"/>
          <p:cNvGrpSpPr/>
          <p:nvPr/>
        </p:nvGrpSpPr>
        <p:grpSpPr>
          <a:xfrm>
            <a:off x="3475080" y="1298520"/>
            <a:ext cx="291960" cy="457200"/>
            <a:chOff x="3475080" y="1298520"/>
            <a:chExt cx="291960" cy="457200"/>
          </a:xfrm>
        </p:grpSpPr>
        <p:pic>
          <p:nvPicPr>
            <p:cNvPr id="300" name="PIJL-RECHTS 7" descr=""/>
            <p:cNvPicPr/>
            <p:nvPr/>
          </p:nvPicPr>
          <p:blipFill>
            <a:blip r:embed="rId6"/>
            <a:stretch/>
          </p:blipFill>
          <p:spPr>
            <a:xfrm>
              <a:off x="3475080" y="1298520"/>
              <a:ext cx="2919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 rot="6108000">
              <a:off x="3461400" y="1437120"/>
              <a:ext cx="36216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F72C-CD50-421C-A565-6BDB1DD9617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571680" y="1499760"/>
            <a:ext cx="83707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asisvoorwaard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soneelsselectie en begeleiding: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iste man op de juiste plaa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roductie: werk, team en risico’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continue inspann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servaties veiligheidsgedra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structureerd overle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handelen klachten en v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4 Organisatorische inspanning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17:14Z</dcterms:modified>
  <cp:revision>271</cp:revision>
  <dc:subject/>
  <dc:title>Taak en positie VFP</dc:title>
</cp:coreProperties>
</file>