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7239000" cy="10666413"/>
  <p:notesSz cx="66706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10AA-9043-4A69-A2DA-D90502684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792B-77E9-43E9-A322-56215769A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079B-859F-408C-A370-98DD76353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8BB4-85C9-4B0C-8EDF-8A276511C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07C3-53E3-420A-A2E9-D120EF370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32BC-EE9C-4E20-894F-F0A60AE35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0A23-99B4-4DA4-B424-EF554F83A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19DD-415F-466A-BDDB-4DC40B483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7880"/>
            <a:ext cx="6153120" cy="82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2156-E164-4BF4-942F-2B933E0D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8E07-55A6-48A3-AD8C-7A92C79C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9F60-3A4A-4B4D-9683-C5BDB4ED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02F9-4341-4AEC-B053-417A38DC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20000"/>
            <a:ext cx="1508040" cy="71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20000"/>
            <a:ext cx="2292480" cy="71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20000"/>
            <a:ext cx="1508040" cy="71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270E058-041B-4CC5-A743-CA9F6D962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2880" y="58392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SVEILIGHEID (VC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62080" y="2590560"/>
            <a:ext cx="5067360" cy="739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rkvergun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sloten 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9747-588E-4FD9-A643-722B9F33C37F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atreg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ede toegankelijk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der dan 18 j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ten en sleuven 2 uitga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tenzijde afzetting en waarschuwingsb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itgangen altijd vrijhou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5189400" y="6894360"/>
          <a:ext cx="1882800" cy="190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9400" y="6894360"/>
                    <a:ext cx="1882800" cy="19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DF58-3AAC-4FA1-9EC6-7E6547965D5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289880" y="685800"/>
            <a:ext cx="465948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EILIG WERK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95200" y="8381880"/>
            <a:ext cx="664848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 BESLOTEN RUIM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lopuh" descr=""/>
          <p:cNvPicPr/>
          <p:nvPr/>
        </p:nvPicPr>
        <p:blipFill>
          <a:blip r:embed="rId1"/>
          <a:stretch/>
        </p:blipFill>
        <p:spPr>
          <a:xfrm>
            <a:off x="444600" y="2819520"/>
            <a:ext cx="6348240" cy="4432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401F-427D-482E-A888-913F93A575FB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47640" y="480960"/>
            <a:ext cx="5992920" cy="887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E8C8-629D-4F3D-8DE2-56C257A85B54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19200" y="262080"/>
            <a:ext cx="6153120" cy="118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BM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42880" y="1328760"/>
            <a:ext cx="6153120" cy="850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iligheidsbr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hoorbesche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scho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103720" y="5589720"/>
          <a:ext cx="1900440" cy="19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3720" y="5589720"/>
                    <a:ext cx="1900440" cy="19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5032440" y="7799400"/>
          <a:ext cx="1892160" cy="191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32440" y="7799400"/>
                    <a:ext cx="1892160" cy="19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5075280" y="1074600"/>
          <a:ext cx="1805040" cy="1805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75280" y="1074600"/>
                    <a:ext cx="1805040" cy="18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5033880" y="3241800"/>
          <a:ext cx="1887480" cy="1892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33880" y="3241800"/>
                    <a:ext cx="188748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55CF-7DCA-46EB-9E97-6BB8677B9B4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42880" y="337680"/>
            <a:ext cx="6153120" cy="11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BM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42880" y="1709280"/>
            <a:ext cx="6153120" cy="796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iligheidsschoei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iligheidshe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afhankelijke adembesche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beveili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5205240" y="5210280"/>
          <a:ext cx="2003760" cy="191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240" y="5210280"/>
                    <a:ext cx="2003760" cy="19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5189400" y="3227400"/>
          <a:ext cx="1882800" cy="191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9400" y="3227400"/>
                    <a:ext cx="1882800" cy="19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5110200" y="1251000"/>
          <a:ext cx="1887480" cy="1909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10200" y="1251000"/>
                    <a:ext cx="1887480" cy="19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5186520" y="7524720"/>
          <a:ext cx="2041200" cy="2013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86520" y="7524720"/>
                    <a:ext cx="2041200" cy="20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3309-E9D5-493B-A145-F41C71EDCCF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varen elektriciteit besloten ruim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ak hogere temperatu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ak vocht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elal metaal en dus goede gele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eine ruimte, waardoor elektrakabels ongeord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5ED6-FF2B-4B6C-99C6-0D32E70D219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28600" y="2135160"/>
            <a:ext cx="6832440" cy="6326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2C91-506A-452A-AD7C-C365E0F5F91D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ktrocu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ktrocutie te voorkomen do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kzaamheden te verrichten met een veilige sp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0080" y="5416560"/>
            <a:ext cx="5550120" cy="14349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 Volt wisselstro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54120" y="7854840"/>
            <a:ext cx="5626080" cy="18162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0 Volt gelijkstro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73BA-81CA-4072-B0A5-9363B9FCA4B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vergunninge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en werkvergunning is bedo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m de volgende zaken goed 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el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eg tussen iedereen die met het werk heeft te 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dende afspraken tussen iedereen die met het werk heeft te 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t vastleggen van de voorwaarden waaronder gewerkt dient te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1689-9BC1-4F17-90FF-32ACEB92F2D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vergunninge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ste onderdelen op 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kvergunning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anvraag werkzaam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tregelen door verstrekkende af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tregelen door de hou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krachtiging door verschillende partij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77800" y="7778880"/>
            <a:ext cx="6235920" cy="19684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36720" y="7894800"/>
            <a:ext cx="611172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orgen dat de betrokkenen 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mplaar van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kvergunning hebb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2B91-AA67-4566-B386-D5B8D6E3722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9200" y="566640"/>
            <a:ext cx="6153120" cy="13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sloten ruimt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2880" y="1828440"/>
            <a:ext cx="6153120" cy="76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merken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stal erg kleine werkplek, waardoor moeilijk te bewe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stal slechte venti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stal kleine in- en uitga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stal weinig verlic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en dagl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3CCE-7FFB-466F-8AB4-E38D9B4514E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2880" y="338040"/>
            <a:ext cx="6153120" cy="13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sloten ruimt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2880" y="2319480"/>
            <a:ext cx="6153120" cy="743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gevaren in een beslo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im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nd en explo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vaarlijke stoffen en zuurstofgebr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ktrocu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len en struik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54120" y="1987560"/>
            <a:ext cx="5931000" cy="34164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17600" y="2133720"/>
            <a:ext cx="4672080" cy="30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orbeelden besloten ruimt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slagreservoi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l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eu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29BB-B7D3-4DDD-B3F9-8C5845EB489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nd &amp; Explos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vaar voor brand en explos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inig venti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ndbare stoffen in de 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kzaamheden zorgen voor brandbare stoff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tregel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orgen dat er geen brandbare stoffen in de ruimte k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orgen voor ventilatie d.m.v. lucht in bla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9201-37FF-4E7F-82FE-C397D112BAF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vaarlijke stoffen en zuurstoftek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komen giftige stoffen in 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loten ruim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or verdamping van resten van de inhoud van een t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it de wanden door verhitting en schoon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or het werk dat wordt uitgevoe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n buiten de besloten 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A7AA-E458-48F3-B2CC-447255243EC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atregelen bij werken in besloten ruim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bereidende maat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organisatie, toezicht en verblijfsduur, meting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tregelen tijdens het w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lgemene maatregelen, ventileren, maatregelen bij lassen, slijpen, schilderen en bij overige werkzaamhed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8B2B-74C5-40E9-81A2-6EFCB37FC26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42880" y="338040"/>
            <a:ext cx="6153120" cy="12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en is We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42880" y="1862280"/>
            <a:ext cx="6153120" cy="51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 betreden besloten 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or deskundig personeel altij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en o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age zuurstof (21 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L (&lt;10 % L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 waa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6920" y="7245360"/>
            <a:ext cx="6692760" cy="25020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79520" y="7405560"/>
            <a:ext cx="534996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OIT FILTERBU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BRUIK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700520" y="7553160"/>
          <a:ext cx="1946520" cy="195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00520" y="7553160"/>
                    <a:ext cx="1946520" cy="19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4762440" y="7620120"/>
            <a:ext cx="1905120" cy="19047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686120" y="7620120"/>
            <a:ext cx="1904760" cy="182880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7690-65C8-40ED-95EA-D50CC1E0151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8:09:42Z</dcterms:created>
  <dc:creator>Hajo Kleijburg</dc:creator>
  <dc:description>Revisie 0</dc:description>
  <dc:language>en-US</dc:language>
  <cp:lastModifiedBy>inge</cp:lastModifiedBy>
  <cp:lastPrinted>2000-04-30T14:28:28Z</cp:lastPrinted>
  <dcterms:modified xsi:type="dcterms:W3CDTF">2003-11-25T19:44:47Z</dcterms:modified>
  <cp:revision>21</cp:revision>
  <dc:subject>Les 8</dc:subject>
  <dc:title>Basisveiligheid (VC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um voltooid">
    <vt:filetime>2000-03-14T23:00:00Z</vt:filetime>
  </property>
</Properties>
</file>