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FFD-8F05-4E0E-9B03-A4609416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C64-4027-455E-9ACE-2722F334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B1E-6DE4-4A22-872C-1602E669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429-2ECA-4DAD-B0D2-4592F795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586-5E32-495C-AF32-6E79C57A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676-460B-4283-915A-0F06F9CF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3D0-8D15-4C99-B0E0-8490F0F4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AC9-F607-4F1F-A90E-61768026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218-09A0-4A98-8E4D-5D474453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45A-2C31-4D08-BDD8-9DF1B07A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BD1-097D-49A9-99CA-F375A0BC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FCB-2C66-4388-BF8C-87E9B8BE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3E0C-FB29-4CEB-B641-89EBE4D21FC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54880" y="3048120"/>
            <a:ext cx="16891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0280" y="3578400"/>
            <a:ext cx="1725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s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lucht 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86520" y="0"/>
            <a:ext cx="2157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stalen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en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len neus en stalen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kleding wisselen indie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nasgordels goed passend en afgestemd zijn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harnasgordels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harnasgordels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7120" y="2561400"/>
              <a:ext cx="460080" cy="994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438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ndom het gehele 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2640" y="1523880"/>
            <a:ext cx="1584360" cy="122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3200400"/>
            <a:ext cx="1584360" cy="10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1480" y="4718160"/>
            <a:ext cx="13525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autogeen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48520" y="2359080"/>
            <a:ext cx="1798560" cy="16225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48520" y="4498920"/>
            <a:ext cx="1773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4:13Z</dcterms:modified>
  <cp:revision>36</cp:revision>
  <dc:subject/>
  <dc:title>Test</dc:title>
</cp:coreProperties>
</file>