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ABF0-460A-47F0-9E05-EDEA4F75A32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9D7B-C2F1-47E3-8BD1-6701E68C8FD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06B6-47F5-4E67-8018-FB59FAF57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3DB9-6A95-45D3-88AC-30090CE9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9E81-E065-49A9-8D53-0C1A8EAE3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3D56-28F1-4020-9DD5-E3ACC3563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1086-5F64-4FAB-BDF9-EC9EF7D5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0F67-9CF0-4E81-9D2D-65F6737A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7DA1-6F15-4D28-B112-915635F1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0A14-48C7-4906-A19A-2DE46F1C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70AD-CA86-4CDC-A645-95D8EDB1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2BAA-67B2-4108-A7A3-11A91EA4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F6B7-809A-4AEA-9B72-D605F5E7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A977-6A81-4BA1-BF86-C166FB43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B109-264C-469C-9059-D56A2289312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8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Lasten verplaats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gereedsc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lfstandig, gecombineerd of in samen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ste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chillende hijsmiddelen aan elkaar gekopp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delen van het gebruik van een hijsju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last met gecompliceerde afmetingen kan hijsjuk kantelen voork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komen te grote spreidho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lijksoortige lasten sneller aanpi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bels hangen recht = geen kans op schu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Afbeelding 6" descr="hijsjuk_thumb1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6500880" y="0"/>
            <a:ext cx="264312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bij ketti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gerekte of stijf getrokken schalmen afkeu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verlengen met speciale koppelschalm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uten van de sluitingen helemaal aandraa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gen scherpe hoeken bescher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in lengterichting belas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te zwaar be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Afbeelding 5" descr="Herstel%20(2).jpg"/>
          <p:cNvPicPr/>
          <p:nvPr/>
        </p:nvPicPr>
        <p:blipFill>
          <a:blip r:embed="rId1"/>
          <a:srcRect l="0" t="26596" r="37962" b="8594"/>
          <a:stretch/>
        </p:blipFill>
        <p:spPr>
          <a:xfrm>
            <a:off x="6095880" y="3962520"/>
            <a:ext cx="27385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staalkabel bezwijkt: gevaa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delijke slachto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geslagen lichaams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war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teriële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Afbeelding 4" descr="200px-Fraying_wire_rope.jpg"/>
          <p:cNvPicPr/>
          <p:nvPr/>
        </p:nvPicPr>
        <p:blipFill>
          <a:blip r:embed="rId1"/>
          <a:stretch/>
        </p:blipFill>
        <p:spPr>
          <a:xfrm>
            <a:off x="5319720" y="1905120"/>
            <a:ext cx="26272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staalkab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slaan aan een rek in droge, geventileerde 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act met vocht en corrosieve stoffen verm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matig inspecter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rrosie (roes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ijtage (vleeshak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en tegen scherpe ho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it knop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it gebruiken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chte splitsen, bij een oog of kabelei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reuknest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oken stre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rke roestvo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Afbeelding 5" descr="hijsbanden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079960" y="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2 Hijsban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banden worden veel gebruik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tte, geweven banden lusvorm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unststof met lederen bescherming binnenzij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bel met aanduid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teria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le werkbelast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uringsdat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banden zijn praktisch, maar kwetsb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vuldig mee werken, niet overbe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keuren bij slijtage, beschadiging, vervuiling door olie of chemicaliën, ook afkeuren als het label onleesbaa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3 Takelen met een handtak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bediend hijstoeste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sitionering in verticale en horizontale richting van lasten tijdens hijswerkzaamheden (dus om de last precies op de goede plek te krijge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gebruik van een kraan onmogelijk of niet efficiën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takel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bel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euk van onderdeel ta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ade of bezwijken bevestigingspu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ade aan constructie waaraan takel is vastgemaa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3 Takelen met een handtakel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gebruik tak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doende stevige aanslagpunten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gebruik inspecte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defecten terugbrengen en gebreken mel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overbe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ndel nooit met een pijp verle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haak niet op de pun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7643880" y="0"/>
            <a:ext cx="15001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4 Gebruik van een vorkheftr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ongevallen met heftrucks met ernstige gevolgen, dodelij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 slachto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va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ntelen van heftru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rijden van personen, goederen of gebouw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niet vakkundig gebruik schade 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600" indent="-273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ftru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600" indent="-273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la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heftruck op bijvoorbeeld dieselolie, die binnen wordt gebruikt, vervuilt de in te ademen lucht erns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6900840" y="0"/>
            <a:ext cx="22431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4 Gebruik van een vorkheftr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en 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extra contragew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voor optimaal zicht bestuu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personen heffen zonder speciale werkb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hijsen zonder speciaal hulpmid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meerijden zonder speciaal ingerichte zitpla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kening houden met personen in d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0000"/>
                </a:solidFill>
                <a:latin typeface="Arial"/>
              </a:rPr>
              <a:t>rijbewijs…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5 Werken met een palletw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gklachten bij verkeerde werkhou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ijnlijke schouder en armen te zware 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kneld raken van vingers, enkels, voeten en t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de l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rijden van personen, goederen, gebouw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adiging van goederen en uitru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en 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biel laden, last gelijk over vorken ver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gale ondergr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noeg manoeuvreer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goede houding duwen of tre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Tijdelijke aanduiding voor inhoud 4" descr="palletwagen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7286760" y="0"/>
            <a:ext cx="185724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 Lasten ver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k bedrijf heeft te maken met transpo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icaal transpo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illen, hijsen of heff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ranen, takels, heftrucks of palletwage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rizontaal transpo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ertuigen, transportbanden, rollenba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risico op soms ernstige, schade 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pers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hijswerktu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de buurt aanwezige mensen of install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 Lasten ver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1  Tillen van la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2  Hij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3  Takelen met een handtak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4  Gebruik van een vorkheftr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5  Werken met een palletw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1 Tillen van la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handmatig tillen en verplaat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de last door onvoldoende gr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handvatten of goede uitsparin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jn no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gblessures door verkeerd ti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ugblessures ook op lang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rmijn mogelij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ugblessures zijn een belangrijke red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 werknemers af te ke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Afbeelding 4" descr="imagesCAH6CN3G.jpg"/>
          <p:cNvPicPr/>
          <p:nvPr/>
        </p:nvPicPr>
        <p:blipFill>
          <a:blip r:embed="rId1"/>
          <a:stretch/>
        </p:blipFill>
        <p:spPr>
          <a:xfrm>
            <a:off x="6715080" y="3733920"/>
            <a:ext cx="22147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1 Tillen van la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bij handmatig tillen en verplaat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llen met een rechte rug en gebogen knieë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last zo dicht mogelijk tegen het lichaam aan 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uiste werkkleding en PBM (schoenen) voorkomen/beperken let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 Hij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ngrijke gevaren bij het hij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vallen van de kr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d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aakt worden door kraan, last of hijs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ikseminsla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omwaaien, bij slecht w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ttelijke eisen hijswerktuigen en toebeho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doen aan de eisen van de Machinerichtl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keurd zijn (keuringsbewijs is aanwezi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ringsgegevens zijn herkenbaar aangebr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een CE-mark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ximale belasting is zichtb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Afbeelding 4" descr="imagesCAPB6G3T.jpg"/>
          <p:cNvPicPr/>
          <p:nvPr/>
        </p:nvPicPr>
        <p:blipFill>
          <a:blip r:embed="rId1"/>
          <a:stretch/>
        </p:blipFill>
        <p:spPr>
          <a:xfrm>
            <a:off x="6516720" y="0"/>
            <a:ext cx="25621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 Hij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pieren die aanwezig moeten zijn bij de kr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aanbo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 keuringen en onderhoudswerkzaamheden worden opgetek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tabellen en hijsgrafiek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lk gewicht mag op welke afstand worden verplaat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ertific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uringsbewijzen van lieren, takels, hijsmasten, extra kettingen, hijsjuk en ander hijsgereedsch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5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 hijsen verei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nnis van zak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wezen vaardig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ieners van hijswerktuigen moeten deskundigheid kunnen aantonen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renkran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biele kranen 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istellingen (met een lastmoment gelijk aan of groter dan 10 ton mt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skundigheidsbewijs (hijsbewij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istratieboekje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(o.a. ervarin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egelaten werkbelasting niet overschr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mp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juiste wijze aansl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matige visuele controle van het materie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beschadigingen en slij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reidhoek van sprongen zo klein mogelijk (max 120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hijsen boven door fabrikant opgegeven windkra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communicatie kraandrijver en assist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afstemming bij de inzet v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dere hijskranen (kranenpla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7286760" y="1447920"/>
            <a:ext cx="18572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Mechteld de Coo</cp:lastModifiedBy>
  <dcterms:modified xsi:type="dcterms:W3CDTF">2015-09-29T11:05:05Z</dcterms:modified>
  <cp:revision>21</cp:revision>
  <dc:subject/>
  <dc:title>Test</dc:title>
</cp:coreProperties>
</file>