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11049000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47640" y="738000"/>
            <a:ext cx="5556240" cy="364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5992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044CC4D-A2DB-4DB4-93F2-838D8C3303A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81C678B-3C8B-4556-A0A6-BD44B07F60F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D777161-778B-4D1E-96F7-A5B67E270F3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EC8AEC1-5361-4739-82DE-318F1DFC1C1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047E645-B14E-4C5D-827B-22D0ABC18DC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CF1706C-78F5-4C10-8E4B-2BB15AC623C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8EC5081-AD60-4890-A66A-DC47E831635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785FC60-265C-4DBA-B0F2-CB332DEB14E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06AEBF7-983D-4089-9E79-33505D2E59C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E72C03C-AEC5-47A3-B95D-6C4F33DBA1E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7151AB5-C7B1-41A7-94FE-15647CA9815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836FAE3-0D5D-438D-83E0-EE933443994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5525B38-5481-4B0D-BC95-20942E6F570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036A07-D9DA-4701-8B1D-88164CAF5F5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9792A0C-DCCC-4FA1-B6E8-9A2E898C0D6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40FDAFB-C92A-4A33-B635-CE673A3C16D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1809A8C-4057-461E-9787-1C8708FECBB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023ED9E-5479-4209-AF9E-A01CFACE316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E8C3422-0A88-4172-B8D9-8988F49C150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F1D0107-B5DC-44C8-B324-77A99488EEC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1D5566F-1BE3-4CB9-A03C-7E7B0CCCD71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255B0AB-FF20-4B2D-AAD7-3D06E788801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1774A42-3FB4-4A1D-A2E6-9719C64956B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8C5FC6F-E4F3-4D74-9315-2A405D17EA2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706116B-BAFC-4F15-BE0E-3880D472F2E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0BA90F8-45B7-4C4B-A2A9-A2B434B3814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67A83F8-55DE-4AA3-8CCC-E05E8BC7B24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E0383AD-324A-474E-A5AF-44782C06424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BB436D7-1D68-4D04-97A6-2FA327A2661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8EB9074-6391-499E-8871-1FC778F3DF5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343B888-703E-43D2-BB66-0F664950A35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88E8FDC-7C3A-4B1E-B687-F78A8845B9F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59A463D-87E2-40E6-BCCD-BC8CF753809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11AD570-AACE-4FFC-BD18-FBC7D4ABE86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BDEECBC-CC48-44DB-82B2-78CC0CF90FE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84E571A-9B15-4F4C-9993-24BEAA33AC4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50C8DDD-9A41-4BFD-9BF1-0D8FFAE1793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0F67312-38FF-457E-894E-497A1D9917A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E138F65-8470-4BDB-8916-54AA551D58A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322DA19-7ADF-4C70-803E-D7D214C4920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5F048D6-983B-43E4-A095-468A718BB9C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DD6CD60-9B98-4126-A995-85E6EA24682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E74058D-C67F-4C8A-A5F0-F0ED1F69D24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97309A0-8D05-483C-9B90-0D2BA64BB59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7322D2C-5CB8-49BD-AF86-F97DECB3C9E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FCD4-B436-42BA-9E90-0EDC9C06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3853-8984-45B1-BA3C-72825B33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4D16-4900-42AF-9366-E28EC555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0428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7984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872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0428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7984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02D1-E5CF-4595-9C29-3882A1FE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B426-3D8B-4710-9D0B-6244D126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7D58-877A-49D5-A107-17BA8E59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6338-D387-48E5-8D4F-60AA9647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C75C-4562-4F8E-A9A9-AEBCF2AC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8720" y="644400"/>
            <a:ext cx="939168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2F25-07B0-4ADB-A093-1D37FD1C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B93F-76F6-4540-894D-40927830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EBDD-9D37-432D-B88D-B1F16866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928A-7EF4-4991-800B-1D4E17AB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872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74600" y="6594120"/>
            <a:ext cx="3498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1856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F092D32-276A-4435-AD02-1F952A00CAC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DF7CC02-AECA-4AC6-A79C-F653E44164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4640" y="66492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57440" y="202212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and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chinaal 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lassen en br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AB14E07-CECC-4DB7-90ED-CF00FD04CF0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98400" y="1473120"/>
            <a:ext cx="9657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225823F-41A4-47C2-B0A6-EF2EDED2E6A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jaarlijks worden gekeu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beschadi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D5C87E8-4BBC-4F60-939E-FA199AD771B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slijpmachines, doorslijpschijven en afbraam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slijpschijve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fabrik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um toelaatbaar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 bindmid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rrelgro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uc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399FBD7-5ACB-42E9-923F-79CF4EB397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t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16120" y="1752480"/>
            <a:ext cx="591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D408A93-3664-4D33-AE45-BFCA40AD622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langrijkste risico’s bij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een 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vliegende deelt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anrak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uit elkaar spring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 door ontsteking van brandbar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mpen en 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F9C2882-47EF-424B-8FDC-1A0BC81294D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groepen van schijv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jp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braam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F2D431-80E4-4290-9F95-B8D8A683C32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3157560" y="2682720"/>
          <a:ext cx="47512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7560" y="2682720"/>
                    <a:ext cx="47512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E56FF09-60F2-40F6-A0AD-008E3D7A17A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en met de hand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moet rekening gehoud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ype hand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ermog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wenste 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materiaal dat men gaat slij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esultaat dat men wil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te en de vorm van het materi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and waaronder men wer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rvaring en het vakmansch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08FE621-E023-4AA8-AFBA-BB0DE2A7F55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t op samengeperste lu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s voor het werk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neumatisch handgereedscha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voor voldoende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zachte, leren handsch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rust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BA72724-70E8-45CA-A25F-499C7645C73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 door binnendringen s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troffen worden door weggeslagen gereedschap of materiaal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otstelling giftige stoffen bij gevelrein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EBC39FB-790A-4849-B9FB-002FA7B17E3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440" y="2091960"/>
            <a:ext cx="969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s soorten gereedsch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envoudig)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en onder hoge dr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 opgestelde gereedschaps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sappa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9828F1E-D162-4D7C-8757-FE6D78068D6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werkdruk &gt; 100 B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nimaal 18 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uitpistool met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eiligd tegen ongewild inscha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g niet in “AAN” stand vergrendeld kunn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mp voorzien van nood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quate opleiding verp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0F4F385-C0A2-41B8-824D-458E1ECA414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uiten op asbesthoudend materiaal verb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werken met chemicaliën zijn persoonlijke beschermingsmiddelen verpl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B3FBD21-6DDA-4E72-8A0B-9B16254E226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aansluitende kl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lange haren niet bij de bewegende delen kunnen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geen handschoenen en 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m het werkstuk op een werk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een veiligheidsbril met zijkleppen en evt. adem- en 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A3568F3-4F7C-4079-944A-D426EB129BB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laten afleiden tijdens de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m het gereedschap niet met de hand af, maar laat het uitdraa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- en uit 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 gereedschap nooit aan het snoer of de lucht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onderhoud van 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B8FD4D2-0F72-4860-8194-BFC372909CD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s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 behandelen de volg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ne regels voor deze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lijkse ke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bruiker moet een goede instructi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 opgest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B5DE723-772E-4C18-B914-9C0084ACC71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44640" y="14436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8720" y="1372680"/>
            <a:ext cx="9391680" cy="50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kneld raken van armen of benen in de opspanto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 abuis opstarten van d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pen van 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ademen van hout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840A958-0C1D-4372-BBFB-4B97CC9717B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8720" y="1572840"/>
            <a:ext cx="9391680" cy="48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is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goede beschuttingskap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spouwmessupport hebben dat bij het zaagblad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instelbare en goed uitgevoerde hulpgeleider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én of meer aansluitingen voor de stofaanzu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wezigheid van een duwhou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 hoog mogelijk instellen van het zaag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DA81B96-67D2-4C4D-8513-2C7ACE2B422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C:\Documents and Settings\Inge Nagle\Mijn documenten\Mijn afbeeldingen\cirkelzaag.bmp"/>
          <p:cNvPicPr/>
          <p:nvPr/>
        </p:nvPicPr>
        <p:blipFill>
          <a:blip r:embed="rId1"/>
          <a:stretch/>
        </p:blipFill>
        <p:spPr>
          <a:xfrm>
            <a:off x="762120" y="685800"/>
            <a:ext cx="95248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DEB9669-A178-4355-8297-51E78D5D794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230480" y="2674800"/>
            <a:ext cx="8588160" cy="368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merk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de bouwcirkelzaag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dt de aanwezigheid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lspanningsschakela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1B2A2EC-B5B6-4F4D-8DA1-D7B499EC0D8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“Happen” in het niet vastgezette werkst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eken van de b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gvegen van het boorsel met de 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 gesloten aandrij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stellen van de V-snaar als de machine nog niet stilst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en van koel- en snijol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451039-7429-42B1-B074-FD2BA998FA2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len met handgereed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p worden veroorzaakt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Slecht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in gereedschap zelf onderhouden, ander gereedschap laten repareren of vernie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d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reedschap gebruiken waar het voor bedoel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FF0E0E-CFF6-4F35-A521-538DD45CF22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or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7238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5DE56BD-C544-490D-B68A-4C37B3CA7A4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44640" y="44460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720" y="1292040"/>
            <a:ext cx="9391680" cy="54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hoog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adiging van de 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linters in het 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beschad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monteren door deskundig person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afschermen van de zijkant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tand tussen leunspaan en slijpsteen mag niet meer dan 3 mm bed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unspaan mag niet U-vormig zijn uitgesl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675D37F-CD72-4FB2-BDC3-565EEBDB987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104840" y="1444680"/>
            <a:ext cx="4000680" cy="2662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5257800" y="4140360"/>
            <a:ext cx="434340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27A0880-584D-4809-9CA0-A7B8F146D62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sch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plaatselijk verhitten met behulp van elektrische vlamb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geen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verhitten met behulp van een gasvlam, versterkt door extra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9D15BE5-1947-403A-9942-05482510150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schappelijke geva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- en explosie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baar materiaal dat achter blijft op de werkp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sen aan tanks en le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F583956-F6A0-4702-9A11-24E256D4A8E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men van preventieve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randblusser en brandw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lasb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ende kl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zuiging en/of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AD0ADC-609A-41FD-B84F-CF930D6E685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39680" y="1994040"/>
            <a:ext cx="3075120" cy="2044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6400800" y="1828800"/>
            <a:ext cx="3687840" cy="2095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2743200" y="4419720"/>
            <a:ext cx="31100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3BE78D-18F6-457A-8F06-B9B06DB75A7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919160" y="1968480"/>
            <a:ext cx="69328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685BE09-0CF6-4DCB-A1B3-4C37A61B47D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iftige gassen en dam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raling (gevolg = laso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goede beschermende kl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 een laskap of lashel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helper moet ook een lasbril dr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 werkstukklem, de elektrode, lastang niet onder de 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5CB6908-3555-4837-8F9D-077463DF393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C:\Documents and Settings\Inge Nagle\Mijn documenten\Mijn afbeeldingen\lassen.bmp"/>
          <p:cNvPicPr/>
          <p:nvPr/>
        </p:nvPicPr>
        <p:blipFill>
          <a:blip r:embed="rId1"/>
          <a:stretch/>
        </p:blipFill>
        <p:spPr>
          <a:xfrm>
            <a:off x="1143000" y="587520"/>
            <a:ext cx="876312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DC51AE9-B973-48DE-9970-45816AB24B2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8720" y="194760"/>
            <a:ext cx="939168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8720" y="1492200"/>
            <a:ext cx="9391680" cy="51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schieten, vallen of strui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nijden, knellen of pl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worden door wegschietende 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boord of doorstok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ven of sch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schade door 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5EC8C14-150F-4019-B144-E760AF6612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Documents and Settings\Inge Nagle\Mijn documenten\Mijn afbeeldingen\afzuiging.bmp"/>
          <p:cNvPicPr/>
          <p:nvPr/>
        </p:nvPicPr>
        <p:blipFill>
          <a:blip r:embed="rId1"/>
          <a:stretch/>
        </p:blipFill>
        <p:spPr>
          <a:xfrm>
            <a:off x="1944720" y="966960"/>
            <a:ext cx="71578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EC06D0E-9D2C-4870-B7E5-5E794710826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autogeen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acetyleen en prop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zuivere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dat explosiegrenzen niet worden bere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a propaanflessen niet op in kelders en pu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en zuurstof als werklucht of om te venti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kom zuurstof lek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A8B0810-7D9A-4EB3-AE7C-6BEB9A9BE46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:\Documents and Settings\Inge Nagle\Mijn documenten\Mijn afbeeldingen\gasfles.bmp"/>
          <p:cNvPicPr/>
          <p:nvPr/>
        </p:nvPicPr>
        <p:blipFill>
          <a:blip r:embed="rId1"/>
          <a:stretch/>
        </p:blipFill>
        <p:spPr>
          <a:xfrm>
            <a:off x="2795760" y="676440"/>
            <a:ext cx="54576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B3F3102-8990-4894-AA95-107151B016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C:\Documents and Settings\Inge Nagle\Mijn documenten\Mijn afbeeldingen\gasfles1.bmp"/>
          <p:cNvPicPr/>
          <p:nvPr/>
        </p:nvPicPr>
        <p:blipFill>
          <a:blip r:embed="rId1"/>
          <a:stretch/>
        </p:blipFill>
        <p:spPr>
          <a:xfrm>
            <a:off x="1905120" y="304920"/>
            <a:ext cx="722304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8F1AEFA-BBC6-474D-A3AD-454E3A57CA7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62080" y="604800"/>
            <a:ext cx="1052964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261C411-90EC-41FB-BF15-3A1743D5C77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3398760" y="274680"/>
          <a:ext cx="415296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760" y="274680"/>
                    <a:ext cx="415296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C:\Documents and Settings\Inge Nagle\Mijn documenten\Mijn afbeeldingen\hamer.bmp"/>
          <p:cNvPicPr/>
          <p:nvPr/>
        </p:nvPicPr>
        <p:blipFill>
          <a:blip r:embed="rId3"/>
          <a:stretch/>
        </p:blipFill>
        <p:spPr>
          <a:xfrm>
            <a:off x="685800" y="179280"/>
            <a:ext cx="982980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F31C6F0-7852-4EFD-984D-CAE6F2E59CE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44640" y="693360"/>
            <a:ext cx="9391680" cy="9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2800" y="214128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eedschap gaaf en 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mers met gladde, goed geborgde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sleutels die passen en niet verslet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len met hand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oevendraaiers zonder beschadig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tels, doorslagen en centerponsen zonder b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gen met gave en schone 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18C8CC1-3FFD-4A78-9142-727331201C0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8720" y="34452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640" y="1522080"/>
            <a:ext cx="9391680" cy="51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lleen gebruiken waarvoor bestem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Moersleutels nooit verleng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Gereedschap passe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Van je af snijden en bi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Kleine werkstukken vast zett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Oppassen voor elektrakab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PBM’s gebrui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F7A5249-15BC-49B2-A67F-4DB75570762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citeit kan op 2 man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aarlijk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ocutie (stroom door het licha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nkoverslag (kortsluiting in of vlakbij het appar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risico’s zijn te verkle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te werken met veilige sp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50 Volt wissel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120 Volt gelijk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BBD74F-61A6-4F38-A00E-657803B2DD4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- of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wo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weg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21:06:26Z</dcterms:created>
  <dc:creator>Hajo Kleijburg</dc:creator>
  <dc:description>Revisie 0</dc:description>
  <dc:language>en-US</dc:language>
  <cp:lastModifiedBy>Hans Mulder</cp:lastModifiedBy>
  <cp:lastPrinted>2000-05-31T17:51:36Z</cp:lastPrinted>
  <dcterms:modified xsi:type="dcterms:W3CDTF">2016-10-03T10:34:37Z</dcterms:modified>
  <cp:revision>27</cp:revision>
  <dc:subject>Les 5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