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1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8.wmf" ContentType="image/x-wmf"/>
  <Override PartName="/ppt/media/image17.png" ContentType="image/png"/>
  <Override PartName="/ppt/media/image16.png" ContentType="image/png"/>
  <Override PartName="/ppt/media/image15.png" ContentType="image/png"/>
  <Override PartName="/ppt/media/image1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2.png" ContentType="image/png"/>
  <Override PartName="/ppt/media/image10.wmf" ContentType="image/x-wmf"/>
  <Override PartName="/ppt/media/image7.wmf" ContentType="image/x-wmf"/>
  <Override PartName="/ppt/media/image1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11049000" cy="7239000"/>
  <p:notesSz cx="6850063" cy="97488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0800" cy="974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1440" y="0"/>
            <a:ext cx="2970000" cy="487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647640" y="738000"/>
            <a:ext cx="5556240" cy="3641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1440" y="9259920"/>
            <a:ext cx="2970000" cy="487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260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i="1" lang="nl-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F7BA999F-D267-40CF-89C3-B9EE1A8A7539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96E0ADD4-BC33-4A69-8E21-000E76D83226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729FC13E-330C-4D6E-9E66-A7F26DA0CE05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D57EE99D-53BC-4882-9D75-3B3122304140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A42C5A5C-A096-4980-A8BA-68EBECD7E47B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5320B5AE-94F4-4FDE-AF94-5DBCD575BC40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B6C308F5-27C1-4C62-A773-9D13D843A2FC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B2D320B3-8495-4A75-935F-46F94BF1BF4F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53B47469-7605-4778-9282-F868F2030F92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C2445080-DAB6-406F-9006-223E42660E28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62F78484-5383-4C48-B323-93611187DC35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25404891-E824-493A-906F-2F8ADFD39FE6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36803793-8895-4439-927F-5D1490E2445D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85EAD65C-B275-4607-87AD-9861A46169F2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D45163EB-190F-443A-AE97-F93D0094D3FB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EE7C9B78-D3CF-48C2-A423-487DDF0E23F6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7F7D86D5-AFAF-4462-BD0B-C161CFFAF5D7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EF362E3F-CB63-4EAF-9335-BFD2BF7D46ED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D11732D8-3738-4CC9-852A-5B6F3383BB8B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08E0D5E0-6413-45B5-AFA2-63E21A024475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38533F28-A92F-42D0-8080-82569B4CC585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45590401-37F1-4A22-99D2-71EBA2917B21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7FEA1ECE-EDBA-40CA-A5A9-C48AC8216547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F1F7ADEB-4FFF-459F-B1FE-4E41C872D848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5C958632-6DF0-49F3-AA0A-3407E007EEA5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55D30711-DCA7-458E-AD38-CE177B196CEF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2439C3E4-26C5-40D7-B606-3A8F4EC5DABE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E610CF4C-082F-46AC-A0AC-71CF52A643CB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1FE6EFC6-49FA-4C78-9607-ADD884C7E117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A8762199-0AB9-4228-85AD-E0ACEBD9E04B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A2213EF5-4DE0-4E70-BDF2-FA230578BE6C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244303C8-3995-48B3-8515-ECC00014336A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79A3437D-1B4F-4B16-8629-B114D19EDD4D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58C33880-26C2-4F23-9DC2-38D35FBBEFF5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32C5049A-6126-493D-8FFD-48BCC56AAA4F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7CE3AACA-51C3-44F1-9687-9CDC0BC64EDD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3A16BA93-E4C9-40E4-B947-545315702651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4AC2775B-188B-4E76-A4E7-A6E229359985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89E7947D-3FDB-4C2F-9231-477CB4603BD5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41C74572-6827-41FD-8ADC-1BD92CEEBDAE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05A30253-215F-481E-8D45-C5B69ED4DA39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2357CB98-8404-4431-A4B1-F0591AB46043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D6A8A9EC-A1CF-4AEB-A263-CD7AC9D7AB01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3DA21A0E-D805-4263-BE93-F9556E9F2126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F244DE90-302A-4005-B31D-C7C5371B1ADD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9DC97-E8F6-4F1E-B151-1ECF0DF38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28720" y="4360680"/>
            <a:ext cx="939168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8E561-4362-4AA0-9CC2-8B4F3DC15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45828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641200" y="2091960"/>
            <a:ext cx="45828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28720" y="4360680"/>
            <a:ext cx="45828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641200" y="4360680"/>
            <a:ext cx="45828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2EBBC-5828-47E2-98DF-6244A4BE1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30240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004280" y="2091960"/>
            <a:ext cx="30240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179840" y="2091960"/>
            <a:ext cx="30240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28720" y="4360680"/>
            <a:ext cx="30240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004280" y="4360680"/>
            <a:ext cx="30240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179840" y="4360680"/>
            <a:ext cx="30240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4ECEC-270F-45AB-BFDA-DF3E72DDD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1F745-30DB-4E04-8B97-2B2F57808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57666-9413-4FDE-8D88-FCF2DB8D0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45828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641200" y="2091960"/>
            <a:ext cx="45828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B413E-3715-4185-A134-17AF1E6B6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E4F96-9E81-48D7-9BA8-E6AAC578E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8720" y="644400"/>
            <a:ext cx="9391680" cy="559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A371E-DB27-4751-99DE-3526698D4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45828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641200" y="2091960"/>
            <a:ext cx="45828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28720" y="4360680"/>
            <a:ext cx="45828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2E86A-A438-4778-BFA2-462842043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45828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641200" y="2091960"/>
            <a:ext cx="45828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641200" y="4360680"/>
            <a:ext cx="45828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A6AE9-E9BF-4DE1-8005-89B9B44CE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45828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641200" y="2091960"/>
            <a:ext cx="45828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28720" y="4360680"/>
            <a:ext cx="939168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20DDD-5990-4E5C-BD58-80AB9245D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28720" y="6594120"/>
            <a:ext cx="2301840" cy="48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774600" y="6594120"/>
            <a:ext cx="3498840" cy="48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18560" y="6594120"/>
            <a:ext cx="2301840" cy="48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9FA41A05-45EF-4526-867C-7741D38B40FA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9A8AE10E-FDD3-4B40-A540-92A1CC1FF394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44640" y="664920"/>
            <a:ext cx="9391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ASISVEILIGHEID (VCA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657440" y="2022120"/>
            <a:ext cx="7734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Handgereedschap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machinaal gereedschap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lassen en bran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ijdelijke aanduiding voor datum 1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ijdelijke aanduiding voor dianummer 3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5E6C72B1-E57C-444F-A03E-86B93E820694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2" descr=""/>
          <p:cNvPicPr/>
          <p:nvPr/>
        </p:nvPicPr>
        <p:blipFill>
          <a:blip r:embed="rId1"/>
          <a:stretch/>
        </p:blipFill>
        <p:spPr>
          <a:xfrm>
            <a:off x="698400" y="1473120"/>
            <a:ext cx="9657000" cy="428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C22D4A70-5FF1-4C2C-B12F-A36578CD940B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Eisen elektrisch handgereedsch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oet jaarlijks worden gekeu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en beschadigi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oed onderhou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37A720DB-D3ED-48A3-BF6F-1EC772BA760B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andslijpmachines, doorslijpschijven en afbraamschijv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p slijpschijven vermel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Naam fabrik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aximum toelaatbaar toere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oort bindmid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Korrelgroot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tructu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ardhe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fmeting van de schij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Toepas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E21A5A61-56A8-4D53-A862-206B20FB16AB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lijpt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"/>
          <p:cNvPicPr/>
          <p:nvPr/>
        </p:nvPicPr>
        <p:blipFill>
          <a:blip r:embed="rId1"/>
          <a:stretch/>
        </p:blipFill>
        <p:spPr>
          <a:xfrm>
            <a:off x="2616120" y="1752480"/>
            <a:ext cx="5918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5E72BC3C-E38B-4975-A0ED-77EA994D7A48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Risico’s slijpmach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belangrijkste risico’s bij h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erken met een slijpmach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zij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Rondvliegende deeltj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et aanraken van de slijpschij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et uit elkaar springen van de slijpschij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rand door ontsteking van brandbare stoff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Lawaa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ampen en st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F53ABE61-82B9-472F-97DE-E75E68A98199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lijpschijv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2000"/>
          </a:bodyPr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Twee groepen van schijven zij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oorslijpschijv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fbraamschijv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5980720A-697E-46E5-9F2B-3433F9AE7FAF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lijpschijv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Object 4"/>
          <p:cNvGraphicFramePr/>
          <p:nvPr/>
        </p:nvGraphicFramePr>
        <p:xfrm>
          <a:off x="3157560" y="2682720"/>
          <a:ext cx="4751280" cy="2351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57560" y="2682720"/>
                    <a:ext cx="4751280" cy="235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E4A6BD85-6302-4180-BF3A-CBFE02E0CEA3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lijpen met de handslijpmach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r moet rekening gehouden wor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e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et type handslijpmach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et vermogen van de mach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gewenste afmeting van de schij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et materiaal dat men gaat slijp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et resultaat dat men wil hebb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grootte en de vorm van het materia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stand waaronder men werk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ervaring en het vakmansch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47B8D0B5-AB8C-44E6-B14B-56FAD3AA95E8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Pneumatisch handgereedsch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erkt op samengeperste luc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bruik van dodemanskn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Regels voor het werken m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pneumatisch handgereedschap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Zorg voor voldoende onderhou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bruik gehoorbescher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bruik zachte, leren handschoe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Regelmatig rust ne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3D7F399E-74F2-4D04-8742-9F047BC3CF37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ogedruk reinig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isico’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etsel door binnendringen sta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troffen worden door weggeslagen gereedschap of materiaaldeeltj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lootstelling giftige stoffen bij gevelreini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AF6C5608-5EA4-4A55-AE94-C8D5A0F6C9A3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Gereedsch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23440" y="2091960"/>
            <a:ext cx="96966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es soorten gereedschap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(eenvoudig) handgereedsch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lektrisch handgereedsch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neumatisch handgereedsch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pparaten onder hoge dru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ast opgestelde gereedschapsmach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asapparatu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0A979834-01D4-40A5-905D-4213DB468BAB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Eisen hogedruk reinig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ij werkdruk &gt; 100 Ba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inimaal 18 ja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puitpistool met dodemanskn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eveiligd tegen ongewild inschake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ag niet in “AAN” stand vergrendeld kunnen wor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Pomp voorzien van noodst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dequate opleiding verplic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DBF0454F-85A2-4252-B25B-9AD7435C6EF9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Gebruik hogedruk reinig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puiten op asbesthoudend materiaal verbo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ij werken met chemicaliën zijn persoonlijke beschermingsmiddelen verplic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939F3DC8-607E-42FB-B109-0870C6E62799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Algemene regels bij machines met bewegende dele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org voor goed aansluitende kle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org dat lange haren niet bij de bewegende delen kunnen ko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raag geen handschoenen en rin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lem het werkstuk op een werkban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raag een veiligheidsbril met zijkleppen en evt. adem- en gehoorbescherm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org voor voldoende ruim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A3025190-C823-401C-9388-AC12B484673C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Algemene regels bij machines met bewegende delen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iet laten afleiden tijdens de werkzaamhe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em het gereedschap niet met de hand af, maar laat het uitdraai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org voor voldoende lic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an- en uit schakela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rek gereedschap nooit aan het snoer of de luchtsla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org voor goed onderhoud van gereedsch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481226E6-E57F-4339-817B-2F70C2AD06FF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Gereedschapsmach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e behandelen de volgen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achin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Cirkelza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ast opgestelde boormach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ast opgestelde slijpmach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lgemene regels voor deze mach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oed onderhou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Jaarlijkse keu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gebruiker moet een goede instructie krij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Ruim opgeste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A264DB4C-FAA4-440D-BF43-9CB8A1B052C0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44640" y="14436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Cirkelzag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28720" y="1372680"/>
            <a:ext cx="9391680" cy="50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 risico’s zij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egschietende de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kneld raken van armen of benen in de opspantoestel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er abuis opstarten van de mach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plopen van gehoorsch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nademen van houtst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841B8329-6D70-41E9-92F2-8B4E46C1F5D3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28720" y="244080"/>
            <a:ext cx="9391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De universele cirkelzaagmach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28720" y="1572840"/>
            <a:ext cx="9391680" cy="48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eisen zij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achine moet een goede beschuttingskap hebb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achine moet een spouwmessupport hebben dat bij het zaagblad p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achine moet een instelbare en goed uitgevoerde hulpgeleider hebb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én of meer aansluitingen voor de stofaanzuig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anwezigheid van een duwhout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Zo hoog mogelijk instellen van het zaagbl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ijdelijke aanduiding voor datum 1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ijdelijke aanduiding voor dianummer 3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7FB373A0-C282-4257-B7A0-5934C7EE5124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3" descr="C:\Documents and Settings\Inge Nagle\Mijn documenten\Mijn afbeeldingen\cirkelzaag.bmp"/>
          <p:cNvPicPr/>
          <p:nvPr/>
        </p:nvPicPr>
        <p:blipFill>
          <a:blip r:embed="rId1"/>
          <a:stretch/>
        </p:blipFill>
        <p:spPr>
          <a:xfrm>
            <a:off x="762120" y="685800"/>
            <a:ext cx="9524880" cy="55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AE5A770A-B04F-4DDB-B66F-14DF0807F6F2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De universele cirkelzaagmach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4"/>
          <p:cNvSpPr/>
          <p:nvPr/>
        </p:nvSpPr>
        <p:spPr>
          <a:xfrm>
            <a:off x="1230480" y="2674800"/>
            <a:ext cx="8588160" cy="368640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pmerking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oor de bouwcirkelzaag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ach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ldt de aanwezigheid v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ulspanningsschakelaar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11F0B387-6BE2-4ACB-A4F4-8B226EA62F5A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Vast opgestelde boormach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e risico’s zijn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“Happen” in het niet vastgezette werkstu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reken van de bo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Wegvegen van het boorsel met de ha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Niet gesloten aandrijv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Verstellen van de V-snaar als de machine nog niet stilsta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Gebruiken van koel- en snijoli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1048D7FD-D65D-4BFA-AA44-E89AA1AFDBC1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andgereedsch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ngevallen met handgereed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chap worden veroorzaakt doo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 Slecht onderhou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Klein gereedschap zelf onderhouden, ander gereedschap laten repareren of vernieuw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erkeerd gebrui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reedschap gebruiken waar het voor bedoeld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4FDC7578-597B-4C46-B6CC-6FEE16E489CF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oormach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4" descr=""/>
          <p:cNvPicPr/>
          <p:nvPr/>
        </p:nvPicPr>
        <p:blipFill>
          <a:blip r:embed="rId1"/>
          <a:stretch/>
        </p:blipFill>
        <p:spPr>
          <a:xfrm>
            <a:off x="1676520" y="1828800"/>
            <a:ext cx="723888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CB91CEAA-430C-4D95-9B14-2A7D564783B1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44640" y="444600"/>
            <a:ext cx="9391680" cy="8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Vast opgestelde slijpmach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28720" y="1292040"/>
            <a:ext cx="9391680" cy="542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risico’s zij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Te hoog toere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eschadiging van de ste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plinters in het o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hoorbeschadig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aatregel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lleen monteren door deskundig persone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oed afschermen van de zijkanten van de mach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bruik van beschermru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fstand tussen leunspaan en slijpsteen mag niet meer dan 3 mm bedra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Leunspaan mag niet U-vormig zijn uitgesle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739242F9-528A-4ABD-8875-BD811B968A36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28720" y="244080"/>
            <a:ext cx="9391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lijpmach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4" descr=""/>
          <p:cNvPicPr/>
          <p:nvPr/>
        </p:nvPicPr>
        <p:blipFill>
          <a:blip r:embed="rId1"/>
          <a:stretch/>
        </p:blipFill>
        <p:spPr>
          <a:xfrm>
            <a:off x="1104840" y="1444680"/>
            <a:ext cx="4000680" cy="26622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5" descr=""/>
          <p:cNvPicPr/>
          <p:nvPr/>
        </p:nvPicPr>
        <p:blipFill>
          <a:blip r:embed="rId2"/>
          <a:stretch/>
        </p:blipFill>
        <p:spPr>
          <a:xfrm>
            <a:off x="5257800" y="4140360"/>
            <a:ext cx="4343400" cy="252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ABC9B34C-B78E-471B-AD41-BF6E5381D232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Lassen en slijpe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lektrisch lass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ateriaal plaatselijk verhitten met behulp van elektrische vlambo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utogeen lass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ateriaal verhitten met behulp van een gasvlam, versterkt door extra zuurst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5E4C5AC5-CA3A-4B08-9C7F-572CE05AF64D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Lassen en slijpen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meenschappelijke gevar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rand- en explosiegeva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randbaar materiaal dat achter blijft op de werkpl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Lassen aan tanks en leidi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C36E0594-80E8-4759-8009-553D9B60D839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Nemen van preventieve maatrege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bruik van brandblusser en brandwac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bruik van lasbr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bruik van gehoorbescher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bruik van beschermende kle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fzuiging en/of ventilat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73402A2A-004F-47A8-92BF-B26DA1491033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PBM’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4" descr=""/>
          <p:cNvPicPr/>
          <p:nvPr/>
        </p:nvPicPr>
        <p:blipFill>
          <a:blip r:embed="rId1"/>
          <a:stretch/>
        </p:blipFill>
        <p:spPr>
          <a:xfrm>
            <a:off x="1039680" y="1994040"/>
            <a:ext cx="3075120" cy="204444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5" descr=""/>
          <p:cNvPicPr/>
          <p:nvPr/>
        </p:nvPicPr>
        <p:blipFill>
          <a:blip r:embed="rId2"/>
          <a:stretch/>
        </p:blipFill>
        <p:spPr>
          <a:xfrm>
            <a:off x="6400800" y="1828800"/>
            <a:ext cx="3687840" cy="209556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6" descr=""/>
          <p:cNvPicPr/>
          <p:nvPr/>
        </p:nvPicPr>
        <p:blipFill>
          <a:blip r:embed="rId3"/>
          <a:stretch/>
        </p:blipFill>
        <p:spPr>
          <a:xfrm>
            <a:off x="2743200" y="4419720"/>
            <a:ext cx="3110040" cy="20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9B9C6622-081F-44E9-B7B2-2250D60D7DC5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Elektrisch lass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4" descr=""/>
          <p:cNvPicPr/>
          <p:nvPr/>
        </p:nvPicPr>
        <p:blipFill>
          <a:blip r:embed="rId1"/>
          <a:stretch/>
        </p:blipFill>
        <p:spPr>
          <a:xfrm>
            <a:off x="1919160" y="1968480"/>
            <a:ext cx="6932880" cy="44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FA45C8F6-E9AC-4098-8FE2-E66EDE81722D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Extra gevaren elektrisch lass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Giftige gassen en damp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Straling (gevolg = lasoge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Elektrocuti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Te nemen maatregelen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Zorg voor goede beschermende kled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Gebruik een laskap of lashel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e helper moet ook een lasbril drag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Houd werkstukklem, de elektrode, lastang niet onder de ar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ijdelijke aanduiding voor datum 1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ijdelijke aanduiding voor dianummer 3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EA42AF4F-3845-4993-817F-364217088F5E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3" descr="C:\Documents and Settings\Inge Nagle\Mijn documenten\Mijn afbeeldingen\lassen.bmp"/>
          <p:cNvPicPr/>
          <p:nvPr/>
        </p:nvPicPr>
        <p:blipFill>
          <a:blip r:embed="rId1"/>
          <a:stretch/>
        </p:blipFill>
        <p:spPr>
          <a:xfrm>
            <a:off x="1143000" y="587520"/>
            <a:ext cx="8763120" cy="60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47185ACA-7C11-4A87-9059-3849FA2098F3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28720" y="194760"/>
            <a:ext cx="9391680" cy="1078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Risico’s handgereedsch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28720" y="1492200"/>
            <a:ext cx="9391680" cy="5122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Uitschieten, vallen of struike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nijden, knellen of plet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troffen worden door wegschietende de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oorboord of doorstoken wor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chaven of schu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hoorschade door lawaa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ijdelijke aanduiding voor datum 1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ijdelijke aanduiding voor dianummer 3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34A95391-7B11-477D-8AE4-D41B0823BED8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3" descr="C:\Documents and Settings\Inge Nagle\Mijn documenten\Mijn afbeeldingen\afzuiging.bmp"/>
          <p:cNvPicPr/>
          <p:nvPr/>
        </p:nvPicPr>
        <p:blipFill>
          <a:blip r:embed="rId1"/>
          <a:stretch/>
        </p:blipFill>
        <p:spPr>
          <a:xfrm>
            <a:off x="1944720" y="966960"/>
            <a:ext cx="7157880" cy="53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06F72D51-019B-4042-99DE-55E3F9D370B0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Extra gevaren autogeen lass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bruik van acetyleen en propa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bruik van zuivere zuurst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Te nemen maatregel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Zorg dat explosiegrenzen niet worden bereik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la propaanflessen niet op in kelders en put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bruik geen zuurstof als werklucht of om te ventile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oorkom zuurstof lekk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ijdelijke aanduiding voor datum 1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ijdelijke aanduiding voor dianummer 3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3DF3E31D-4878-4D97-AAE7-A9F792442A2B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3" descr="C:\Documents and Settings\Inge Nagle\Mijn documenten\Mijn afbeeldingen\gasfles.bmp"/>
          <p:cNvPicPr/>
          <p:nvPr/>
        </p:nvPicPr>
        <p:blipFill>
          <a:blip r:embed="rId1"/>
          <a:stretch/>
        </p:blipFill>
        <p:spPr>
          <a:xfrm>
            <a:off x="2795760" y="676440"/>
            <a:ext cx="5457600" cy="588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ijdelijke aanduiding voor datum 1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ijdelijke aanduiding voor dianummer 3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EC8A53A7-833F-457E-83F3-9E9F707C7B0D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3" descr="C:\Documents and Settings\Inge Nagle\Mijn documenten\Mijn afbeeldingen\gasfles1.bmp"/>
          <p:cNvPicPr/>
          <p:nvPr/>
        </p:nvPicPr>
        <p:blipFill>
          <a:blip r:embed="rId1"/>
          <a:stretch/>
        </p:blipFill>
        <p:spPr>
          <a:xfrm>
            <a:off x="1905120" y="304920"/>
            <a:ext cx="7223040" cy="646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Tijdelijke aanduiding voor datum 1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ijdelijke aanduiding voor dianummer 3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CAF38054-E2F9-419C-8A62-6446E330E9C7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2" descr=""/>
          <p:cNvPicPr/>
          <p:nvPr/>
        </p:nvPicPr>
        <p:blipFill>
          <a:blip r:embed="rId1"/>
          <a:stretch/>
        </p:blipFill>
        <p:spPr>
          <a:xfrm>
            <a:off x="262080" y="604800"/>
            <a:ext cx="10529640" cy="603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ijdelijke aanduiding voor datum 1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ijdelijke aanduiding voor dianummer 3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1E95E3DD-DD69-4086-9A37-2CB5B634BCD6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Object 2"/>
          <p:cNvGraphicFramePr/>
          <p:nvPr/>
        </p:nvGraphicFramePr>
        <p:xfrm>
          <a:off x="3398760" y="274680"/>
          <a:ext cx="4152960" cy="629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98760" y="274680"/>
                    <a:ext cx="4152960" cy="629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8" name="Picture 5" descr="C:\Documents and Settings\Inge Nagle\Mijn documenten\Mijn afbeeldingen\hamer.bmp"/>
          <p:cNvPicPr/>
          <p:nvPr/>
        </p:nvPicPr>
        <p:blipFill>
          <a:blip r:embed="rId3"/>
          <a:stretch/>
        </p:blipFill>
        <p:spPr>
          <a:xfrm>
            <a:off x="685800" y="179280"/>
            <a:ext cx="9829800" cy="633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DD81C495-1CFA-49AB-A0F8-305EC64CB838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44640" y="693360"/>
            <a:ext cx="9391680" cy="97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Eisen handgereedsch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12800" y="214128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reedschap gaaf en sch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amers met gladde, goed geborgde ste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oersleutels die passen en niet versleten zij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ijlen met handv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chroevendraaiers zonder beschadigin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itels, doorslagen en centerponsen zonder bra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angen met gave en schone b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62D2E3C6-293B-401E-AA84-F3A48537C28C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28720" y="344520"/>
            <a:ext cx="9391680" cy="8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Gebruik handgereedsch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44640" y="1522080"/>
            <a:ext cx="9391680" cy="514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Alleen gebruiken waarvoor bestemd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Moersleutels nooit verlenge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Gereedschap passend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Van je af snijden en bikke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Kleine werkstukken vast zette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Oppassen voor elektrakab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PBM’s gebruike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46539582-3E54-4BEA-B4BC-6FEB07915A0C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Elektrisch handgereedsch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lektriciteit kan op 2 manie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vaarlijk zij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lektrocutie (stroom door het lichaa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onkoverslag (kortsluiting in of vlakbij het apparaa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ze risico’s zijn te verklei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oor te werken met veilige spann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aximaal 50 Volt wisselspan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aximaal 120 Volt gelijkspan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4C3075D8-5C55-4862-8747-D9EB4C64E109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Risico’s elektrisch handgereedsch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rand- of explos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randwon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wegende de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egschietende deeltj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t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hoorsch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19T21:06:26Z</dcterms:created>
  <dc:creator>Hajo Kleijburg</dc:creator>
  <dc:description>Revisie 0</dc:description>
  <dc:language>en-US</dc:language>
  <cp:lastModifiedBy>Hans Mulder</cp:lastModifiedBy>
  <cp:lastPrinted>2000-05-31T17:51:36Z</cp:lastPrinted>
  <dcterms:modified xsi:type="dcterms:W3CDTF">2016-10-03T10:34:19Z</dcterms:modified>
  <cp:revision>27</cp:revision>
  <dc:subject>Les 5</dc:subject>
  <dc:title>Basisveiligheid (VCA)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atum voltooid">
    <vt:filetime>2000-03-14T23:00:00Z</vt:filetime>
  </property>
</Properties>
</file>