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1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426-A47F-431B-A96C-E9D105A2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9EAF-5E92-49AF-987F-6B3B374D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AC443-6107-490B-AEFE-AF0675E8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24F3F-649C-41D4-A15E-562DB00D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D3B46-2860-4A09-A821-12090F14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A9789-8698-4D20-89C7-6741A5BC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99333-E12E-48F4-BD07-0D73B666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7CE3F-C8CF-40EC-AE09-06DDC534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2C10E-A0B3-4C89-A447-924DCE26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EE601-B01C-461B-B859-D230AFDA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90A04-0861-40C0-96DB-E1D8D50D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C6833-EF60-48DA-A452-9EF1B80E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B14-12CE-49C5-8DB3-AE6AFDB2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84FD7-3803-412C-AA6F-5F5CAE37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51F4D-4088-4D69-A96F-170459D2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ED67E-DE9E-4F6C-912F-90DF7EDB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42A29-0035-4869-A070-8906F45A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7B9FC-5E77-46E7-BA87-6C37FAD5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7A2D6-405A-4CD0-A69B-F667F1C0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25758-536A-41F8-9F57-56517224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5ABAB-7BF7-4A94-BBF0-759F0712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7CBC8-58C6-44B8-A54B-73F8BCF5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05333-477A-486A-997E-B58FC90F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127-099E-4092-AA76-A3D55977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2F139-383D-4D73-9F2F-E00CED81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06F36-F7DF-442C-BA1E-E779CCD9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53D37-6309-454D-943B-0CC0F2AA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55AF3-9DF5-47A6-AEA1-8DFD26C2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56B22-EC42-462A-B612-DF5E2E10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79E8B-6FFB-4C86-A3F7-343C6506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F7C54-2F74-4F4F-887C-394F2B05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A8EF0-2B83-4A0D-AC7D-271ABD67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AD853-140C-4B04-954F-3AA5073D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A63A8-EFED-4B47-BD6D-A80FE36F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B8E1-F563-4F5F-BF97-2C547F85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21E68-C0B5-4E3F-BBA0-8F7FC992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DA1A1-E562-40F0-A5F2-BDB0621C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05433-EA89-4CBC-8B72-0F869995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6F11A-D824-4D6F-885E-13EF43FE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9485E-58A5-4EFE-92BA-CC342C39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6BC5C-CC81-4E22-98ED-E4188734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5869D-5837-4E86-A2CE-C99FC9BB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8CBA4-7B4A-4204-8AB1-EFAD06A9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023A3-27D4-4E5C-8D07-898F49A4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C55C6-2012-42FD-82CB-40BBD950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AFBE-3669-4D77-BB96-DA476276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A153E-5C74-4FFF-99B8-165094C1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54D20-07A4-4278-AD94-32B5D2A4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6E5F7-8935-4D3A-9D35-3CAB645D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1A5AB-828B-43A4-B111-A5770426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81FAA-F698-45FA-B1B8-F49C8B00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68EE-312F-4D67-934B-F07E2D8F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D2DF-1492-4AA1-B539-CA82F1E5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5C0C-4C06-4D18-92CB-1B0274AD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205E-32E7-407F-855A-5A0C1018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6F22-FEE9-4061-91A4-BB969795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B99-3C4A-405F-98EE-64378EEC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4DF2-78E2-47DD-88D1-3443268B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A653-1F70-438D-95E8-290E6DA0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8496-4F9D-497D-9C4F-B75EC1B4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C9EB-A058-46DA-B4FD-8B48CCEF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7F32-3FD5-467E-90F1-439BF39B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E2E6D-A436-418A-A274-10BD1AD0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D222-D027-46ED-970C-68A6D3DD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FD881-F7CB-400F-A80C-B3B5CA52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D3F50-B85E-429B-98F7-53DF1FD8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8A50E-B7A9-49C5-8B4F-138E91D6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113-056E-4A15-9DEB-B59B98FC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BBAD-D9F7-40D2-9F5C-2F66DB49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6BDF8-55BB-47DA-8E48-5844CBBA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15D52-ACDF-47E9-ACE1-ACBB5BEE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461C-985A-45A4-8F6A-5BE63481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36723-276E-461E-95C6-9EEC878E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A740F-8803-4574-BD2E-34ECE5F1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BA809-C31D-4116-903C-CFD2FF32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C63A-A5BD-45CD-81A0-85D89E0A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83633-ABC1-4EE8-BB2F-FBE511F9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03E03-2741-4D6B-8DAE-A2683A1C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D14-82D3-4688-8817-BCA95E50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B13AC-B90F-441B-86AF-65DDA27F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0878B-3783-4A09-82D0-1D7EE740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5F6B0-2112-4CCA-BB18-47614A54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2D112-9469-4C43-91F7-F1DA77C9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40927-4829-4D6A-BA67-88948AE3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BCF50-218F-4084-AD86-1370CC04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ED719-E68B-4FF4-9743-4CE5FF1F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A584-D1FC-4E30-9716-3853EE91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3E765-8758-4EC5-9759-44AFB47B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F76EF-9726-4DC4-8DE2-08AD7CBA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66B-9C52-4737-9E27-0893AF3D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CEFCE-6B8B-4266-B75F-83C0BB9F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90949-F2B9-4EB5-BDE5-FE337B7C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294A2-DC82-4DE4-A0DA-7AACD86F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2D1CC-7FCF-4589-8283-BDE599E9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C46A-060F-4AC9-BD20-A31F93CC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7AA7D-7482-4948-987A-68FEC73D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71F3F-9C0C-4D1D-AA1D-1CED7135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EF317-C7C3-4BC9-951E-0B7298C5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F560A-1F6D-40CF-83AA-23977767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9A75A-E185-4E31-8500-E206575E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870-1305-4E4B-81A1-6E1D4907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74430-02C0-4E6B-9A37-6D36ADFE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CA919-D4A9-4C83-94C5-FE39A37C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1A254-8759-4967-BC75-54DFB1E9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470D5-9D1F-4A50-AD3C-119B3E03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6EF72-9B86-4674-9F0C-2E9CC40F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F9B6E-D89E-4DA2-930B-733C9C19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187DF-4857-4CC2-BD1E-3981B82B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B92F1-83D7-4163-986A-82E8AA86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0B27F-045C-400B-BE5C-2B6BD683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FB8A2-FF8A-42CF-BE4C-7876826C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B3A-0084-41E1-985B-315D2512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17D84-8142-4A65-8935-77338B9E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65DCF-5EE1-4611-8FDD-F693F22E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39C71-2A89-4B8C-A8AE-E49F6D82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7CDE3-D8CA-4F29-AEC8-CD44667E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5DF2B-BA76-42D5-BF08-C0EDB1C2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5CA60-BCE3-4F43-B281-C29D5E5E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38409-EF4F-445B-89EB-F836817E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5F89C-4C5D-4D32-ADC2-50B6CFD5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D1CDD-B498-46FD-A17C-1176CAA5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50687-7A17-4F12-A994-76B8AB78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805-C04E-4618-A3E2-F18925E2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062EE-D596-48F3-9847-53F2BFA9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82FBC-C25E-406B-8E24-DDE3791F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56AEA-153F-445C-BB2F-061C5609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521F4-A080-4A66-9DB6-F93B7C24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756B9-CC29-4A29-AFF5-236D42EB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59E06-51E1-4FCD-88C2-C9101A9F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EFE63-2DE7-475D-8B49-451F9044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8CB6C-CB74-4077-A728-E8449B8C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3495D-A8F0-4310-ACA6-6BB91553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BAEDD-AA34-453B-B19B-2226B9F8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98C-2E59-4391-B225-65AC3ED0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DE289-1AA8-4DDA-AFE0-5060201C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05BC6-D043-437A-AE36-BBFBD1A5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FD377-613A-477D-9DF1-B3E11B68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6D7F2-F5E7-4C3D-8237-6F69BB1D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F9648-EB52-4F92-AE54-AFF50E27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C8E17-4087-481C-891F-2723A67C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A122A-B557-4D83-ABAA-2FFEA6AD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A98AF-47DF-4C2A-9B96-EFDC9A44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4FCFE-32D9-400B-BDDE-D9037646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09959-0F3C-4B3A-B2B1-8C5FD993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3007-7AEB-45E8-A095-EE59C54B7D4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39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0BAA-F5D8-4F21-A955-04A16715131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4189-9BA5-4AE9-A7CD-32EDB921CBE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D21E-94FF-4E60-8FB9-D9D12C1F6EE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32D4-3F91-4593-9A02-67074AE6DDE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20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22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D4CE-C5EF-4B9C-997C-A5E48A09D05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FF10-C61E-457F-8672-56C40671D1F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4208-5DC3-4CBB-9948-A3D171E0788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B812-0B5C-44E0-9B39-8DC0AB109BC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221B-AE1C-4563-B610-DC103B9114B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56F7-F670-454F-9519-891A0744B73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AC42-566D-414A-A45E-A94246E0046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9680" y="571680"/>
            <a:ext cx="8358120" cy="40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a911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Hoofdstuk 7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Managementsysteem en certificatie:</a:t>
            </a:r>
            <a:br>
              <a:rPr sz="4400"/>
            </a:b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2aa911"/>
                </a:solidFill>
                <a:latin typeface="Arial"/>
                <a:ea typeface="Tahoma"/>
              </a:rPr>
              <a:t>het fundament van V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EFD0-B930-4B66-A8FE-F0B581A0DB3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8394-063E-4374-8575-4CACF708652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6" name="Groep 8"/>
          <p:cNvGrpSpPr/>
          <p:nvPr/>
        </p:nvGrpSpPr>
        <p:grpSpPr>
          <a:xfrm>
            <a:off x="1285920" y="1071360"/>
            <a:ext cx="2954160" cy="4818240"/>
            <a:chOff x="1285920" y="1071360"/>
            <a:chExt cx="2954160" cy="4818240"/>
          </a:xfrm>
        </p:grpSpPr>
        <p:sp>
          <p:nvSpPr>
            <p:cNvPr id="617" name="Parallellogram 6"/>
            <p:cNvSpPr/>
            <p:nvPr/>
          </p:nvSpPr>
          <p:spPr>
            <a:xfrm flipH="1" rot="5400000">
              <a:off x="1636200" y="997560"/>
              <a:ext cx="2122200" cy="2269080"/>
            </a:xfrm>
            <a:prstGeom prst="parallelogram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8" name="Rechthoek 5" descr=""/>
            <p:cNvPicPr/>
            <p:nvPr/>
          </p:nvPicPr>
          <p:blipFill>
            <a:blip r:embed="rId2"/>
            <a:stretch/>
          </p:blipFill>
          <p:spPr>
            <a:xfrm>
              <a:off x="1285920" y="1611360"/>
              <a:ext cx="2954160" cy="427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Tekstvak 7"/>
          <p:cNvSpPr/>
          <p:nvPr/>
        </p:nvSpPr>
        <p:spPr>
          <a:xfrm>
            <a:off x="5143680" y="1428840"/>
            <a:ext cx="3000240" cy="3812040"/>
          </a:xfrm>
          <a:prstGeom prst="rect">
            <a:avLst/>
          </a:prstGeom>
          <a:noFill/>
          <a:ln w="2844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stel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e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akverde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8CB1-9F76-428F-999B-4C5A4AC51DF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kstvak 5"/>
          <p:cNvSpPr/>
          <p:nvPr/>
        </p:nvSpPr>
        <p:spPr>
          <a:xfrm>
            <a:off x="571680" y="1285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oel actiepla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rgen dat vastgestelde risico’s bi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IE en 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worden beheerst door doeltreffende 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kstvak 6"/>
          <p:cNvSpPr/>
          <p:nvPr/>
        </p:nvSpPr>
        <p:spPr>
          <a:xfrm>
            <a:off x="571680" y="335772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V&amp;G-actieplan beva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tregelen/ac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uitvoering (mensen, middelen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lanning en eindtij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antwoordelij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aluatie (ook t.a.v. doe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70EF-BB1C-461E-A00B-889F3869C9B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7.5 Taakrisicoanalyse (TRA)</a:t>
            </a:r>
            <a:br>
              <a:rPr sz="2800"/>
            </a:b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en Laatste Minuut RisicoAnalyse (LMRA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6" name="Tekstvak 5"/>
          <p:cNvSpPr/>
          <p:nvPr/>
        </p:nvSpPr>
        <p:spPr>
          <a:xfrm>
            <a:off x="571680" y="182880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dat je goede maatregelen kunt treffen,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oet je eerst de risico’s analys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eker als er geen goede veiligheidsprocedures zij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FD19-C45D-429A-BBF1-5ED9ED5B434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kstvak 4"/>
          <p:cNvSpPr/>
          <p:nvPr/>
        </p:nvSpPr>
        <p:spPr>
          <a:xfrm>
            <a:off x="571680" y="417600"/>
            <a:ext cx="857232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T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 nieuwe machines, projecten of voorafgaand aan werkvergunning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ok bij nieuwbouw, verbouw of inzetten van stagiairs, uitzendkrachten en jong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A-karwei opsplitsen in taken en die weer in taakstapp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er taakstap de risico’s en de noodzakelijke (extra) beheersmaatregelen vast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 nodig maatregelen aanpassen/nieuwe TRA uitvoeren al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ndities zijn veranderd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et werkplan niet meer uitvoerbaar is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installatie niet meer drukvrij of spanningsvrij is  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 juiste middelen of gereedschappen niet beschikbaar zij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96BD-FE2B-4A84-9C17-6F559CF1989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0" y="5929200"/>
            <a:ext cx="714240" cy="495360"/>
          </a:xfrm>
          <a:prstGeom prst="rect">
            <a:avLst/>
          </a:prstGeom>
          <a:ln w="0">
            <a:noFill/>
          </a:ln>
        </p:spPr>
      </p:pic>
      <p:sp>
        <p:nvSpPr>
          <p:cNvPr id="631" name="Tekstvak 4"/>
          <p:cNvSpPr/>
          <p:nvPr/>
        </p:nvSpPr>
        <p:spPr>
          <a:xfrm>
            <a:off x="571680" y="511200"/>
            <a:ext cx="85723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uit te voeren risicocheck door de uitvoerende direct voor aanvang van zijn werkzaamheden bij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nieuwe taa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erandering van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en ook bij routinematige werkzaamhed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oel is dat werk zo nodig wordt gestopt en eerst de beheersmaatregelen worden getroff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middelen die worden gebruik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aandachtspuntenkaa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werkcheckc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stop-check-go card …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LMR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CCB2-93B4-4675-B2F0-0D6EE43BAA0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Rechthoek 7"/>
          <p:cNvSpPr/>
          <p:nvPr/>
        </p:nvSpPr>
        <p:spPr>
          <a:xfrm>
            <a:off x="3571920" y="100008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of werkcheckcard gebruiken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7" descr="Scannen0001"/>
          <p:cNvPicPr/>
          <p:nvPr/>
        </p:nvPicPr>
        <p:blipFill>
          <a:blip r:embed="rId2"/>
          <a:srcRect l="3501" t="1212" r="19563" b="15335"/>
          <a:stretch/>
        </p:blipFill>
        <p:spPr>
          <a:xfrm>
            <a:off x="857160" y="107172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Scannen0002"/>
          <p:cNvPicPr/>
          <p:nvPr/>
        </p:nvPicPr>
        <p:blipFill>
          <a:blip r:embed="rId3"/>
          <a:srcRect l="0" t="15349" r="62584" b="6527"/>
          <a:stretch/>
        </p:blipFill>
        <p:spPr>
          <a:xfrm rot="983400">
            <a:off x="6754680" y="2332080"/>
            <a:ext cx="1600200" cy="2463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Scannen0003"/>
          <p:cNvPicPr/>
          <p:nvPr/>
        </p:nvPicPr>
        <p:blipFill>
          <a:blip r:embed="rId4"/>
          <a:srcRect l="0" t="5832" r="0" b="21877"/>
          <a:stretch/>
        </p:blipFill>
        <p:spPr>
          <a:xfrm>
            <a:off x="3286080" y="2500200"/>
            <a:ext cx="2779920" cy="3543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2" descr="Scannen0005"/>
          <p:cNvPicPr/>
          <p:nvPr/>
        </p:nvPicPr>
        <p:blipFill>
          <a:blip r:embed="rId5"/>
          <a:srcRect l="0" t="0" r="4502" b="0"/>
          <a:stretch/>
        </p:blipFill>
        <p:spPr>
          <a:xfrm rot="17194200">
            <a:off x="6323760" y="2753280"/>
            <a:ext cx="250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2D99-1009-41D5-A864-7F68581C0B9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6 Incidenten registre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1" name="Tekstvak 6"/>
          <p:cNvSpPr/>
          <p:nvPr/>
        </p:nvSpPr>
        <p:spPr>
          <a:xfrm>
            <a:off x="609480" y="137160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 registreren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ciden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na-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situa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handel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kstvak 7"/>
          <p:cNvSpPr/>
          <p:nvPr/>
        </p:nvSpPr>
        <p:spPr>
          <a:xfrm>
            <a:off x="571680" y="4000680"/>
            <a:ext cx="70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arom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gevens vastleggen voor de overheid en als basis voor bedrijfsbeleid om ervan te kunnen l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BA02-86B7-40A8-A0EE-A708D637BB1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7 Ongevallenonderzoe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5" name="Tekstvak 7"/>
          <p:cNvSpPr/>
          <p:nvPr/>
        </p:nvSpPr>
        <p:spPr>
          <a:xfrm>
            <a:off x="571680" y="9748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aststellen en wegnemen van de oorzaken van een ongeval voorkomt herha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kstvak 8"/>
          <p:cNvSpPr/>
          <p:nvPr/>
        </p:nvSpPr>
        <p:spPr>
          <a:xfrm>
            <a:off x="2786040" y="2049480"/>
            <a:ext cx="2624040" cy="2598840"/>
          </a:xfrm>
          <a:prstGeom prst="rect">
            <a:avLst/>
          </a:prstGeom>
          <a:solidFill>
            <a:srgbClr val="60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derzoek 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at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s.m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to’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standig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kstvak 10"/>
          <p:cNvSpPr/>
          <p:nvPr/>
        </p:nvSpPr>
        <p:spPr>
          <a:xfrm>
            <a:off x="1357200" y="5072040"/>
            <a:ext cx="23576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alyseren en combine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kstvak 11"/>
          <p:cNvSpPr/>
          <p:nvPr/>
        </p:nvSpPr>
        <p:spPr>
          <a:xfrm>
            <a:off x="785880" y="3714840"/>
            <a:ext cx="1714320" cy="94716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uigen ho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9" name="Rechte verbindingslijn met pijl 13"/>
          <p:cNvCxnSpPr>
            <a:endCxn id="647" idx="0"/>
          </p:cNvCxnSpPr>
          <p:nvPr/>
        </p:nvCxnSpPr>
        <p:spPr>
          <a:xfrm>
            <a:off x="1787400" y="4714920"/>
            <a:ext cx="750240" cy="35784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0" name="Rechte verbindingslijn met pijl 15"/>
          <p:cNvCxnSpPr/>
          <p:nvPr/>
        </p:nvCxnSpPr>
        <p:spPr>
          <a:xfrm flipH="1">
            <a:off x="2714400" y="4714920"/>
            <a:ext cx="1072080" cy="28656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1" name="Rechte verbindingslijn met pijl 18"/>
          <p:cNvCxnSpPr>
            <a:stCxn id="647" idx="3"/>
            <a:endCxn id="652" idx="1"/>
          </p:cNvCxnSpPr>
          <p:nvPr/>
        </p:nvCxnSpPr>
        <p:spPr>
          <a:xfrm flipV="1">
            <a:off x="3714840" y="4990320"/>
            <a:ext cx="1838880" cy="5547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3" name="Tekstvak 21"/>
          <p:cNvSpPr/>
          <p:nvPr/>
        </p:nvSpPr>
        <p:spPr>
          <a:xfrm>
            <a:off x="609480" y="2362320"/>
            <a:ext cx="20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onderzoek-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pla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kstvak 22"/>
          <p:cNvSpPr/>
          <p:nvPr/>
        </p:nvSpPr>
        <p:spPr>
          <a:xfrm>
            <a:off x="5572080" y="4071960"/>
            <a:ext cx="3038400" cy="1800360"/>
          </a:xfrm>
          <a:prstGeom prst="rect">
            <a:avLst/>
          </a:prstGeom>
          <a:solidFill>
            <a:srgbClr val="c4c4c4"/>
          </a:solidFill>
          <a:ln w="38160">
            <a:solidFill>
              <a:srgbClr val="000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it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bevel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64DF-A083-4ED7-8189-DEA0182ADBF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6" name="Tekstvak 4"/>
          <p:cNvSpPr/>
          <p:nvPr/>
        </p:nvSpPr>
        <p:spPr>
          <a:xfrm>
            <a:off x="642960" y="164304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rocedures bekend stel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rganiseren van de noodhul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4A5A-6560-4FD3-8A24-256328A7D5C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2)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59" name="Groep 5" descr=""/>
          <p:cNvPicPr/>
          <p:nvPr/>
        </p:nvPicPr>
        <p:blipFill>
          <a:blip r:embed="rId2"/>
          <a:stretch/>
        </p:blipFill>
        <p:spPr>
          <a:xfrm>
            <a:off x="963720" y="1352520"/>
            <a:ext cx="3705120" cy="4037040"/>
          </a:xfrm>
          <a:prstGeom prst="rect">
            <a:avLst/>
          </a:prstGeom>
          <a:ln w="0">
            <a:noFill/>
          </a:ln>
        </p:spPr>
      </p:pic>
      <p:sp>
        <p:nvSpPr>
          <p:cNvPr id="660" name="Tekstvak 8"/>
          <p:cNvSpPr/>
          <p:nvPr/>
        </p:nvSpPr>
        <p:spPr>
          <a:xfrm>
            <a:off x="5018040" y="223344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ijving van maatregelen en voorzieningen om in noodsituaties effectief te kunnen optre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kstvak 9"/>
          <p:cNvSpPr/>
          <p:nvPr/>
        </p:nvSpPr>
        <p:spPr>
          <a:xfrm>
            <a:off x="4929120" y="4929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t noodplan staan ook de noodproced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 Managementsysteem en certifica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99680" y="135684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n van veiligheid met een syste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A, wat is het, hoe werkt h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systeem: risicobeheersing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ids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&amp;G-actie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en VCA checklist: TRA en LM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incidenten registr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ongevallenonderzo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oorbereiding 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8B20-5A92-4688-867C-B8DDD5A46F2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6FB3-4829-4CF0-B03E-8DC9622911A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00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4" name="Tekstvak 4"/>
          <p:cNvSpPr/>
          <p:nvPr/>
        </p:nvSpPr>
        <p:spPr>
          <a:xfrm>
            <a:off x="928800" y="1285920"/>
            <a:ext cx="5214960" cy="70344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noodprocedur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kstvak 5"/>
          <p:cNvSpPr/>
          <p:nvPr/>
        </p:nvSpPr>
        <p:spPr>
          <a:xfrm>
            <a:off x="609480" y="2895480"/>
            <a:ext cx="24768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mel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ngeval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noodsitua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alarmeren van hulpdiens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kstvak 6"/>
          <p:cNvSpPr/>
          <p:nvPr/>
        </p:nvSpPr>
        <p:spPr>
          <a:xfrm>
            <a:off x="3195720" y="2895480"/>
            <a:ext cx="28764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ulpverlen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EHB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orzaak /dreiging wegnem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kstvak 7"/>
          <p:cNvSpPr/>
          <p:nvPr/>
        </p:nvSpPr>
        <p:spPr>
          <a:xfrm>
            <a:off x="6215040" y="2895480"/>
            <a:ext cx="2548080" cy="314100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plattegron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waarschuw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verzamel-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 plaats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efeningen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(min.1x per jaar, met derden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hte verbindingslijn 9"/>
          <p:cNvSpPr/>
          <p:nvPr/>
        </p:nvSpPr>
        <p:spPr>
          <a:xfrm flipV="1">
            <a:off x="1828800" y="1981080"/>
            <a:ext cx="1108080" cy="85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hte verbindingslijn 12"/>
          <p:cNvSpPr/>
          <p:nvPr/>
        </p:nvSpPr>
        <p:spPr>
          <a:xfrm>
            <a:off x="3536280" y="1996920"/>
            <a:ext cx="19080" cy="136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hte verbindingslijn 14"/>
          <p:cNvSpPr/>
          <p:nvPr/>
        </p:nvSpPr>
        <p:spPr>
          <a:xfrm>
            <a:off x="5429160" y="1928880"/>
            <a:ext cx="1608120" cy="95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kstvak 16"/>
          <p:cNvSpPr/>
          <p:nvPr/>
        </p:nvSpPr>
        <p:spPr>
          <a:xfrm>
            <a:off x="3286080" y="2286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itreiken 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F7AE-E396-4E98-953A-BBD87A494C0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Tekstvak 5"/>
          <p:cNvSpPr/>
          <p:nvPr/>
        </p:nvSpPr>
        <p:spPr>
          <a:xfrm>
            <a:off x="609480" y="928800"/>
            <a:ext cx="82486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in het noodplan staat ook verdere info m.b.t. de noodorganisati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ikbare hulpbro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voorzieningen en menskracht in ei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e en exter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V (bedrijfshulpverlen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 verplichte organis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EHBO, bestrijden beginnende brand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en oefenen van optreden volgens het draaib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eel voorberei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 personeel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6" name="Afbeelding 7" descr="back_bhv.jpg"/>
          <p:cNvPicPr/>
          <p:nvPr/>
        </p:nvPicPr>
        <p:blipFill>
          <a:blip r:embed="rId2"/>
          <a:srcRect l="25877" t="10844" r="6838" b="34966"/>
          <a:stretch/>
        </p:blipFill>
        <p:spPr>
          <a:xfrm>
            <a:off x="7072200" y="78588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2FB7-6B48-4657-B04B-58E27F87629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kstvak 3"/>
          <p:cNvSpPr/>
          <p:nvPr/>
        </p:nvSpPr>
        <p:spPr>
          <a:xfrm>
            <a:off x="571680" y="1373040"/>
            <a:ext cx="82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s je zaken regelt, wil je graag dat wat je georganiseerd hebt, in stand blijft en dat je niet de volgende dag opnieuw met hetzelfde moet begi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an kom je niet vooruit!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en managementsysteem is een hulpmiddel om wel vooruit te kom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steeds voldoen aan wettelijke eisen, bijvoorbeeld Arbow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ook afspraken nakomen die zijn gemaakt, zoals certificeringen, c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een sleutelrol, maar dan moet er wel sprake zijn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duidelijk bele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it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voorwaarden als tijd, geld e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74F2-0C99-4CAF-9081-E69C41D2D26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00040" y="1077480"/>
            <a:ext cx="850104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M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cklist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nne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lijst met beheersingseisen  om risico’s te voorkomen als aannemers werk uitvoeren in situaties met verhoogd risico, zoals in de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certificaat is een keurmerk dat aantoont dat het bedrijf de VCA-regels toep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hecklist VCA 2008/05 kent 3 niveaus van certificer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1324-84B7-43C1-9DA6-1CFE24693B5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71320" y="1077480"/>
            <a:ext cx="84294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asis van de beheersing is voldoende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CA vereis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kopleid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opleiding VCA basisveiligheid voor uitvoere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VOL voor operationeel leidinggeve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 voor hoogrisicotaken volgens de SSVV opleidingengi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leidingen en medische gegevens kunnen worden aangetoond met een veiligheidspaspoort 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nal safety logboek (PS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79B4-C1AB-4643-86E8-D26E2BAA434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-7668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61760" y="1066320"/>
            <a:ext cx="7799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 van beleid is te zorgen voor planning van de preventie-uit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aat om een goede voorbereiding en leren van je ervarin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wordt weergegeven met de Deming-cirk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4653-230E-47B9-B7D4-461DD9557CF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ebogen pijl 4"/>
          <p:cNvGrpSpPr/>
          <p:nvPr/>
        </p:nvGrpSpPr>
        <p:grpSpPr>
          <a:xfrm>
            <a:off x="2651040" y="3749760"/>
            <a:ext cx="1049400" cy="895320"/>
            <a:chOff x="2651040" y="3749760"/>
            <a:chExt cx="1049400" cy="895320"/>
          </a:xfrm>
        </p:grpSpPr>
        <p:pic>
          <p:nvPicPr>
            <p:cNvPr id="586" name="Gebogen pijl 4" descr=""/>
            <p:cNvPicPr/>
            <p:nvPr/>
          </p:nvPicPr>
          <p:blipFill>
            <a:blip r:embed="rId2"/>
            <a:stretch/>
          </p:blipFill>
          <p:spPr>
            <a:xfrm>
              <a:off x="2651040" y="3749760"/>
              <a:ext cx="10494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14760" y="378612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ebogen pijl 5"/>
          <p:cNvGrpSpPr/>
          <p:nvPr/>
        </p:nvGrpSpPr>
        <p:grpSpPr>
          <a:xfrm>
            <a:off x="2541600" y="5273640"/>
            <a:ext cx="903240" cy="1041480"/>
            <a:chOff x="2541600" y="5273640"/>
            <a:chExt cx="903240" cy="1041480"/>
          </a:xfrm>
        </p:grpSpPr>
        <p:pic>
          <p:nvPicPr>
            <p:cNvPr id="589" name="Gebogen pijl 5" descr=""/>
            <p:cNvPicPr/>
            <p:nvPr/>
          </p:nvPicPr>
          <p:blipFill>
            <a:blip r:embed="rId3"/>
            <a:stretch/>
          </p:blipFill>
          <p:spPr>
            <a:xfrm>
              <a:off x="2541600" y="5273640"/>
              <a:ext cx="9032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16200000">
              <a:off x="2530440" y="5383440"/>
              <a:ext cx="9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Gebogen pijl 6"/>
          <p:cNvGrpSpPr/>
          <p:nvPr/>
        </p:nvGrpSpPr>
        <p:grpSpPr>
          <a:xfrm>
            <a:off x="4584600" y="5394240"/>
            <a:ext cx="1041480" cy="897120"/>
            <a:chOff x="4584600" y="5394240"/>
            <a:chExt cx="1041480" cy="897120"/>
          </a:xfrm>
        </p:grpSpPr>
        <p:pic>
          <p:nvPicPr>
            <p:cNvPr id="592" name="Gebogen pijl 6" descr=""/>
            <p:cNvPicPr/>
            <p:nvPr/>
          </p:nvPicPr>
          <p:blipFill>
            <a:blip r:embed="rId4"/>
            <a:stretch/>
          </p:blipFill>
          <p:spPr>
            <a:xfrm>
              <a:off x="4584600" y="5394240"/>
              <a:ext cx="10414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 rot="10800000">
              <a:off x="4643280" y="5428800"/>
              <a:ext cx="928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ebogen pijl 7"/>
          <p:cNvGrpSpPr/>
          <p:nvPr/>
        </p:nvGrpSpPr>
        <p:grpSpPr>
          <a:xfrm>
            <a:off x="4724280" y="3822840"/>
            <a:ext cx="901800" cy="1035000"/>
            <a:chOff x="4724280" y="3822840"/>
            <a:chExt cx="901800" cy="1035000"/>
          </a:xfrm>
        </p:grpSpPr>
        <p:pic>
          <p:nvPicPr>
            <p:cNvPr id="595" name="Gebogen pijl 7" descr=""/>
            <p:cNvPicPr/>
            <p:nvPr/>
          </p:nvPicPr>
          <p:blipFill>
            <a:blip r:embed="rId5"/>
            <a:stretch/>
          </p:blipFill>
          <p:spPr>
            <a:xfrm>
              <a:off x="4724280" y="3822840"/>
              <a:ext cx="9018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 rot="5400000">
              <a:off x="4714560" y="392904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Tekstvak 9"/>
          <p:cNvGrpSpPr/>
          <p:nvPr/>
        </p:nvGrpSpPr>
        <p:grpSpPr>
          <a:xfrm>
            <a:off x="3584520" y="3621240"/>
            <a:ext cx="1182600" cy="688680"/>
            <a:chOff x="3584520" y="3621240"/>
            <a:chExt cx="1182600" cy="688680"/>
          </a:xfrm>
        </p:grpSpPr>
        <p:pic>
          <p:nvPicPr>
            <p:cNvPr id="598" name="Tekstvak 9" descr=""/>
            <p:cNvPicPr/>
            <p:nvPr/>
          </p:nvPicPr>
          <p:blipFill>
            <a:blip r:embed="rId6"/>
            <a:stretch/>
          </p:blipFill>
          <p:spPr>
            <a:xfrm>
              <a:off x="3584520" y="3621240"/>
              <a:ext cx="11826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3643200" y="371484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Tekstvak 10"/>
          <p:cNvGrpSpPr/>
          <p:nvPr/>
        </p:nvGrpSpPr>
        <p:grpSpPr>
          <a:xfrm>
            <a:off x="4511520" y="4694400"/>
            <a:ext cx="1670040" cy="688680"/>
            <a:chOff x="4511520" y="4694400"/>
            <a:chExt cx="1670040" cy="688680"/>
          </a:xfrm>
        </p:grpSpPr>
        <p:pic>
          <p:nvPicPr>
            <p:cNvPr id="601" name="Tekstvak 10" descr=""/>
            <p:cNvPicPr/>
            <p:nvPr/>
          </p:nvPicPr>
          <p:blipFill>
            <a:blip r:embed="rId7"/>
            <a:stretch/>
          </p:blipFill>
          <p:spPr>
            <a:xfrm>
              <a:off x="4511520" y="4694400"/>
              <a:ext cx="16700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572000" y="478620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eck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Tekstvak 11"/>
          <p:cNvGrpSpPr/>
          <p:nvPr/>
        </p:nvGrpSpPr>
        <p:grpSpPr>
          <a:xfrm>
            <a:off x="1798560" y="4621320"/>
            <a:ext cx="1670040" cy="689040"/>
            <a:chOff x="1798560" y="4621320"/>
            <a:chExt cx="1670040" cy="689040"/>
          </a:xfrm>
        </p:grpSpPr>
        <p:pic>
          <p:nvPicPr>
            <p:cNvPr id="604" name="Tekstvak 11" descr=""/>
            <p:cNvPicPr/>
            <p:nvPr/>
          </p:nvPicPr>
          <p:blipFill>
            <a:blip r:embed="rId8"/>
            <a:stretch/>
          </p:blipFill>
          <p:spPr>
            <a:xfrm>
              <a:off x="1798560" y="4621320"/>
              <a:ext cx="1670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857240" y="471492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6" name="Tekstvak 13"/>
          <p:cNvGrpSpPr/>
          <p:nvPr/>
        </p:nvGrpSpPr>
        <p:grpSpPr>
          <a:xfrm>
            <a:off x="3438360" y="5767560"/>
            <a:ext cx="1189080" cy="688680"/>
            <a:chOff x="3438360" y="5767560"/>
            <a:chExt cx="1189080" cy="688680"/>
          </a:xfrm>
        </p:grpSpPr>
        <p:pic>
          <p:nvPicPr>
            <p:cNvPr id="607" name="Tekstvak 13" descr=""/>
            <p:cNvPicPr/>
            <p:nvPr/>
          </p:nvPicPr>
          <p:blipFill>
            <a:blip r:embed="rId9"/>
            <a:stretch/>
          </p:blipFill>
          <p:spPr>
            <a:xfrm>
              <a:off x="3438360" y="5767560"/>
              <a:ext cx="11890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3500280" y="585792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act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71680" y="990360"/>
            <a:ext cx="857232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systematische beheersing wordt veelal bedrijfsbreed aangepak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managementsysteem bevat de beschrijving van de uitgangspunten, regels, procedures en documenten die worden ingezet om de doelstellingen van het bedrijf te real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kwijls is er een KAM-systeem (Kwaliteit Arbo Milieu)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wettelijk verplichte RIE is daarin opgenomen: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VCA eis 2.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ze bestaat ui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iceren van de gevare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ntaris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59BD-74F5-4788-A75C-5745BD9D76D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80A3-CCC2-4ADF-B16F-02B9079BD82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kstvak 4"/>
          <p:cNvSpPr/>
          <p:nvPr/>
        </p:nvSpPr>
        <p:spPr>
          <a:xfrm>
            <a:off x="1357200" y="1246320"/>
            <a:ext cx="6643800" cy="329328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nkele van de 47 VCA checklist-eisen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&amp;G-actie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T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M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incidentregistrati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ngevallenonderzoe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oorbereiding op noodsitua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9:30Z</dcterms:modified>
  <cp:revision>244</cp:revision>
  <dc:subject/>
  <dc:title>Taak en positie VFP</dc:title>
</cp:coreProperties>
</file>