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3.wmf" ContentType="image/x-wmf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2C3F-3112-417F-9D83-66F1EBBD9CF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ijdelijke aanduiding voor voettekst 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AutoCAD Basis Training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ijdelijke aanduiding voor dianumm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8566-D5D4-44E8-8A05-B44C308DFEAA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ijdelijke aanduiding voor voettekst 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AutoCAD Basis Training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ijdelijke aanduiding voor dianumm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F53F-7CA0-4014-B037-DF8CF30D1F54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ijdelijke aanduiding voor voettekst 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AutoCAD Basis Training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ijdelijke aanduiding voor dianumm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422D-4745-4F2B-B699-ED07C549EC3D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5E9D-E3B1-491F-B94C-1F28D3F5A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0B39-2633-4C2D-BF8F-E1214811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4C98-5978-4D83-BDA5-5F9A1BDB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CD07-87E4-4FC9-A311-A62509216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1DF7-3BA1-4BCD-9F5D-D678ABFC9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F7A6-BAD8-421B-AE9A-EB834E8E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7E8F-019C-4EC5-9D74-54DA2890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8446-BA59-4B73-9A96-57008E0F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D45B-258C-4FB1-87EF-CF06DA9B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ADB8-E9F0-40D4-9825-E9F66655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924F-8AF4-4D8A-9C49-6E62160B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8B45-1922-49A7-B0E2-155C4DBE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8E77-C579-4133-804F-1D7BE18A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AA58-08A7-4EBE-B6F0-A2BE9159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640C-5557-4AF6-B659-20E38BB9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3A85-E28E-4F7F-BD67-C987EEB6E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A7CE-F5CF-41D5-A5C2-2A0B3E6FF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A9F34-1F3C-4B07-A7D3-33E176DA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F30EE-C348-44D5-A853-F4AFFFC2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65604-5F25-4F89-A5D3-517D32E8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925F1-84FF-49C5-8909-D94A0D37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65E0F-AEFE-40E6-9738-F34651CB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8D5E-394D-4E11-A4F9-ED93CEC2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BCC6B-6A63-4752-8046-4E35E019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C5FB3-EBA7-4D33-BB42-11B80F74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7825C-4BD8-4831-927D-4B2EA37C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69F64-E2C3-410B-A09E-05A8542A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BA40C-8DA4-4E79-8C4C-CE269C07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6620D-C7C1-442E-9332-B04369090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90AF9-D5A5-4773-BD43-5D1FD7816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F572-0DD5-46E2-8FA1-87FDF817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102A-07C4-4783-8840-629963D6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D7AA-3BA5-4CF3-B6A5-6903479C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7043-E62F-44B2-8C5E-637FE08B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FD44-F528-4426-90EF-E331C1E2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19DF-12C3-46D8-8857-95C09B5D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DE4C-7FCE-43D4-8CFC-114F9BE30759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BC98-F140-4350-B91C-BAE9729A3325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EC7C-DFD5-4A37-BAED-980D207CA980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00040" y="500040"/>
            <a:ext cx="8429760" cy="36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a407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a407"/>
                </a:solidFill>
                <a:latin typeface="Arial"/>
              </a:rPr>
              <a:t>Hoofdstuk 8 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a407"/>
                </a:solidFill>
                <a:latin typeface="Arial"/>
              </a:rPr>
              <a:t>VGM-beheersing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a407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fa407"/>
                </a:solidFill>
                <a:latin typeface="Arial"/>
              </a:rPr>
              <a:t>vormgeven aan veilig werken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9117-0F54-40BC-A20F-06D6D86060A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Object 5"/>
          <p:cNvGraphicFramePr/>
          <p:nvPr/>
        </p:nvGraphicFramePr>
        <p:xfrm>
          <a:off x="3357720" y="4286160"/>
          <a:ext cx="2493720" cy="171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7720" y="4286160"/>
                    <a:ext cx="249372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4 Algemene en specifieke veiligheidsregel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71680" y="1499760"/>
            <a:ext cx="75722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lgemen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den voor iedereen op het bedrijf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 medewerker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itzendkracht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ersoneel van) aannemers en onderaan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an op papi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rijgt ieder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eten duidelijk zijn, eenduidi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grijpelijk voor anderstali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B543-797A-4E0B-B65F-94D9567ADD8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571320" y="1599840"/>
            <a:ext cx="80658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werpen algemen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- en afmel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keersregels op het terrei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e te handelen bij calamitei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eiden van afv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lden van ongevallen, brand en inciden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BB72-56F7-4B40-8628-B76FD311720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4 Algemene en specifieke veiligheidsregels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680" y="1000080"/>
            <a:ext cx="81295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pecifieke veiligheidsregels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71680" y="1857240"/>
            <a:ext cx="7643520" cy="45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n, functies en werk met verhoogd risi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reden van besloten ruim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rm/he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in explosiegevaarlijke 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van de vereiste PB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af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van specifieke gereedschappen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aratuur en werktui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37B5-E12E-4DBD-9348-F29387BB268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itel 1"/>
          <p:cNvSpPr/>
          <p:nvPr/>
        </p:nvSpPr>
        <p:spPr>
          <a:xfrm>
            <a:off x="571680" y="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Arial"/>
              </a:rPr>
              <a:t>8.4 Algemene en specifieke veiligheidsregels (3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713880"/>
            <a:ext cx="8318160" cy="100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a407"/>
                </a:solidFill>
                <a:latin typeface="Arial"/>
              </a:rPr>
              <a:t>specifieke veiligheidsregels </a:t>
            </a:r>
            <a:r>
              <a:rPr b="0" lang="en-US" sz="2400" spc="-1" strike="noStrike">
                <a:solidFill>
                  <a:srgbClr val="0fa407"/>
                </a:solidFill>
                <a:latin typeface="Arial"/>
              </a:rPr>
              <a:t>(2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71680" y="1499760"/>
            <a:ext cx="83311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3520" indent="-5335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e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riftelijk vastgelegd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ikbaar zijn voor betreffende/betrokken werknem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egelicht wo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oetst worden of deze regels begrepen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3520" indent="-533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reffen eisen en voorschrif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m veilig te werken met een bepaalde machi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veilige uitvoering van bepaald soor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08EB-FB76-45E2-A26B-A9D80F8651D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kstvak 4"/>
          <p:cNvSpPr/>
          <p:nvPr/>
        </p:nvSpPr>
        <p:spPr>
          <a:xfrm rot="21028800">
            <a:off x="5319360" y="56606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a407"/>
                </a:solidFill>
                <a:latin typeface="Arial Black"/>
              </a:rPr>
              <a:t>overleg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itel 1"/>
          <p:cNvSpPr/>
          <p:nvPr/>
        </p:nvSpPr>
        <p:spPr>
          <a:xfrm>
            <a:off x="571680" y="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Arial"/>
              </a:rPr>
              <a:t>8.4 Algemene en specifieke veiligheidsregels (4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571320" y="1295280"/>
            <a:ext cx="735804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regels kunnen eisen bevatten omt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z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lei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scher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tvoering met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9499-3E21-4733-8261-87FEF0F42BB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kstvak 4"/>
          <p:cNvSpPr/>
          <p:nvPr/>
        </p:nvSpPr>
        <p:spPr>
          <a:xfrm rot="21028800">
            <a:off x="4756320" y="4576320"/>
            <a:ext cx="24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a911"/>
                </a:solidFill>
                <a:latin typeface="Arial Black"/>
              </a:rPr>
              <a:t>overleg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itel 1"/>
          <p:cNvSpPr/>
          <p:nvPr/>
        </p:nvSpPr>
        <p:spPr>
          <a:xfrm>
            <a:off x="571680" y="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Arial"/>
              </a:rPr>
              <a:t>8.4 Algemene en specifieke veiligheidsregels (5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5 Werkvoorbereid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B027-17C6-4111-8A94-4A81EA6BCBB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kstvak 6"/>
          <p:cNvSpPr/>
          <p:nvPr/>
        </p:nvSpPr>
        <p:spPr>
          <a:xfrm>
            <a:off x="571680" y="1143000"/>
            <a:ext cx="8286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een goed begin…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tijdsplanning voor totale wer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goede volgorde om goed en veilig te kunnen werk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enodigde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8276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materia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8276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gereedschappen en machin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detailplanning voor de uitvoering van het werk volgens een veiliger werkwijze (ook als die trager is en extr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oorzieningen eist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320" y="304560"/>
            <a:ext cx="801972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6 Vergunning veilig werk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71320" y="1905120"/>
            <a:ext cx="835812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oorwaarden scheppen o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uit te voeren werkzaamhe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tap voor stap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et maximale veilighei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oor mens en installati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uit te voeren…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0" y="-258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6 Vergunning veilig werk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42960" y="1220400"/>
            <a:ext cx="82152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werkvergu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oel: zeker weten d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wordt overlegd over veilige werkuitvo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meel toestemming wordt gegeven om te werken op het terrein en aan de installa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zonder vergunning niet aan het werk 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3549-480D-4EB8-953F-78F1566945E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0" name="Object 6"/>
          <p:cNvGraphicFramePr/>
          <p:nvPr/>
        </p:nvGraphicFramePr>
        <p:xfrm>
          <a:off x="3429000" y="2743200"/>
          <a:ext cx="1785960" cy="100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2743200"/>
                    <a:ext cx="178596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600048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pecifieke werkvergunning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71680" y="2037960"/>
            <a:ext cx="6929280" cy="27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gen van een veilige werkwijze voor werk met specifieke risico’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spraken op schrif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gelich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tek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odig specifieke opleiding of train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2E0C-6955-48C7-AF92-E1775319B69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kstvak 4"/>
          <p:cNvSpPr/>
          <p:nvPr/>
        </p:nvSpPr>
        <p:spPr>
          <a:xfrm rot="20244600">
            <a:off x="4191480" y="4952520"/>
            <a:ext cx="44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a407"/>
                </a:solidFill>
                <a:latin typeface="Arial Black"/>
              </a:rPr>
              <a:t>persoonlijk overtui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itel 1"/>
          <p:cNvSpPr/>
          <p:nvPr/>
        </p:nvSpPr>
        <p:spPr>
          <a:xfrm>
            <a:off x="571680" y="142920"/>
            <a:ext cx="81295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Arial"/>
              </a:rPr>
              <a:t>8.6 Vergunning veilig werken (3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295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Specifieke werkvergunning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71320" y="1220400"/>
            <a:ext cx="86468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oorbeelden van werk met specifieke vergu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reden van een besloten 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andgevaarlijk werk, ook vuurvergunning of heetwerkvergunning, bijvoorbeeld lassen, slij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ven in vervuilde ondergro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dergrond met leidingen (vloeren, strat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aan of bij gevaarlijke stralingsbron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jswerk bij belangrijke install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iteiten asbesthoudend materia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met giftige en/of kankerverwekkend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F934-38CE-4D83-BB8B-A5D901788B6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0040" y="3312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 Overleggen en regel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71680" y="1220400"/>
            <a:ext cx="821520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1  Hoofdrol voor de leidinggeven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  VGM-kennis een basisvoorwaar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  Overleggen en regel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  Algemene en specifiek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 Werkvoorberei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6  Vergunning veilig 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7  Aandachtspunten bij risicovol werk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8  Noodsitua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F429-00E7-40B2-BE2E-A1073BFF0CE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515520" cy="70880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Specifieke werkvergunning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DE90-5F8E-4FFF-B3F6-CFE5FEA75F2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kstvak 5"/>
          <p:cNvSpPr/>
          <p:nvPr/>
        </p:nvSpPr>
        <p:spPr>
          <a:xfrm rot="18256200">
            <a:off x="-417240" y="2829960"/>
            <a:ext cx="372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aanvraag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werkzaamhed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kstvak 7"/>
          <p:cNvSpPr/>
          <p:nvPr/>
        </p:nvSpPr>
        <p:spPr>
          <a:xfrm rot="18256200">
            <a:off x="3654000" y="275868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maatregelen vergunninghoud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kstvak 8"/>
          <p:cNvSpPr/>
          <p:nvPr/>
        </p:nvSpPr>
        <p:spPr>
          <a:xfrm rot="18256200">
            <a:off x="6011640" y="290160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bekrachtig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Alle partij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kstvak 9"/>
          <p:cNvSpPr/>
          <p:nvPr/>
        </p:nvSpPr>
        <p:spPr>
          <a:xfrm rot="18256200">
            <a:off x="1725480" y="254448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maatregelen verstrekk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kstvak 12"/>
          <p:cNvSpPr/>
          <p:nvPr/>
        </p:nvSpPr>
        <p:spPr>
          <a:xfrm rot="21347400">
            <a:off x="6356520" y="5245200"/>
            <a:ext cx="27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verlenging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Werkvergunningen</a:t>
            </a:r>
            <a:r>
              <a:rPr b="0" lang="en-US" sz="2800" spc="-1" strike="noStrike">
                <a:solidFill>
                  <a:srgbClr val="0fa407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zijn een onderdeel van projectveiligheid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59" name="Picture 1" descr=""/>
          <p:cNvPicPr/>
          <p:nvPr/>
        </p:nvPicPr>
        <p:blipFill>
          <a:blip r:embed="rId2"/>
          <a:stretch/>
        </p:blipFill>
        <p:spPr>
          <a:xfrm>
            <a:off x="1779480" y="1420920"/>
            <a:ext cx="4803840" cy="4583160"/>
          </a:xfrm>
          <a:prstGeom prst="rect">
            <a:avLst/>
          </a:prstGeom>
          <a:ln w="0">
            <a:noFill/>
          </a:ln>
        </p:spPr>
      </p:pic>
      <p:pic>
        <p:nvPicPr>
          <p:cNvPr id="260" name="WordArt 2" descr=""/>
          <p:cNvPicPr/>
          <p:nvPr/>
        </p:nvPicPr>
        <p:blipFill>
          <a:blip r:embed="rId3"/>
          <a:stretch/>
        </p:blipFill>
        <p:spPr>
          <a:xfrm>
            <a:off x="1841400" y="1620720"/>
            <a:ext cx="2621160" cy="1293840"/>
          </a:xfrm>
          <a:prstGeom prst="rect">
            <a:avLst/>
          </a:prstGeom>
          <a:ln w="0">
            <a:noFill/>
          </a:ln>
        </p:spPr>
      </p:pic>
      <p:pic>
        <p:nvPicPr>
          <p:cNvPr id="261" name="WordArt 3" descr=""/>
          <p:cNvPicPr/>
          <p:nvPr/>
        </p:nvPicPr>
        <p:blipFill>
          <a:blip r:embed="rId4"/>
          <a:stretch/>
        </p:blipFill>
        <p:spPr>
          <a:xfrm>
            <a:off x="3962520" y="4638600"/>
            <a:ext cx="2614320" cy="1285920"/>
          </a:xfrm>
          <a:prstGeom prst="rect">
            <a:avLst/>
          </a:prstGeom>
          <a:ln w="0">
            <a:noFill/>
          </a:ln>
        </p:spPr>
      </p:pic>
      <p:pic>
        <p:nvPicPr>
          <p:cNvPr id="262" name="WordArt 4" descr=""/>
          <p:cNvPicPr/>
          <p:nvPr/>
        </p:nvPicPr>
        <p:blipFill>
          <a:blip r:embed="rId5"/>
          <a:stretch/>
        </p:blipFill>
        <p:spPr>
          <a:xfrm>
            <a:off x="4853160" y="1500120"/>
            <a:ext cx="1908000" cy="2737080"/>
          </a:xfrm>
          <a:prstGeom prst="rect">
            <a:avLst/>
          </a:prstGeom>
          <a:ln w="0">
            <a:noFill/>
          </a:ln>
        </p:spPr>
      </p:pic>
      <p:pic>
        <p:nvPicPr>
          <p:cNvPr id="263" name="WordArt 5" descr=""/>
          <p:cNvPicPr/>
          <p:nvPr/>
        </p:nvPicPr>
        <p:blipFill>
          <a:blip r:embed="rId6"/>
          <a:stretch/>
        </p:blipFill>
        <p:spPr>
          <a:xfrm>
            <a:off x="1706400" y="3333600"/>
            <a:ext cx="1970280" cy="27133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7"/>
          <p:cNvSpPr/>
          <p:nvPr/>
        </p:nvSpPr>
        <p:spPr>
          <a:xfrm>
            <a:off x="0" y="-258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Functies van de werkvergunn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71680" y="1357200"/>
            <a:ext cx="70005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oede voorbereiding op veilig 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leggen met iedereen die bij het werk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rokken is en met hen bindende afsprak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tleggen van de voorwaarden waaronde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werkt word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lenen van toestemming voor aanvang van de 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212E-8736-4E60-8382-9D0FFDAAC75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kstvak 4"/>
          <p:cNvSpPr/>
          <p:nvPr/>
        </p:nvSpPr>
        <p:spPr>
          <a:xfrm rot="21347400">
            <a:off x="3115440" y="4472280"/>
            <a:ext cx="512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a407"/>
                </a:solidFill>
                <a:latin typeface="Arial Black"/>
              </a:rPr>
              <a:t>gestructureerde en verplichte communicatie tussen alle partij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29520" cy="107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Invullen van de werkvergunn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37720" y="1294920"/>
            <a:ext cx="66438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ldigheidsduur (meestal 1 da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 welke werkzaamheden het ga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ie gaat wanneer welk werk do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atregelen die de verstrekker van d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unning neem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veiligheids-)maatregelen vaststellen voor operationele medewerk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atregelen om de werkomgeving na d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zaamheden veilig achter te la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krachtiging/onderteke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waarden voor verleng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EB64-1433-4C02-A1BC-04E26D8E89B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5723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Rechten en plichten vergunningverstrekk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71320" y="1002960"/>
            <a:ext cx="815652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85840" indent="-285840">
              <a:spcBef>
                <a:spcPts val="550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e op de vrijstelling van de installati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eker weten dat daar veilig gewerkt kan wo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het aftekenen van de vergun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prek met de vergunninghouder ov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rd van de 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voorwaarden en de 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tekening van de verg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verstrekker zorgt zo nodig dat metingen zijn verr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verschillende werkzaamheden tegelijkertij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t de verstrekker voor coördinatie en afsprak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ssen de betrokken partij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E88A-919F-420B-99E5-7912859DBAF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295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Rechten en plichten vergunninghoud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71320" y="1219320"/>
            <a:ext cx="814212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houder van de werkvergu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tekent de verg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t ervoor dat de vergunning ter plaatse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ft uitleg aan de operationele medewe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et erop toe dat de werkzaamheden volgens de voorwaarden verlo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99B9-43BD-405C-9EDC-A80A3DE40A2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Rechten/plichten operationele medewerker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71320" y="1356840"/>
            <a:ext cx="81579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operationele medewerk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nen de inhoud van de verg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en volgens de voorwaarden van de verg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men de maatregelen die op de vergunning sta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en alleen met een geldige vergun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163a"/>
                </a:solidFill>
                <a:latin typeface="Arial"/>
              </a:rPr>
              <a:t>een werkvergunning heeft alleen zin als de afspraken die worden gemaakt, ook worden nageleef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166D-AAD7-4090-A231-1C527F025E0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2FF7-5852-45B2-8CAC-0D99CCCCC02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Picture 7" descr=""/>
          <p:cNvPicPr/>
          <p:nvPr/>
        </p:nvPicPr>
        <p:blipFill>
          <a:blip r:embed="rId2"/>
          <a:srcRect l="18846" t="30242" r="-414" b="16908"/>
          <a:stretch/>
        </p:blipFill>
        <p:spPr>
          <a:xfrm>
            <a:off x="7358040" y="0"/>
            <a:ext cx="1785960" cy="2500200"/>
          </a:xfrm>
          <a:prstGeom prst="rect">
            <a:avLst/>
          </a:prstGeom>
          <a:ln w="0">
            <a:noFill/>
          </a:ln>
        </p:spPr>
      </p:pic>
      <p:sp>
        <p:nvSpPr>
          <p:cNvPr id="283" name="Tekstvak 5"/>
          <p:cNvSpPr/>
          <p:nvPr/>
        </p:nvSpPr>
        <p:spPr>
          <a:xfrm>
            <a:off x="500040" y="54000"/>
            <a:ext cx="714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Tahoma"/>
              </a:rPr>
              <a:t>8.7 Aandachtspunten bij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Tahoma"/>
              </a:rPr>
              <a:t>risicovolle werkzaamhed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kstvak 9"/>
          <p:cNvSpPr/>
          <p:nvPr/>
        </p:nvSpPr>
        <p:spPr>
          <a:xfrm>
            <a:off x="571680" y="1928880"/>
            <a:ext cx="791496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reiding, toepassen bedrijfsvoorschriften,  werkvergunningen, TRA, LMR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wezig zijn, controleren en zonodig ingrijpen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rigeren als maatregelen niet worden genomen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 stoppen als het werkplan niet wordt gevolg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tzendkrachten in samenwerking met de    uitzendorganisatie, aanvullend informeren en zonodig opleiden en instructies gev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500040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TRA: (taak)risicoanalyse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71680" y="1645920"/>
            <a:ext cx="854064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2960" indent="-37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e van de gevaren voor werknemers bij uitvoering van (risicovolle) taken  met als doel beheersmaatregelen vast te stellen en in te zet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wijz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taakstap nagaan of extra beheersmaatregelen nodig zij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TRA wordt bijgesteld als er afwijkingen optreden t.o.v. het werkpl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bijgestelde TRA wordt dan besproken met  de vertegenwoordiger van de opdrachtge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DC79-1E52-46CC-BC24-8854FA33EB9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kstvak 5"/>
          <p:cNvSpPr/>
          <p:nvPr/>
        </p:nvSpPr>
        <p:spPr>
          <a:xfrm>
            <a:off x="571680" y="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Tahoma"/>
              </a:rPr>
              <a:t>8.7 Aandachtpunten bij risicovolle werkzaamheden (2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0" y="-258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kstvak 8"/>
          <p:cNvSpPr/>
          <p:nvPr/>
        </p:nvSpPr>
        <p:spPr>
          <a:xfrm>
            <a:off x="571680" y="380880"/>
            <a:ext cx="85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Tahoma"/>
              </a:rPr>
              <a:t>Hoofdlijn omgaan met verhoogd risic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ekstvak 9"/>
          <p:cNvSpPr/>
          <p:nvPr/>
        </p:nvSpPr>
        <p:spPr>
          <a:xfrm>
            <a:off x="1900080" y="1571760"/>
            <a:ext cx="307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normal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edrijfsvoer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kstvak 10"/>
          <p:cNvSpPr/>
          <p:nvPr/>
        </p:nvSpPr>
        <p:spPr>
          <a:xfrm>
            <a:off x="6469200" y="1500120"/>
            <a:ext cx="264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projectmatige werkuitvoer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kstvak 11"/>
          <p:cNvSpPr/>
          <p:nvPr/>
        </p:nvSpPr>
        <p:spPr>
          <a:xfrm>
            <a:off x="571680" y="2428920"/>
            <a:ext cx="171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a911"/>
                </a:solidFill>
                <a:latin typeface="Tahoma"/>
                <a:ea typeface="Tahoma"/>
              </a:rPr>
              <a:t>identificatie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kstvak 12"/>
          <p:cNvSpPr/>
          <p:nvPr/>
        </p:nvSpPr>
        <p:spPr>
          <a:xfrm>
            <a:off x="1447920" y="2928960"/>
            <a:ext cx="2233440" cy="459720"/>
          </a:xfrm>
          <a:prstGeom prst="rect">
            <a:avLst/>
          </a:prstGeom>
          <a:noFill/>
          <a:ln w="9360">
            <a:solidFill>
              <a:srgbClr val="c016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bedrijfs-RI&amp;E</a:t>
            </a:r>
            <a:r>
              <a:rPr b="1" lang="nl-NL" sz="1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kstvak 13"/>
          <p:cNvSpPr/>
          <p:nvPr/>
        </p:nvSpPr>
        <p:spPr>
          <a:xfrm>
            <a:off x="6681960" y="3000240"/>
            <a:ext cx="2428560" cy="825480"/>
          </a:xfrm>
          <a:prstGeom prst="rect">
            <a:avLst/>
          </a:prstGeom>
          <a:noFill/>
          <a:ln w="9360">
            <a:solidFill>
              <a:srgbClr val="c016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- functie-RI&amp;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kstvak 14"/>
          <p:cNvSpPr/>
          <p:nvPr/>
        </p:nvSpPr>
        <p:spPr>
          <a:xfrm>
            <a:off x="6681960" y="335772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- project-RI&amp;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Tekstvak 15"/>
          <p:cNvGrpSpPr/>
          <p:nvPr/>
        </p:nvGrpSpPr>
        <p:grpSpPr>
          <a:xfrm>
            <a:off x="981000" y="4022640"/>
            <a:ext cx="3200400" cy="1519200"/>
            <a:chOff x="981000" y="4022640"/>
            <a:chExt cx="3200400" cy="1519200"/>
          </a:xfrm>
        </p:grpSpPr>
        <p:pic>
          <p:nvPicPr>
            <p:cNvPr id="298" name="Tekstvak 15" descr=""/>
            <p:cNvPicPr/>
            <p:nvPr/>
          </p:nvPicPr>
          <p:blipFill>
            <a:blip r:embed="rId2"/>
            <a:stretch/>
          </p:blipFill>
          <p:spPr>
            <a:xfrm>
              <a:off x="981000" y="4022640"/>
              <a:ext cx="3200400" cy="15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1100160" y="4143240"/>
              <a:ext cx="302904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algemene en 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specifieke veiligheidsregels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beheersmaatregelen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werkvergunningen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0" name="Tekstvak 16"/>
          <p:cNvGrpSpPr/>
          <p:nvPr/>
        </p:nvGrpSpPr>
        <p:grpSpPr>
          <a:xfrm>
            <a:off x="6303960" y="4127400"/>
            <a:ext cx="2833560" cy="1511280"/>
            <a:chOff x="6303960" y="4127400"/>
            <a:chExt cx="2833560" cy="1511280"/>
          </a:xfrm>
        </p:grpSpPr>
        <p:pic>
          <p:nvPicPr>
            <p:cNvPr id="301" name="Tekstvak 16" descr=""/>
            <p:cNvPicPr/>
            <p:nvPr/>
          </p:nvPicPr>
          <p:blipFill>
            <a:blip r:embed="rId3"/>
            <a:stretch/>
          </p:blipFill>
          <p:spPr>
            <a:xfrm>
              <a:off x="6303960" y="4127400"/>
              <a:ext cx="283356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6421320" y="4241880"/>
              <a:ext cx="266220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beheersmaatregelen 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werkvergunning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algemene en 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specifieke veiligheidsregels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Tekstvak 17"/>
          <p:cNvSpPr/>
          <p:nvPr/>
        </p:nvSpPr>
        <p:spPr>
          <a:xfrm>
            <a:off x="1066680" y="5638680"/>
            <a:ext cx="17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163a"/>
                </a:solidFill>
                <a:latin typeface="Tahoma"/>
                <a:ea typeface="Tahoma"/>
              </a:rPr>
              <a:t>beheersing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kstvak 18"/>
          <p:cNvSpPr/>
          <p:nvPr/>
        </p:nvSpPr>
        <p:spPr>
          <a:xfrm>
            <a:off x="4419720" y="1357200"/>
            <a:ext cx="1547640" cy="1008720"/>
          </a:xfrm>
          <a:prstGeom prst="rect">
            <a:avLst/>
          </a:prstGeom>
          <a:noFill/>
          <a:ln w="9360">
            <a:solidFill>
              <a:srgbClr val="0fa4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wijkende omstandig-hede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kstvak 19"/>
          <p:cNvSpPr/>
          <p:nvPr/>
        </p:nvSpPr>
        <p:spPr>
          <a:xfrm>
            <a:off x="4876920" y="2971800"/>
            <a:ext cx="1073160" cy="703800"/>
          </a:xfrm>
          <a:prstGeom prst="rect">
            <a:avLst/>
          </a:prstGeom>
          <a:noFill/>
          <a:ln w="9360">
            <a:solidFill>
              <a:srgbClr val="0fa4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MRA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IJL-OMHOOG 20"/>
          <p:cNvSpPr/>
          <p:nvPr/>
        </p:nvSpPr>
        <p:spPr>
          <a:xfrm rot="10800000">
            <a:off x="2611080" y="3571920"/>
            <a:ext cx="498600" cy="3571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IJL-OMHOOG 21"/>
          <p:cNvSpPr/>
          <p:nvPr/>
        </p:nvSpPr>
        <p:spPr>
          <a:xfrm rot="10800000">
            <a:off x="7469280" y="3786120"/>
            <a:ext cx="498240" cy="3571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IJL-OMHOOG 22"/>
          <p:cNvSpPr/>
          <p:nvPr/>
        </p:nvSpPr>
        <p:spPr>
          <a:xfrm rot="13027800">
            <a:off x="4167000" y="3963240"/>
            <a:ext cx="501480" cy="3589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IJL-OMHOOG 23"/>
          <p:cNvSpPr/>
          <p:nvPr/>
        </p:nvSpPr>
        <p:spPr>
          <a:xfrm rot="7795200">
            <a:off x="6014880" y="3965400"/>
            <a:ext cx="501480" cy="3556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07220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1 Hoofdrol voor de leidinggeven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12CD-50D5-4008-9788-8FD86DDF122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kstvak 4"/>
          <p:cNvSpPr/>
          <p:nvPr/>
        </p:nvSpPr>
        <p:spPr>
          <a:xfrm>
            <a:off x="1066680" y="2209680"/>
            <a:ext cx="3714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es aan werkgev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gevallen- en incidentenonderzoe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e arbeidsmidd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e PB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es vragen bij deskundi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GM-kennis/info werknemers checke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kstvak 5"/>
          <p:cNvSpPr/>
          <p:nvPr/>
        </p:nvSpPr>
        <p:spPr>
          <a:xfrm>
            <a:off x="4952880" y="2209680"/>
            <a:ext cx="3714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s laten nalev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uwe medewerk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roductie gev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tor aanwijz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werken aan RI&amp;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RA’s opstel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GM-inspecties uitvo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olboxmeetings verzor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13880" y="1219320"/>
            <a:ext cx="7799400" cy="92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leidinggevende heeft de taak om de VGM-risicobeheersing in de praktijk te realiser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8" descr=""/>
          <p:cNvPicPr/>
          <p:nvPr/>
        </p:nvPicPr>
        <p:blipFill>
          <a:blip r:embed="rId2"/>
          <a:stretch/>
        </p:blipFill>
        <p:spPr>
          <a:xfrm>
            <a:off x="7358040" y="285840"/>
            <a:ext cx="1405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28648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8. Noodsituati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71320" y="1523520"/>
            <a:ext cx="815652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reigende situaties door ongevallen m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sel, brand, vloei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osie van gas, damp of brandbare stof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gecontroleerde ontsnapping van giftig gas, biologische agentia of radioactieve stra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mmel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D7E4-21B1-48E9-A983-5B2B12B420F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721512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Noodsituaties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71680" y="857160"/>
            <a:ext cx="5286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heersing en bestrij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490680" indent="-216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s om noodsituaties te beheer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aibo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490680" indent="-216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effectief optreden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ie moet wat, wanneer, hoe do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fasen noodsitu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rste me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elingen en maatrege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ëindigen van de noodsitu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490680" indent="-216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idelijk dat de situatie veilig i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490680" indent="-216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nemers kunnen weer aan het 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236E-9CD2-409E-9C3E-40FF1C9D55E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Picture 2" descr="http://www.safetybillboards.nl/brandpreventie.JPG"/>
          <p:cNvPicPr/>
          <p:nvPr/>
        </p:nvPicPr>
        <p:blipFill>
          <a:blip r:embed="rId2"/>
          <a:stretch/>
        </p:blipFill>
        <p:spPr>
          <a:xfrm>
            <a:off x="5772240" y="566640"/>
            <a:ext cx="337824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Noodsituaties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71320" y="928800"/>
            <a:ext cx="815652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middellijk het werk onderbre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ructies van de opdrachtgever (BHV) opvol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ar verzamelplaats gaa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liften gebrui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cu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nsen overbrengen naar een veilige pla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dereen moet weten wat te doen bij alarm evacuati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A0D6-983F-4301-9D12-DA3702E2521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0" name="Picture 5" descr=""/>
          <p:cNvPicPr/>
          <p:nvPr/>
        </p:nvPicPr>
        <p:blipFill>
          <a:blip r:embed="rId2"/>
          <a:stretch/>
        </p:blipFill>
        <p:spPr>
          <a:xfrm>
            <a:off x="7358040" y="214200"/>
            <a:ext cx="1609920" cy="1609920"/>
          </a:xfrm>
          <a:prstGeom prst="rect">
            <a:avLst/>
          </a:prstGeom>
          <a:ln w="0">
            <a:noFill/>
          </a:ln>
        </p:spPr>
      </p:pic>
      <p:sp>
        <p:nvSpPr>
          <p:cNvPr id="321" name="Rechthoek 5"/>
          <p:cNvSpPr/>
          <p:nvPr/>
        </p:nvSpPr>
        <p:spPr>
          <a:xfrm>
            <a:off x="571680" y="4214880"/>
            <a:ext cx="72770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46160" indent="-474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wat/waar zijn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160" indent="-474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de evacuatie(verzamel)plaats(en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160" indent="-474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de evacuatiemogelijkheden/vluchtrout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160" indent="-474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de instructies van de opdrachtgever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160" indent="-474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en bij evacuatie direct melden op de verzamelplaats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A25D-249C-4AAD-9CC7-A77A5FD2FA4E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Picture 2" descr="http://www.safetybillboards.nl/vluchtwegen.JPG"/>
          <p:cNvPicPr/>
          <p:nvPr/>
        </p:nvPicPr>
        <p:blipFill>
          <a:blip r:embed="rId1"/>
          <a:stretch/>
        </p:blipFill>
        <p:spPr>
          <a:xfrm>
            <a:off x="2627280" y="353880"/>
            <a:ext cx="394956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42976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2 VGM-kennis een basisvoorwaar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26A4-EDCF-4398-947A-B93E848FE41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71320" y="1000080"/>
            <a:ext cx="8156520" cy="12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ewerkers moeten, ook volgens wetgeving, direct worden voorgelicht over risico’s en veilige werkwijze en op die kennis getoetst word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r de kennis moet ook actueel blijven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kstvak 8"/>
          <p:cNvSpPr/>
          <p:nvPr/>
        </p:nvSpPr>
        <p:spPr>
          <a:xfrm>
            <a:off x="571680" y="2643120"/>
            <a:ext cx="7858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wanneer opleiding en instructie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dat gebeurt bij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tart nieuwe medewerk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verplaats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functiewijzig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zet nieuwe arbeidsmidd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aanpassingen aan arbeidsmiddele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zet nieuwe technolog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voeren nieuwe werkprocedure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2 VGM-kennis een basisvoorwaarde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1EE2-63F8-42F2-9FEF-95895486DC0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71680" y="1143000"/>
            <a:ext cx="83325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drijven hanteren meestal de volgende vormen van opleiding en instructi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ijdelijke aanduiding voor inhoud 6"/>
          <p:cNvSpPr/>
          <p:nvPr/>
        </p:nvSpPr>
        <p:spPr>
          <a:xfrm>
            <a:off x="571680" y="1928880"/>
            <a:ext cx="808668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gemene veiligheidsopleiding/instruc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45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lgemene VGM-regels, brand- en andere noodmeldingen en voorschriften, werkplekregels en verplicht PBM-gebruik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345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ijdelijke aanduiding voor inhoud 6"/>
          <p:cNvSpPr/>
          <p:nvPr/>
        </p:nvSpPr>
        <p:spPr>
          <a:xfrm>
            <a:off x="533520" y="3200400"/>
            <a:ext cx="81579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eke opleiding/instruc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45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erkplekgebonden of aan installaties, arbeidsmiddelen, machines, zones of omstandigheden en aan plaatsen verbonden risico’s en de daarbij behorende regels en voorzienin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2 VGM-kennis een basisvoorwaarde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28A6-C9C9-46EF-8E3B-11355C0BFEF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ijdelijke aanduiding voor inhoud 6"/>
          <p:cNvSpPr/>
          <p:nvPr/>
        </p:nvSpPr>
        <p:spPr>
          <a:xfrm>
            <a:off x="571680" y="928800"/>
            <a:ext cx="828648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GM-bijeenkomsten of toolboxmeetin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m de kennis op peil te houden en de medewerkers te motiveren tot veilig werken, wordt regelmatig een onderwerp  behandeld en met de medewerkers bediscussieer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in de bijeenkomst wordt getoetst of de boodschap begrepen is, er worden duidelijke afspraken gemaakt en een verslag opgestel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Arial"/>
              </a:rPr>
              <a:t>mogelijke onderwerpen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rkmethode, orde en netheid, PBM-gebruik, machines, gevaarlijke stoffen, procedures, incidenten en ongevallen, fysieke belasting, communicatie, inspecties en alle andere onderwerpen over VGM die aandacht verdiene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0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3 Overleggen en regel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160" y="1371240"/>
            <a:ext cx="80391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verleg over VGM-beleid tussen werkgever 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werknemersvertegenwoordi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 wat werkgever en werknemers belangrijk vin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 onderwerpen waarvoor de werkgever instemming of advies van de werknemersvertegenwoordiging (OR of VGM-commissie) nodig heef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 RI&amp;E en het plan van aanp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deskundig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eskundig adv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A1C3-0975-4DF4-8AC6-F7620E3F738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kstvak 6"/>
          <p:cNvSpPr/>
          <p:nvPr/>
        </p:nvSpPr>
        <p:spPr>
          <a:xfrm>
            <a:off x="642960" y="4857840"/>
            <a:ext cx="7562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1" name="Object 5"/>
          <p:cNvGraphicFramePr/>
          <p:nvPr/>
        </p:nvGraphicFramePr>
        <p:xfrm>
          <a:off x="7215120" y="71280"/>
          <a:ext cx="1857600" cy="127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15120" y="71280"/>
                    <a:ext cx="1857600" cy="12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3 Overleggen en regel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56800" y="999720"/>
            <a:ext cx="671508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90C2-3D23-4933-9ACE-DC87C757BFA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kstvak 6"/>
          <p:cNvSpPr/>
          <p:nvPr/>
        </p:nvSpPr>
        <p:spPr>
          <a:xfrm>
            <a:off x="928800" y="1192320"/>
            <a:ext cx="737712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werkoverle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(eventueel  samen met toolboxmeeting)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de werknemers,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ver praktische aspecten van VGM-beheersing,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v. werkmethoden, opleidingen, gevaarlijke stoffen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eventueel met een deskundig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een verslag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ver het gevoerde overleg en de gegeven adviez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Object 5"/>
          <p:cNvGraphicFramePr/>
          <p:nvPr/>
        </p:nvGraphicFramePr>
        <p:xfrm>
          <a:off x="7139160" y="797040"/>
          <a:ext cx="1861920" cy="127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39160" y="797040"/>
                    <a:ext cx="186192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1295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Regelen en regel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71680" y="1294920"/>
            <a:ext cx="821520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regels en -procedures zijn er om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dagelijkse werkuitvoering veilig te laten verlop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eronder vall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fiek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unningen veilig 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akrisicoanalyse TRA 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ste Minuut RisicoAnalyse LMRA 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bij noodsituaties 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0163a"/>
                </a:solidFill>
                <a:latin typeface="Arial"/>
              </a:rPr>
              <a:t>* zie (ook) hoofdstuk 7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F94F-2A03-4329-A8FD-B8E0B6AD3CB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50:52Z</dcterms:modified>
  <cp:revision>201</cp:revision>
  <dc:subject/>
  <dc:title>Taak en positie VFP</dc:title>
</cp:coreProperties>
</file>