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BB37A-479D-4C4A-8693-3DC62FD19FD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s://www.youtube.com/watch?v=t-X-7GFANJM&amp;t=4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C9DFA-A66C-4C50-B143-DF73463FACDA}" type="slidenum">
              <a:rPr b="0" lang="nl-NL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10D-5B5B-4B2D-A156-73D42BEA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7141-B98D-496B-A20D-CD85F3EA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A3A0-7CDC-4E2B-8C7B-4EAB2F40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2B50-7DFC-41FE-AC92-3E5E6007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4F99-F646-40D4-8D96-61439947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849D-A61F-44CC-80E1-C14562AB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0BE1-E138-4097-8CAD-F3036A9B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6647-99CB-4543-919F-21F3D013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2CB0-E72A-4B07-A340-B2077406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16B5-A7CC-4D67-9DD3-DE08DA9B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7437-C94D-4143-B5F3-A07ABE6C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0288-7DC6-4651-B647-6B03D206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7721-6B73-4D88-935A-7911DD0C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0CE4-2189-4C35-AC37-1FA1016D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FA10-6439-4F5F-9572-3990ABBC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33F1-4C88-47D7-AB01-C91576E7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0281-503A-4524-9145-6879BED3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6DAD1-7305-4E4A-81AE-AA92FADB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CF8CE-4FA9-4AA7-9606-12832662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C6480-0752-49A2-AD08-1953DBE1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76325-58B0-4655-ABC2-32A7EEA5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50695-7BDC-45DD-BBD7-8D6DAFE2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87E-644E-4E1B-9BA9-2559DFFC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CA4EA-3C60-4BE1-97C6-592222E2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96710-2F48-4E7B-A5B8-31D92F8F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C6ED6-63FE-46F7-B858-2A62987E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DF182-74E0-476F-A2D0-F7D2B196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24A01-698F-40EB-BB02-BF470B39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D490B-7610-4053-B611-3F6CC742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B10C2-D5A0-40A7-B7AE-A92D8107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36FC3-B57D-48EA-8116-4D4A807A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21C64-1363-4044-98BA-CD0EEA1E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253ED-3683-47EA-8638-C6B2CD08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77F6-BA35-4D88-A819-C4AEC289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22AD5-FAF9-4902-B985-DA45806F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0C566-98CE-4098-BD8A-93950025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50B5C-775B-47CB-BD51-12FA04F7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CB7F0-F6D7-47C6-9E3D-6112AE93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09CE1-636E-48A8-A6EF-CD0CC8C6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48414-4B18-46D0-B283-43F65A82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6C9A7-B048-4C34-BAFA-DDC775C3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F510D-CF04-4F86-88BB-613B9AAD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38555-AD84-4B0E-942D-DA231BC0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941-3CAC-4E6F-97EF-149654E1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1B6-204A-4759-BCF8-CC0E03DE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F9B-8924-4008-933E-BBBDC616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2310-F4AE-40A7-9BD2-F46BEC1E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7544-70C2-4238-A1E2-FE58147C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2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6A3FA-E9C4-4C1C-8136-BB41305BC8DB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Group 65" descr=""/>
          <p:cNvPicPr/>
          <p:nvPr/>
        </p:nvPicPr>
        <p:blipFill>
          <a:blip r:embed="rId4"/>
          <a:stretch/>
        </p:blipFill>
        <p:spPr>
          <a:xfrm>
            <a:off x="0" y="0"/>
            <a:ext cx="2298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800320" y="540972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900080" y="5409720"/>
            <a:ext cx="384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914960" y="5409720"/>
            <a:ext cx="579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BC49B-5924-4EDC-B368-1ABE17290C48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90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Box 51"/>
          <p:cNvSpPr/>
          <p:nvPr/>
        </p:nvSpPr>
        <p:spPr>
          <a:xfrm>
            <a:off x="696960" y="71928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TextBox 52"/>
          <p:cNvSpPr/>
          <p:nvPr/>
        </p:nvSpPr>
        <p:spPr>
          <a:xfrm>
            <a:off x="7816680" y="27655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6B3FE-AB6B-46A4-A53E-036447DEA77F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137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2A28B-506E-4988-B485-DC642F65CF50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l.wikipedia.org/wiki/Hygieia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95640" y="39204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      </a:t>
            </a: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HYGIËNE </a:t>
            </a:r>
            <a:br>
              <a:rPr sz="4800"/>
            </a:b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340000" y="1780920"/>
            <a:ext cx="590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2ffff"/>
                </a:solidFill>
                <a:latin typeface="Tw Cen MT"/>
              </a:rPr>
              <a:t>BURGERSCHAP: HOE HOUDEN WE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2ffff"/>
                </a:solidFill>
                <a:latin typeface="Tw Cen MT"/>
              </a:rPr>
              <a:t>ZIEKTEVERWEKKERS UIT ONZE BUURT?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89" name="Picture 8" descr="Hygiene Images | Free Vectors, Stock Photos &amp; PSD"/>
          <p:cNvPicPr/>
          <p:nvPr/>
        </p:nvPicPr>
        <p:blipFill>
          <a:blip r:embed="rId1"/>
          <a:stretch/>
        </p:blipFill>
        <p:spPr>
          <a:xfrm>
            <a:off x="2952720" y="3260880"/>
            <a:ext cx="46785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BURGERSCHAP: DE VITALE DIMENSIE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52360" y="2492280"/>
          <a:ext cx="8856720" cy="1960560"/>
        </p:xfrm>
        <a:graphic>
          <a:graphicData uri="http://schemas.openxmlformats.org/drawingml/2006/table">
            <a:tbl>
              <a:tblPr/>
              <a:tblGrid>
                <a:gridCol w="957240"/>
                <a:gridCol w="1257480"/>
                <a:gridCol w="1106280"/>
                <a:gridCol w="908280"/>
                <a:gridCol w="1357200"/>
                <a:gridCol w="1057320"/>
                <a:gridCol w="1106280"/>
                <a:gridCol w="110664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r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ygië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rm &amp; Rijk: in de zo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elu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ks &amp; Veilighe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ks &amp; Plez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cohol &amp; Dru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ct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HYGIËNE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 </a:t>
            </a: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afkomstig van de Griekse mythologi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b8fa56"/>
                </a:solidFill>
                <a:uFillTx/>
                <a:latin typeface="Tw Cen MT"/>
                <a:hlinkClick r:id="rId1"/>
              </a:rPr>
              <a:t>Hygieia</a:t>
            </a: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; υγιεινή  = de godin van de gezondheid en reinheid.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Tw Cen MT"/>
              </a:rPr>
              <a:t>Hygiëne</a:t>
            </a: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 = alle handelingen en handelingswijzen die ervoor zorgen dat mensen en dieren gezond blijven door ziekteverwekkers uit de buurt te houden.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Persoonlijke hygiën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Algemene hygiën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Sociale hygiëne 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OPDRACHT: HOE DAN??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Bedenk </a:t>
            </a:r>
            <a:r>
              <a:rPr b="0" i="1" lang="nl-NL" sz="2400" spc="-1" strike="noStrike">
                <a:solidFill>
                  <a:srgbClr val="ffffff"/>
                </a:solidFill>
                <a:latin typeface="Tw Cen MT"/>
              </a:rPr>
              <a:t>een aantal voorbeelden </a:t>
            </a: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van handelingen en handeling wijzen hoe we deze ziekteverwekkers uit onze buurt houden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96" name="Picture 5" descr="Afbeeldingsresultaat voor hygiene"/>
          <p:cNvPicPr/>
          <p:nvPr/>
        </p:nvPicPr>
        <p:blipFill>
          <a:blip r:embed="rId1"/>
          <a:stretch/>
        </p:blipFill>
        <p:spPr>
          <a:xfrm>
            <a:off x="5219640" y="3645000"/>
            <a:ext cx="20401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222120"/>
            <a:ext cx="742968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VOORBEELDEN HANDELINGSWIJZE 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42920" y="1557360"/>
            <a:ext cx="7964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afwass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in bad gaan of douch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gedragen kleding wass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handen wass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handschoenen dragen bij riskante karweitjes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keuken schoonhoud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schoon werken bij het bereiden van eten (hieronder vallen onder andere koken en het smeren van een boterham)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bederfelijke etenswaren in de koelkast bewar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sterilisatie en desinfectie van besmette voorwerpen of oppervlakk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uitwerpselen in een toilet deponer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rioolwaterzuivering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HYGIËNE, PRESENTABEL &amp; PROFESSIONALITEI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222233"/>
                </a:solidFill>
                <a:latin typeface="Open Sans"/>
              </a:rPr>
              <a:t>Presentabel zijn 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222233"/>
                </a:solidFill>
                <a:latin typeface="Open Sans"/>
              </a:rPr>
              <a:t>(</a:t>
            </a: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1) zo netjes dat je een goede indruk maakt Voorbeeld: ’representatief gekleed zijn’ 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2) Een goede indruk makend;  (3) Geschikt om te vertegenwoordigen 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4) Goed ogend (5) Een betrouwbare indruk geven.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222233"/>
                </a:solidFill>
                <a:latin typeface="Open Sans"/>
              </a:rPr>
              <a:t>Professioneel zijn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1) niet stuntelig, goed georganiseerd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2) heel goed en vakkundig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3) Bekwaam, vakkundig, beroepsmatig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4) Niet amateuristisch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24000" y="2491920"/>
            <a:ext cx="324000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Persoonlijke hygiëne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op stage/werk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3876840" y="404640"/>
            <a:ext cx="44082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3600" y="33120"/>
            <a:ext cx="742968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HYGIËNE IN HET VERPLEEGHUI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263600" y="1341000"/>
            <a:ext cx="85485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12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05" name="Onlinemedia 3" descr=""/>
          <p:cNvPicPr/>
          <p:nvPr/>
        </p:nvPicPr>
        <p:blipFill>
          <a:blip r:embed="rId1"/>
          <a:stretch/>
        </p:blipFill>
        <p:spPr>
          <a:xfrm>
            <a:off x="1979640" y="1846440"/>
            <a:ext cx="5603760" cy="31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BEZOEK HTTPS://WWW.ZORGVOORBETER.NL/HYGIENE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Bekijk eerst eens rustig deze websit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Kies dan een van de e-learnings uit en doe een poging!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08" name="Afbeelding 2" descr=""/>
          <p:cNvPicPr/>
          <p:nvPr/>
        </p:nvPicPr>
        <p:blipFill>
          <a:blip r:embed="rId1"/>
          <a:srcRect l="27951" t="34600" r="40551" b="22002"/>
          <a:stretch/>
        </p:blipFill>
        <p:spPr>
          <a:xfrm>
            <a:off x="2556000" y="3516480"/>
            <a:ext cx="403200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09:55:44Z</dcterms:created>
  <dc:creator>Esmee Koppen</dc:creator>
  <dc:description/>
  <dc:language>en-US</dc:language>
  <cp:lastModifiedBy>Anne-May Smits</cp:lastModifiedBy>
  <dcterms:modified xsi:type="dcterms:W3CDTF">2022-12-14T10:11:25Z</dcterms:modified>
  <cp:revision>24</cp:revision>
  <dc:subject/>
  <dc:title>Hygiene over de wereld</dc:title>
</cp:coreProperties>
</file>