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F247-5703-4AB1-B226-2FBA5E7C3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54864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901960" y="3538800"/>
            <a:ext cx="54864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C9E2-D09C-4D1B-A079-4F5C86759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7135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901960" y="353880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713560" y="353880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840C-F39D-415D-A559-F61144C21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57040" y="86364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12480" y="86364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901960" y="353880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757040" y="353880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12480" y="353880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D975-066A-4962-9BFD-6CAB70EC3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F666E-E3D6-48DA-BADC-9C35F0A11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29BED-5D27-4F38-AF9B-C2A81A432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7AAC5-4F8F-4674-9D4E-21686C319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267732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3560" y="863640"/>
            <a:ext cx="267732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3C15E-AF26-4214-9649-95EF79A1B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A52EC-4212-415F-AEA3-D7518FFD6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88640" y="4928400"/>
            <a:ext cx="22114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5931F-DE1E-418A-9719-7DE10159F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3560" y="863640"/>
            <a:ext cx="267732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01960" y="353880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7CDC2-8CCA-4C18-821B-1BBF8425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20B7-FE83-48E1-8520-D537CCE39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267732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35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3560" y="353880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CA324-620B-41D5-8BE9-426F5553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35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901960" y="3538800"/>
            <a:ext cx="54864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04187-CEEB-4AD7-9623-F7D3C127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54864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901960" y="3538800"/>
            <a:ext cx="54864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EEFE7-7571-4F05-8CAD-6A5899664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35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901960" y="353880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3560" y="353880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91753-A35B-4CA1-A1DD-A5A8C4912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57040" y="86364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12480" y="86364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901960" y="353880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757040" y="353880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12480" y="353880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4D6AA-405F-461E-9E09-88307AADE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BE8AF-287C-4F30-9DDC-2554DC800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C18EF-2335-4A70-80A3-A11330495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9F6B5-EDDB-4A18-BF5B-70F74362B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267732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713560" y="863640"/>
            <a:ext cx="267732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17225-ABF2-4CE8-AF6A-F9B58031F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2A2D8-332A-468C-91F3-7C36E07CF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A4CE-9B26-4834-A179-5DFA12AD7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88640" y="4928400"/>
            <a:ext cx="22114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299F4-55D3-4A0C-A171-3C216944A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713560" y="863640"/>
            <a:ext cx="267732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901960" y="353880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64C5B-C7E4-4425-B5D4-19CD9EDC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267732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7135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713560" y="353880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9F6A7-F392-406B-9366-61318D37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7135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901960" y="3538800"/>
            <a:ext cx="54864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C2ED1-F163-433F-9B23-7EEE1A75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54864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2901960" y="3538800"/>
            <a:ext cx="54864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99331-DB6D-4332-980D-62C72BE2B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7135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901960" y="353880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713560" y="353880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6A0DA-37F7-460E-9E38-CD7039A34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57040" y="86364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612480" y="86364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2901960" y="353880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757040" y="353880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612480" y="353880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05D10-98A2-4535-B514-ABB2AF143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4FB8E-C5FB-4F05-AC99-BAECAED37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E3C37-FEFE-417F-971E-6E8D0AAA6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75FB8-DF55-4C2A-ADFA-0E27F0F7D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267732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13560" y="863640"/>
            <a:ext cx="267732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0412-328F-44F3-94B4-882D1FA08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267732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713560" y="863640"/>
            <a:ext cx="267732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A2FE3-B2DF-442A-A25D-C4C900F08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78212-3CA4-4AE8-B58C-4E44692BB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88640" y="4928400"/>
            <a:ext cx="22114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AB3F7-56E1-4BBD-8965-67DCD1C3B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713560" y="863640"/>
            <a:ext cx="267732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901960" y="353880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B3ACF-A210-4082-AE18-97B995D6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267732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7135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713560" y="353880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53BCE-4CF0-4A51-9A4F-B71A705A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7135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901960" y="3538800"/>
            <a:ext cx="54864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83908-EF15-4208-910F-D64BEB43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54864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2901960" y="3538800"/>
            <a:ext cx="54864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92EC2-EA2A-4254-98D2-B018D4DC1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7135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2901960" y="353880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713560" y="353880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EF284-FA3E-427A-A38B-EDC6DA84C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57040" y="86364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612480" y="86364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2901960" y="353880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4757040" y="353880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612480" y="353880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075DF-7E66-4AF8-9D43-FEE4284F9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0716-9670-491D-9332-1F003B918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88640" y="4928400"/>
            <a:ext cx="22114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F560-281C-4098-BF4D-A9CD9C822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713560" y="863640"/>
            <a:ext cx="267732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901960" y="353880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98DB-CFFA-4497-8641-0DAD7535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267732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7135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713560" y="353880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3772-247C-4863-AF47-8DA05BFE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7135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901960" y="3538800"/>
            <a:ext cx="54864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1E7A-6EAA-4278-AC25-D03BD919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758880"/>
            <a:ext cx="2583000" cy="5330880"/>
          </a:xfrm>
          <a:prstGeom prst="rect">
            <a:avLst/>
          </a:prstGeom>
          <a:solidFill>
            <a:srgbClr val="40b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Rectangle 37"/>
          <p:cNvSpPr/>
          <p:nvPr/>
        </p:nvSpPr>
        <p:spPr>
          <a:xfrm>
            <a:off x="8861400" y="758880"/>
            <a:ext cx="289080" cy="5330880"/>
          </a:xfrm>
          <a:prstGeom prst="rect">
            <a:avLst/>
          </a:prstGeom>
          <a:solidFill>
            <a:srgbClr val="c8c8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96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901960" y="6356520"/>
            <a:ext cx="44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75080" y="6356520"/>
            <a:ext cx="114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nl-NL" sz="1100" spc="-1" strike="noStrike">
                <a:solidFill>
                  <a:srgbClr val="40bad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BB2499-1AC9-4B15-8ABC-FEA8BBAF71EA}" type="slidenum">
              <a:rPr b="1" lang="nl-NL" sz="1100" spc="-1" strike="noStrike">
                <a:solidFill>
                  <a:srgbClr val="40bad2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0" y="762120"/>
            <a:ext cx="6856560" cy="5333760"/>
          </a:xfrm>
          <a:prstGeom prst="rect">
            <a:avLst/>
          </a:prstGeom>
          <a:solidFill>
            <a:srgbClr val="40b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6953400" y="762120"/>
            <a:ext cx="2193840" cy="5333760"/>
          </a:xfrm>
          <a:prstGeom prst="rect">
            <a:avLst/>
          </a:prstGeom>
          <a:solidFill>
            <a:srgbClr val="c3c3c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96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901960" y="6356520"/>
            <a:ext cx="44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975080" y="6356520"/>
            <a:ext cx="114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nl-NL" sz="1100" spc="-1" strike="noStrike">
                <a:solidFill>
                  <a:srgbClr val="40bad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C02D5B-4B5D-4D86-81E6-25C8C3AB537C}" type="slidenum">
              <a:rPr b="1" lang="nl-NL" sz="1100" spc="-1" strike="noStrike">
                <a:solidFill>
                  <a:srgbClr val="40bad2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196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901960" y="6356520"/>
            <a:ext cx="44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7975080" y="6356520"/>
            <a:ext cx="114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nl-NL" sz="1100" spc="-1" strike="noStrike">
                <a:solidFill>
                  <a:srgbClr val="40bad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B1D359-CB19-4515-808B-41ACE4C1DE68}" type="slidenum">
              <a:rPr b="1" lang="nl-NL" sz="1100" spc="-1" strike="noStrike">
                <a:solidFill>
                  <a:srgbClr val="40bad2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0" y="758880"/>
            <a:ext cx="2583000" cy="5330880"/>
          </a:xfrm>
          <a:prstGeom prst="rect">
            <a:avLst/>
          </a:prstGeom>
          <a:solidFill>
            <a:srgbClr val="40b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Rectangle 37"/>
          <p:cNvSpPr/>
          <p:nvPr/>
        </p:nvSpPr>
        <p:spPr>
          <a:xfrm>
            <a:off x="8861400" y="758880"/>
            <a:ext cx="289080" cy="5330880"/>
          </a:xfrm>
          <a:prstGeom prst="rect">
            <a:avLst/>
          </a:prstGeom>
          <a:solidFill>
            <a:srgbClr val="c8c8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196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23680" y="6356520"/>
            <a:ext cx="4434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7975080" y="6356520"/>
            <a:ext cx="114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nl-NL" sz="1100" spc="-1" strike="noStrike">
                <a:solidFill>
                  <a:srgbClr val="40bad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B8238B-BF3D-4115-9C10-CF03F41D38FB}" type="slidenum">
              <a:rPr b="1" lang="nl-NL" sz="1100" spc="-1" strike="noStrike">
                <a:solidFill>
                  <a:srgbClr val="40bad2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01720" y="1298520"/>
            <a:ext cx="5486400" cy="325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ffffff"/>
                </a:solidFill>
                <a:latin typeface="Corbel"/>
              </a:rPr>
              <a:t>Stress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25480" y="4670280"/>
            <a:ext cx="5486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d9f1f6"/>
                </a:solidFill>
                <a:latin typeface="Corbel"/>
              </a:rPr>
              <a:t>Burgerschap – Vitale dimensie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172" name="Afbeelding 2" descr="Afbeelding met tekst&#10;&#10;Automatisch gegenereerde beschrijving"/>
          <p:cNvPicPr/>
          <p:nvPr/>
        </p:nvPicPr>
        <p:blipFill>
          <a:blip r:embed="rId1"/>
          <a:stretch/>
        </p:blipFill>
        <p:spPr>
          <a:xfrm>
            <a:off x="5219640" y="1474920"/>
            <a:ext cx="3527640" cy="39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orbel"/>
              </a:rPr>
              <a:t>“</a:t>
            </a:r>
            <a:r>
              <a:rPr b="0" lang="nl-NL" sz="3000" spc="-1" strike="noStrike">
                <a:solidFill>
                  <a:srgbClr val="ffffff"/>
                </a:solidFill>
                <a:latin typeface="Corbel"/>
              </a:rPr>
              <a:t>Staat van</a:t>
            </a:r>
            <a:br>
              <a:rPr sz="3000"/>
            </a:br>
            <a:r>
              <a:rPr b="0" lang="nl-NL" sz="3000" spc="-1" strike="noStrike">
                <a:solidFill>
                  <a:srgbClr val="ffffff"/>
                </a:solidFill>
                <a:latin typeface="Corbel"/>
              </a:rPr>
              <a:t>paraatheid”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595959"/>
                </a:solidFill>
                <a:latin typeface="Corbel"/>
              </a:rPr>
              <a:t>Hormoon: Adrenaline </a:t>
            </a:r>
            <a:r>
              <a:rPr b="1" lang="nl-NL" sz="1900" spc="-1" strike="noStrike">
                <a:solidFill>
                  <a:srgbClr val="595959"/>
                </a:solidFill>
                <a:latin typeface="Wingdings"/>
                <a:ea typeface="Wingdings"/>
              </a:rPr>
              <a:t></a:t>
            </a:r>
            <a:r>
              <a:rPr b="1" lang="nl-NL" sz="1900" spc="-1" strike="noStrike">
                <a:solidFill>
                  <a:srgbClr val="595959"/>
                </a:solidFill>
                <a:latin typeface="Corbel"/>
              </a:rPr>
              <a:t> vluchten of vechten</a:t>
            </a:r>
            <a:br>
              <a:rPr sz="1900"/>
            </a:br>
            <a:r>
              <a:rPr b="1" lang="nl-NL" sz="1900" spc="-1" strike="noStrike">
                <a:solidFill>
                  <a:srgbClr val="595959"/>
                </a:solidFill>
                <a:latin typeface="Corbel"/>
              </a:rPr>
              <a:t>(komt energie vrij) 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595959"/>
                </a:solidFill>
                <a:latin typeface="Corbel"/>
              </a:rPr>
              <a:t>Cortsiol: stresshormoon. Komt vrij bij stress</a:t>
            </a:r>
            <a:br>
              <a:rPr sz="1900"/>
            </a:br>
            <a:r>
              <a:rPr b="1" lang="nl-NL" sz="1900" spc="-1" strike="noStrike">
                <a:solidFill>
                  <a:srgbClr val="595959"/>
                </a:solidFill>
                <a:latin typeface="Corbel"/>
              </a:rPr>
              <a:t>(breekt vrij gekomen energie weer af)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197" name="Picture 5" descr="Afbeeldingsresultaat voor klaar voor de start"/>
          <p:cNvPicPr/>
          <p:nvPr/>
        </p:nvPicPr>
        <p:blipFill>
          <a:blip r:embed="rId1"/>
          <a:stretch/>
        </p:blipFill>
        <p:spPr>
          <a:xfrm>
            <a:off x="3005280" y="4076640"/>
            <a:ext cx="3671640" cy="2454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Gerelateerde afbeelding"/>
          <p:cNvPicPr/>
          <p:nvPr/>
        </p:nvPicPr>
        <p:blipFill>
          <a:blip r:embed="rId2"/>
          <a:stretch/>
        </p:blipFill>
        <p:spPr>
          <a:xfrm>
            <a:off x="5435640" y="115920"/>
            <a:ext cx="316692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orbel"/>
              </a:rPr>
              <a:t>Uiting van stres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lvl="1" marL="685800" indent="-182520">
              <a:lnSpc>
                <a:spcPct val="90000"/>
              </a:lnSpc>
              <a:spcBef>
                <a:spcPts val="24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595959"/>
                </a:solidFill>
                <a:latin typeface="Corbel"/>
              </a:rPr>
              <a:t>Fysiek: </a:t>
            </a:r>
            <a:endParaRPr b="0" lang="en-US" sz="17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18252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595959"/>
                </a:solidFill>
                <a:latin typeface="Corbel"/>
              </a:rPr>
              <a:t>Slapeloosheid, benauwd, hartkloppingen, zweten, weinig/veel eetlust, vermoeidheid, rusteloosheid</a:t>
            </a:r>
            <a:br>
              <a:rPr sz="1700"/>
            </a:br>
            <a:br>
              <a:rPr sz="1700"/>
            </a:br>
            <a:r>
              <a:rPr b="1" lang="nl-NL" sz="1700" spc="-1" strike="noStrike">
                <a:solidFill>
                  <a:srgbClr val="595959"/>
                </a:solidFill>
                <a:latin typeface="Corbel"/>
              </a:rPr>
              <a:t>Geestelijk:</a:t>
            </a:r>
            <a:endParaRPr b="0" lang="en-US" sz="17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18252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595959"/>
                </a:solidFill>
                <a:latin typeface="Corbel"/>
              </a:rPr>
              <a:t>Somberheid, irritatie, slechte concentratie, emotioneel instabiel, paniek/angst, piekeren, agressie</a:t>
            </a:r>
            <a:endParaRPr b="0" lang="en-US" sz="17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orbel"/>
              </a:rPr>
              <a:t>Langdurige spanning/ ongezonde spanning =</a:t>
            </a:r>
            <a:br>
              <a:rPr sz="3000"/>
            </a:br>
            <a:r>
              <a:rPr b="0" lang="nl-NL" sz="3000" spc="-1" strike="noStrike">
                <a:solidFill>
                  <a:srgbClr val="ffffff"/>
                </a:solidFill>
                <a:latin typeface="Corbel"/>
              </a:rPr>
              <a:t>stres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901600" y="863640"/>
            <a:ext cx="591804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Waar ligt voor jou de grens van gezonde spanning en (ongezonde) stress?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(Extra: Gevolgen Stress en de werking van de hersenen)</a:t>
            </a:r>
            <a:br>
              <a:rPr sz="1900"/>
            </a:b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https://www.youtube.com/watch?v=RBI5Mu6j7eU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Of Erik schreder: https://www.youtube.com/watch?v=FMwu3fjum1g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0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orbel"/>
              </a:rPr>
              <a:t>Ongezonde stress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Langdurige aanhoudende stress kan leiden tot ziekte: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Overspannen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Burn-out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Fragment Sophie in de mentale kreukels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https://www.npo.nl/sophie-in-de-mentale-kreukels/21-03-2017/BNN_101382916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207" name="Picture 2" descr="Afbeeldingsresultaat voor burn out"/>
          <p:cNvPicPr/>
          <p:nvPr/>
        </p:nvPicPr>
        <p:blipFill>
          <a:blip r:embed="rId1"/>
          <a:stretch/>
        </p:blipFill>
        <p:spPr>
          <a:xfrm>
            <a:off x="189000" y="4149720"/>
            <a:ext cx="207000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r>
              <a:rPr b="0" lang="nl-NL" sz="2700" spc="-1" strike="noStrike">
                <a:solidFill>
                  <a:srgbClr val="ffffff"/>
                </a:solidFill>
                <a:latin typeface="Corbel"/>
              </a:rPr>
              <a:t>Erfelijkheid vs. karakter?</a:t>
            </a:r>
            <a:endParaRPr b="0" lang="en-US" sz="27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09" name="Picture 2" descr="Afbeeldingsresultaat voor draagkracht draaglast"/>
          <p:cNvPicPr/>
          <p:nvPr/>
        </p:nvPicPr>
        <p:blipFill>
          <a:blip r:embed="rId1"/>
          <a:stretch/>
        </p:blipFill>
        <p:spPr>
          <a:xfrm>
            <a:off x="2506680" y="1628640"/>
            <a:ext cx="6637320" cy="38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orbel"/>
              </a:rPr>
              <a:t>Stress te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Ga naar onderstaande website en maak voor jezelf de stresstest.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http://www.psychischegezondheid.nl/index.php?action=stressometer_advisor_results&amp;alt=1&amp;sid=519960&amp;uid=0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orbel"/>
              </a:rPr>
              <a:t>Coping = </a:t>
            </a:r>
            <a:br>
              <a:rPr sz="3000"/>
            </a:br>
            <a:r>
              <a:rPr b="0" lang="nl-NL" sz="2800" spc="-1" strike="noStrike">
                <a:solidFill>
                  <a:srgbClr val="ffffff"/>
                </a:solidFill>
                <a:latin typeface="Corbel"/>
              </a:rPr>
              <a:t>de manier waarop iemand met problemen en stress omgaa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843280" y="0"/>
            <a:ext cx="5486400" cy="342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Wat doe jij als je gestrest bent?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Hoe ontspan jij? Hoe vaak doe je dit?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214" name="Picture 2" descr="Afbeeldingsresultaat voor stress"/>
          <p:cNvPicPr/>
          <p:nvPr/>
        </p:nvPicPr>
        <p:blipFill>
          <a:blip r:embed="rId1"/>
          <a:stretch/>
        </p:blipFill>
        <p:spPr>
          <a:xfrm>
            <a:off x="3851280" y="3424320"/>
            <a:ext cx="392256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orbel"/>
              </a:rPr>
              <a:t>Ontspanning oefening!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https://www.youtube.com/watch?v=RpHrpFy37l8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orbel"/>
              </a:rPr>
              <a:t>Voorzorg maatregelen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marL="180360" indent="-180360">
              <a:lnSpc>
                <a:spcPct val="6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595959"/>
                </a:solidFill>
                <a:latin typeface="Corbel"/>
              </a:rPr>
              <a:t>neem iedere ochtend eerst tijd voor jezelf  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6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595959"/>
                </a:solidFill>
                <a:latin typeface="Corbel"/>
              </a:rPr>
              <a:t>ontspan regelmatig  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6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595959"/>
                </a:solidFill>
                <a:latin typeface="Corbel"/>
              </a:rPr>
              <a:t>herinner je regelmatig je successen, met name die keren dat je jezelf hebt overtroffen  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6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595959"/>
                </a:solidFill>
                <a:latin typeface="Corbel"/>
              </a:rPr>
              <a:t>vraag jezelf aan het einde van de dag of je genoeg hebt gedaan, ondanks het feit dat je niet alles hebt afgekregen.  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6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595959"/>
                </a:solidFill>
                <a:latin typeface="Corbel"/>
              </a:rPr>
              <a:t>noteer de dingen die je de volgende dag moet doen  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6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595959"/>
                </a:solidFill>
                <a:latin typeface="Corbel"/>
              </a:rPr>
              <a:t>als je in de loop van de avond dingen te binnen schieten, noteer ze en laat het los  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6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595959"/>
                </a:solidFill>
                <a:latin typeface="Corbel"/>
              </a:rPr>
              <a:t>denk na over het feit of je het soort leven leidt dat je zou willen leiden 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6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595959"/>
                </a:solidFill>
                <a:latin typeface="Corbel"/>
              </a:rPr>
              <a:t>doe alles bewust, een ding te gelijk en in een rustig tempo  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6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595959"/>
                </a:solidFill>
                <a:latin typeface="Corbel"/>
              </a:rPr>
              <a:t>Blijf communiceren 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6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orbel"/>
              </a:rPr>
              <a:t>Als stress je leven over begint te nemen</a:t>
            </a:r>
            <a:br>
              <a:rPr sz="3000"/>
            </a:br>
            <a:br>
              <a:rPr sz="3000"/>
            </a:br>
            <a:r>
              <a:rPr b="0" lang="nl-NL" sz="3000" spc="-1" strike="noStrike">
                <a:solidFill>
                  <a:srgbClr val="ffffff"/>
                </a:solidFill>
                <a:latin typeface="Corbel"/>
              </a:rPr>
              <a:t> Professionele hulp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Praat met je ouders/verzorgers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Praat met je vrienden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Praat met je docenten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Praat met de huisarts (geheimhoudingsplicht)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Praktijkondersteuner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Psycholoog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21" name="Pijl: omlaag 3"/>
          <p:cNvSpPr/>
          <p:nvPr/>
        </p:nvSpPr>
        <p:spPr>
          <a:xfrm>
            <a:off x="1619280" y="3429000"/>
            <a:ext cx="360360" cy="504720"/>
          </a:xfrm>
          <a:prstGeom prst="downArrow">
            <a:avLst>
              <a:gd name="adj1" fmla="val 50000"/>
              <a:gd name="adj2" fmla="val 50019"/>
            </a:avLst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4984560"/>
            <a:ext cx="5486400" cy="95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Corbel"/>
              </a:rPr>
              <a:t>Dimensie: vitaal burgerschap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08000" y="1397160"/>
          <a:ext cx="8856720" cy="1960560"/>
        </p:xfrm>
        <a:graphic>
          <a:graphicData uri="http://schemas.openxmlformats.org/drawingml/2006/table">
            <a:tbl>
              <a:tblPr/>
              <a:tblGrid>
                <a:gridCol w="957240"/>
                <a:gridCol w="1257120"/>
                <a:gridCol w="1106640"/>
                <a:gridCol w="907920"/>
                <a:gridCol w="1355760"/>
                <a:gridCol w="1057320"/>
                <a:gridCol w="1108080"/>
                <a:gridCol w="110664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BS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ba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BS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ba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BS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ba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BS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ba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BS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ba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BS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ba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BS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ba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BS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bad2"/>
                    </a:solidFill>
                  </a:tcPr>
                </a:tc>
              </a:tr>
              <a:tr h="111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tr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7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Hygië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7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Arm &amp; Rijk: in de zo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7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Gelu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7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eks &amp; Veilighe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7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eks &amp; Plez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7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Alcohol &amp; Dru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7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Act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7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901960" y="863640"/>
            <a:ext cx="5486400" cy="51213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Afbeeldingsresultaat voor gedicht stress"/>
          <p:cNvPicPr/>
          <p:nvPr/>
        </p:nvPicPr>
        <p:blipFill>
          <a:blip r:embed="rId2"/>
          <a:stretch/>
        </p:blipFill>
        <p:spPr>
          <a:xfrm>
            <a:off x="3564000" y="476280"/>
            <a:ext cx="4908600" cy="35290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Afbeeldingsresultaat voor stil staan"/>
          <p:cNvPicPr/>
          <p:nvPr/>
        </p:nvPicPr>
        <p:blipFill>
          <a:blip r:embed="rId3"/>
          <a:stretch/>
        </p:blipFill>
        <p:spPr>
          <a:xfrm>
            <a:off x="1258920" y="2637000"/>
            <a:ext cx="2749680" cy="386064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6"/>
          <p:cNvSpPr/>
          <p:nvPr/>
        </p:nvSpPr>
        <p:spPr>
          <a:xfrm>
            <a:off x="13824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AutoShape 8"/>
          <p:cNvSpPr/>
          <p:nvPr/>
        </p:nvSpPr>
        <p:spPr>
          <a:xfrm>
            <a:off x="13824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AutoShape 10"/>
          <p:cNvSpPr/>
          <p:nvPr/>
        </p:nvSpPr>
        <p:spPr>
          <a:xfrm>
            <a:off x="13824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AutoShape 12"/>
          <p:cNvSpPr/>
          <p:nvPr/>
        </p:nvSpPr>
        <p:spPr>
          <a:xfrm>
            <a:off x="13824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orbel"/>
              </a:rPr>
              <a:t>Stress &amp; Burgerschap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Waarom is het relevant/belangrijk om het onderwerp stress te bespreken bij burgerschap?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Hebben jullie het bij andere vakken al over stress gehad?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3840" y="65052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orbel"/>
              </a:rPr>
              <a:t>Wat is stress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843280" y="39060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Beschrijf voor jou zelf een definitie van stress, wat versta jij hieronder?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Hoe kan stress er uit zien bij jou?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79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81" name="Picture 9" descr="Afbeeldingsresultaat voor stress"/>
          <p:cNvPicPr/>
          <p:nvPr/>
        </p:nvPicPr>
        <p:blipFill>
          <a:blip r:embed="rId1"/>
          <a:stretch/>
        </p:blipFill>
        <p:spPr>
          <a:xfrm>
            <a:off x="5349960" y="3959280"/>
            <a:ext cx="342576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43828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orbel"/>
              </a:rPr>
              <a:t>Stress</a:t>
            </a:r>
            <a:br>
              <a:rPr sz="3000"/>
            </a:br>
            <a:r>
              <a:rPr b="0" lang="nl-NL" sz="3000" spc="-1" strike="noStrike">
                <a:solidFill>
                  <a:srgbClr val="ffffff"/>
                </a:solidFill>
                <a:latin typeface="Corbel"/>
              </a:rPr>
              <a:t>= spanning/druk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Stress is het gevolg van het langdurig onder hoge spanning functioneren. 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In wat voor gedrag dat resulteert is voor iedereen anders.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orbel"/>
              </a:rPr>
              <a:t>Cliphange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https://www.youtube.com/watch?v=-Eoq4wq1JtQ&amp;t=12s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orbel"/>
              </a:rPr>
              <a:t>Schrijf voor jezelf op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916360" y="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In welke situatie heb jij stress ervaren?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Wat maakte die situatie vooral stressvol?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Zijn er soorten stress te onderscheiden?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188" name="Picture 5" descr="Afbeeldingsresultaat voor stress"/>
          <p:cNvPicPr/>
          <p:nvPr/>
        </p:nvPicPr>
        <p:blipFill>
          <a:blip r:embed="rId1"/>
          <a:stretch/>
        </p:blipFill>
        <p:spPr>
          <a:xfrm>
            <a:off x="3419640" y="3573360"/>
            <a:ext cx="4608360" cy="25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901960" y="863640"/>
            <a:ext cx="5486400" cy="5121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Afbeeldingsresultaat voor gedicht stress"/>
          <p:cNvPicPr/>
          <p:nvPr/>
        </p:nvPicPr>
        <p:blipFill>
          <a:blip r:embed="rId2"/>
          <a:stretch/>
        </p:blipFill>
        <p:spPr>
          <a:xfrm>
            <a:off x="2771640" y="141300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orbel"/>
              </a:rPr>
              <a:t>Oorsprong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Wat is de functie van stress?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Vroeger was het een waarschuwing op gevaar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Was er honderd jaar geleden stress? 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194" name="Picture 5" descr="Afbeeldingsresultaat voor oermens jagen"/>
          <p:cNvPicPr/>
          <p:nvPr/>
        </p:nvPicPr>
        <p:blipFill>
          <a:blip r:embed="rId1"/>
          <a:stretch/>
        </p:blipFill>
        <p:spPr>
          <a:xfrm>
            <a:off x="4859280" y="4149720"/>
            <a:ext cx="380988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11:08:18Z</dcterms:created>
  <dc:creator>AMARANTIS</dc:creator>
  <dc:description/>
  <dc:language>en-US</dc:language>
  <cp:lastModifiedBy>Anne-May Smits</cp:lastModifiedBy>
  <dcterms:modified xsi:type="dcterms:W3CDTF">2022-12-14T10:07:49Z</dcterms:modified>
  <cp:revision>23</cp:revision>
  <dc:subject/>
  <dc:title>Omgaan met stress</dc:title>
</cp:coreProperties>
</file>