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395E3-1315-46AE-BC05-8F1CB1FC1E6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s://www.youtube.com/watch?v=t-X-7GFANJM&amp;t=4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EC734-BF74-4A4A-93F3-753C8563AA41}" type="slidenum">
              <a:rPr b="0" lang="nl-NL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61C8-A028-4345-8B39-7082AB44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630-E519-4316-8BCD-341E5B22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3E2F-6E4F-42BF-B665-522B917A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C9AC-DDAF-4E0D-B600-1110F97A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BABF-A358-454F-9C72-A84F557A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1829-F4B2-4633-A8C0-1C98F6A8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7258-20F0-4E11-844E-5825B77E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0209-D74E-400F-82C6-4B548B4D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DD01-2CAE-4CAB-82D2-665F86E6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FE1B-4B49-40E0-B3DB-10496F8F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1022-185F-4034-9C65-E4A9B22F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32C-0089-4627-B110-A0FF18DC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567F-91ED-4C77-A099-1FD7837F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4511-BEB9-46AB-B04A-9D812367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E80A-526C-4AD0-B902-631F4F42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7E43-4AEA-45EB-805B-B7673149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9098-735A-42F7-A4E6-541955F0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67965-189D-4B20-B222-8B04FD25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6C292-EB2E-4F05-8808-7E239816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35272-4B0D-4220-9F19-6AA88F80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FB386-9E03-4533-BD18-4F60E59F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BA0CC-4F5C-4C32-BF1F-ED3B0A8D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F7A-743D-426E-B7EB-D34A298C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D4D3A-50F6-4C7F-943B-D4FFBEBC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B719E-ECC2-4758-8343-D14C9F44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09215-7580-4291-B809-B53A0F0F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3B982-6088-4713-BDB7-50072DBD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44466-41E8-4574-8E52-19E83507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B4C08-62A4-45C1-A6F1-39438CF3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51BBB-C2D4-4D7C-9BA8-BD02C5B9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E4B5D-D05F-4F6B-93C0-C27D718E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ABFBF-CCAB-47C8-A50C-BE72E32D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FF24F-01C9-4FAB-AE2C-F21C94C2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4A5-06E1-4380-AC4B-E4E68925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A83A3-84E6-4117-9FF4-12D4B574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DD783-9AE8-47FE-9EEE-C58CE6BB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ACA1E-492E-4793-94EC-1B944693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ECE94-A105-4E5B-9809-7E5AAF88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089B0-07AB-47DD-B10B-A0FCE541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848B4-9B2E-40E2-9FAA-F2221CF5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D3EB4-2358-4816-8356-7F75879B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F8B8D-85A3-4B14-BA31-E240FA2F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736D1-0645-4BE9-A5B2-58B8E222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9327-0027-4811-AD3D-4BBE7823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C78-517D-45E6-B6E6-660AC876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0DB2-1ECF-4119-A257-EDB83545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201-6CE6-445C-97AE-23D5485A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C3F-EB98-4BC9-B005-D31D7459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2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E9E73-8C8B-4980-AA9E-E4BCCF65B8A4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Group 65" descr=""/>
          <p:cNvPicPr/>
          <p:nvPr/>
        </p:nvPicPr>
        <p:blipFill>
          <a:blip r:embed="rId4"/>
          <a:stretch/>
        </p:blipFill>
        <p:spPr>
          <a:xfrm>
            <a:off x="0" y="0"/>
            <a:ext cx="2298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800320" y="540972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900080" y="5409720"/>
            <a:ext cx="384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914960" y="5409720"/>
            <a:ext cx="579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DA335-AB8A-403E-8C20-1F8AD95A1F99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90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Box 51"/>
          <p:cNvSpPr/>
          <p:nvPr/>
        </p:nvSpPr>
        <p:spPr>
          <a:xfrm>
            <a:off x="696960" y="71928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TextBox 52"/>
          <p:cNvSpPr/>
          <p:nvPr/>
        </p:nvSpPr>
        <p:spPr>
          <a:xfrm>
            <a:off x="7816680" y="27655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E2863-B237-4E1C-A784-EEF450DBE557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137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4EA39-300A-471A-8A0B-8C203E0A0285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l.wikipedia.org/wiki/Hygieia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95640" y="39204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      </a:t>
            </a: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HYGIËNE </a:t>
            </a:r>
            <a:br>
              <a:rPr sz="4800"/>
            </a:b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340000" y="1780920"/>
            <a:ext cx="590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2ffff"/>
                </a:solidFill>
                <a:latin typeface="Tw Cen MT"/>
              </a:rPr>
              <a:t>BURGERSCHAP: HOE HOUDEN WE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2ffff"/>
                </a:solidFill>
                <a:latin typeface="Tw Cen MT"/>
              </a:rPr>
              <a:t>ZIEKTEVERWEKKERS UIT ONZE BUURT?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89" name="Picture 8" descr="Hygiene Images | Free Vectors, Stock Photos &amp; PSD"/>
          <p:cNvPicPr/>
          <p:nvPr/>
        </p:nvPicPr>
        <p:blipFill>
          <a:blip r:embed="rId1"/>
          <a:stretch/>
        </p:blipFill>
        <p:spPr>
          <a:xfrm>
            <a:off x="2952720" y="3260880"/>
            <a:ext cx="46785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BURGERSCHAP: DE VITALE DIMENSIE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52360" y="2492280"/>
          <a:ext cx="8856720" cy="1960560"/>
        </p:xfrm>
        <a:graphic>
          <a:graphicData uri="http://schemas.openxmlformats.org/drawingml/2006/table">
            <a:tbl>
              <a:tblPr/>
              <a:tblGrid>
                <a:gridCol w="957240"/>
                <a:gridCol w="1257480"/>
                <a:gridCol w="1106280"/>
                <a:gridCol w="908280"/>
                <a:gridCol w="1357200"/>
                <a:gridCol w="1057320"/>
                <a:gridCol w="1106280"/>
                <a:gridCol w="110664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r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ygië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rm &amp; Rijk: in de zo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elu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ks &amp; Veilighe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ks &amp; Plez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cohol &amp; Dru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ct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HYGIËNE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 </a:t>
            </a: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afkomstig van de Griekse mythologi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b8fa56"/>
                </a:solidFill>
                <a:uFillTx/>
                <a:latin typeface="Tw Cen MT"/>
                <a:hlinkClick r:id="rId1"/>
              </a:rPr>
              <a:t>Hygieia</a:t>
            </a: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; υγιεινή  = de godin van de gezondheid en reinheid.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Tw Cen MT"/>
              </a:rPr>
              <a:t>Hygiëne</a:t>
            </a: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 = alle handelingen en handelingswijzen die ervoor zorgen dat mensen en dieren gezond blijven door ziekteverwekkers uit de buurt te houden.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Persoonlijke hygiën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Algemene hygiën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Sociale hygiëne 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OPDRACHT: HOE DAN??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Bedenk </a:t>
            </a:r>
            <a:r>
              <a:rPr b="0" i="1" lang="nl-NL" sz="2400" spc="-1" strike="noStrike">
                <a:solidFill>
                  <a:srgbClr val="ffffff"/>
                </a:solidFill>
                <a:latin typeface="Tw Cen MT"/>
              </a:rPr>
              <a:t>een aantal voorbeelden </a:t>
            </a: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van handelingen en handeling wijzen hoe we deze ziekteverwekkers uit onze buurt houden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96" name="Picture 5" descr="Afbeeldingsresultaat voor hygiene"/>
          <p:cNvPicPr/>
          <p:nvPr/>
        </p:nvPicPr>
        <p:blipFill>
          <a:blip r:embed="rId1"/>
          <a:stretch/>
        </p:blipFill>
        <p:spPr>
          <a:xfrm>
            <a:off x="5219640" y="3645000"/>
            <a:ext cx="20401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222120"/>
            <a:ext cx="742968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VOORBEELDEN HANDELINGSWIJZE 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42920" y="1557360"/>
            <a:ext cx="7964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afwass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in bad gaan of douch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gedragen kleding wass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handen wass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handschoenen dragen bij riskante karweitjes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keuken schoonhoud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schoon werken bij het bereiden van eten (hieronder vallen onder andere koken en het smeren van een boterham)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bederfelijke etenswaren in de koelkast bewar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sterilisatie en desinfectie van besmette voorwerpen of oppervlakk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uitwerpselen in een toilet deponer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rioolwaterzuivering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HYGIËNE, PRESENTABEL &amp; PROFESSIONALITEI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222233"/>
                </a:solidFill>
                <a:latin typeface="Open Sans"/>
              </a:rPr>
              <a:t>Presentabel zijn 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222233"/>
                </a:solidFill>
                <a:latin typeface="Open Sans"/>
              </a:rPr>
              <a:t>(</a:t>
            </a: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1) zo netjes dat je een goede indruk maakt Voorbeeld: ’representatief gekleed zijn’ 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2) Een goede indruk makend;  (3) Geschikt om te vertegenwoordigen 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4) Goed ogend (5) Een betrouwbare indruk geven.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222233"/>
                </a:solidFill>
                <a:latin typeface="Open Sans"/>
              </a:rPr>
              <a:t>Professioneel zijn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1) niet stuntelig, goed georganiseerd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2) heel goed en vakkundig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3) Bekwaam, vakkundig, beroepsmatig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4) Niet amateuristisch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4000" y="2491920"/>
            <a:ext cx="324000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Persoonlijke hygiëne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op stage/werk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3876840" y="404640"/>
            <a:ext cx="44082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3600" y="33120"/>
            <a:ext cx="742968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HYGIËNE IN HET VERPLEEGHUI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263600" y="1341000"/>
            <a:ext cx="85485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12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05" name="Onlinemedia 3" descr=""/>
          <p:cNvPicPr/>
          <p:nvPr/>
        </p:nvPicPr>
        <p:blipFill>
          <a:blip r:embed="rId1"/>
          <a:stretch/>
        </p:blipFill>
        <p:spPr>
          <a:xfrm>
            <a:off x="1979640" y="1846440"/>
            <a:ext cx="5603760" cy="31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BEZOEK HTTPS://WWW.ZORGVOORBETER.NL/HYGIENE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Bekijk eerst eens rustig deze websit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Kies dan een van de e-learnings uit en doe een poging!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08" name="Afbeelding 2" descr=""/>
          <p:cNvPicPr/>
          <p:nvPr/>
        </p:nvPicPr>
        <p:blipFill>
          <a:blip r:embed="rId1"/>
          <a:srcRect l="27951" t="34600" r="40551" b="22002"/>
          <a:stretch/>
        </p:blipFill>
        <p:spPr>
          <a:xfrm>
            <a:off x="2556000" y="3516480"/>
            <a:ext cx="403200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9:55:44Z</dcterms:created>
  <dc:creator>Esmee Koppen</dc:creator>
  <dc:description/>
  <dc:language>en-US</dc:language>
  <cp:lastModifiedBy>Anne-May Smits</cp:lastModifiedBy>
  <dcterms:modified xsi:type="dcterms:W3CDTF">2022-12-14T10:11:25Z</dcterms:modified>
  <cp:revision>24</cp:revision>
  <dc:subject/>
  <dc:title>Hygiene over de wereld</dc:title>
</cp:coreProperties>
</file>