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542-ECE8-43FE-A9BB-06D4A977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F58-FA52-405A-9653-5AC0AB79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495-6CA0-4EE2-8E18-94C64AEB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96D-5431-40B7-9B28-F47C333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761A-C683-4140-AAB3-DA6B8E77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9F63-0E5E-4D09-8AC6-B503EBA4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856E-F171-45A6-9855-93C8FE9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9F33-1620-4050-AAE9-8C9F24B5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50E5-DC54-47BE-916D-70DB1085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2323-CEF5-41CF-8FEC-F7A3A1FE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D46A-71B4-4A6F-A488-5B3EEF0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497-E7DA-4EB2-8B49-F83EF902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7BEF-DAA3-43AC-BCC2-5869FDE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CCEB-6116-4E03-A04B-CE2FE21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5F50-3657-47DC-BBA6-56941BE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A59-0A88-432B-A095-AA26787C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FC17-E55D-4840-948C-080513A2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2D88-95CF-4E06-BFDD-2E0851C0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CBF1-EDE8-425F-9C9F-9D0AC07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8FDD-062B-4DD8-8476-C01191D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3622-6CAF-44F6-BE4F-240FC15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84BD-D795-4253-AB98-AD2778D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D93-E93F-480F-85D0-B57330BB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8965-5CDF-411E-92AB-C6742CE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2CA3-8F90-4131-903D-953C88D1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02BC-A895-487D-9579-AA90C1EF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1B83-C68F-440D-968B-34C18593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82697-5501-4CE3-84CE-C406ABC3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C5F1-9467-4FB4-9EA9-8EFBC6EB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816A-400F-4E77-8017-E90BD48B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FD0D-A6C2-4F29-A2F4-5FB0B905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7CC0-3F4A-4BE0-AFD2-8F1D1D95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B853-742A-4985-80F2-3012F20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F56-1E85-4449-95D1-2E13C78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0B08-F37D-48ED-80ED-138A813F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07CD-237B-446B-88DB-99FB4AD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784C-DE30-41B8-A5CE-8BA29DD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06CE-06CB-4C90-8A5D-47BBD29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E91D-B968-49DF-8D95-45E6C63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379E-DAD5-4D86-A6E9-CD2907D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1C4C-05F6-481B-BC9C-6DC5DCE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E08D-52D2-4641-82BE-38503176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6CE87-20F5-4DE2-8B71-309BB64E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DF4-B7B3-4FA8-9A5F-D076EFE0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6E1-769E-4AE4-8EDE-33DE458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834-2CF1-4E55-BC71-DD38F25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8BA-1B1E-457C-99DF-3547E84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660-3718-4618-B3F5-84C7FF7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5233B-9C3D-4E32-9EC1-F08749519897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6856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953400" y="762120"/>
            <a:ext cx="2193840" cy="5333760"/>
          </a:xfrm>
          <a:prstGeom prst="rect">
            <a:avLst/>
          </a:prstGeom>
          <a:solidFill>
            <a:srgbClr val="c3c3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2C5EA-4B7B-4A90-B47D-19B9C68C8C14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5FFEC-7280-4DFB-AE27-8672E455A9BD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23680" y="6356520"/>
            <a:ext cx="443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087E8-4040-4356-86F3-2540E7E41E33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720" y="1298520"/>
            <a:ext cx="5486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5480" y="4670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9f1f6"/>
                </a:solidFill>
                <a:latin typeface="Corbel"/>
              </a:rPr>
              <a:t>Burgerschap – Vitale dimensi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474920"/>
            <a:ext cx="35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aat van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paraatheid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Hormoon: Adrenaline </a:t>
            </a:r>
            <a:r>
              <a:rPr b="1" lang="nl-NL" sz="19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 vluchten of vechten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komt energie vrij)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Cortsiol: stresshormoon. Komt vrij bij stress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breekt vrij gekomen energie weer af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7" name="Picture 5" descr="Afbeeldingsresultaat voor klaar voor de start"/>
          <p:cNvPicPr/>
          <p:nvPr/>
        </p:nvPicPr>
        <p:blipFill>
          <a:blip r:embed="rId1"/>
          <a:stretch/>
        </p:blipFill>
        <p:spPr>
          <a:xfrm>
            <a:off x="3005280" y="4076640"/>
            <a:ext cx="3671640" cy="245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erelateerde afbeelding"/>
          <p:cNvPicPr/>
          <p:nvPr/>
        </p:nvPicPr>
        <p:blipFill>
          <a:blip r:embed="rId2"/>
          <a:stretch/>
        </p:blipFill>
        <p:spPr>
          <a:xfrm>
            <a:off x="5435640" y="115920"/>
            <a:ext cx="316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Uiting van 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85800" indent="-182520">
              <a:lnSpc>
                <a:spcPct val="90000"/>
              </a:lnSpc>
              <a:spcBef>
                <a:spcPts val="24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Fysiek: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lapeloosheid, benauwd, hartkloppingen, zweten, weinig/veel eetlust, vermoeidheid, rusteloosheid</a:t>
            </a:r>
            <a:br>
              <a:rPr sz="1700"/>
            </a:br>
            <a:br>
              <a:rPr sz="1700"/>
            </a:b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Geestelijk: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omberheid, irritatie, slechte concentratie, emotioneel instabiel, paniek/angst, piekeren, agressie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Langdurige spanning/ ongezonde spanning =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01600" y="863640"/>
            <a:ext cx="59180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 ligt voor jou de grens van gezonde spanning en (ongezonde)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(Extra: Gevolgen Stress en de werking van de hersenen)</a:t>
            </a:r>
            <a:br>
              <a:rPr sz="1900"/>
            </a:b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BI5Mu6j7eU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f Erik schreder: https://www.youtube.com/watch?v=FMwu3fjum1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gezonde stres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Langdurige aanhoudende stress kan leiden tot ziekte: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verspann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urn-ou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Fragment Sophie in de mentale kreukel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npo.nl/sophie-in-de-mentale-kreukels/21-03-2017/BNN_101382916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07" name="Picture 2" descr="Afbeeldingsresultaat voor burn out"/>
          <p:cNvPicPr/>
          <p:nvPr/>
        </p:nvPicPr>
        <p:blipFill>
          <a:blip r:embed="rId1"/>
          <a:stretch/>
        </p:blipFill>
        <p:spPr>
          <a:xfrm>
            <a:off x="189000" y="4149720"/>
            <a:ext cx="2070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nl-NL" sz="2700" spc="-1" strike="noStrike">
                <a:solidFill>
                  <a:srgbClr val="ffffff"/>
                </a:solidFill>
                <a:latin typeface="Corbel"/>
              </a:rPr>
              <a:t>Erfelijkheid vs. karakter?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9" name="Picture 2" descr="Afbeeldingsresultaat voor draagkracht draaglast"/>
          <p:cNvPicPr/>
          <p:nvPr/>
        </p:nvPicPr>
        <p:blipFill>
          <a:blip r:embed="rId1"/>
          <a:stretch/>
        </p:blipFill>
        <p:spPr>
          <a:xfrm>
            <a:off x="2506680" y="1628640"/>
            <a:ext cx="6637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t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Ga naar onderstaande website en maak voor jezelf de stresstest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://www.psychischegezondheid.nl/index.php?action=stressometer_advisor_results&amp;alt=1&amp;sid=519960&amp;uid=0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oping = </a:t>
            </a:r>
            <a:br>
              <a:rPr sz="3000"/>
            </a:br>
            <a:r>
              <a:rPr b="0" lang="nl-NL" sz="2800" spc="-1" strike="noStrike">
                <a:solidFill>
                  <a:srgbClr val="ffffff"/>
                </a:solidFill>
                <a:latin typeface="Corbel"/>
              </a:rPr>
              <a:t>de manier waarop iemand met problemen en stress omga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43280" y="0"/>
            <a:ext cx="54864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doe jij als je gestrest ben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ontspan jij? Hoe vaak doe je di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14" name="Picture 2" descr="Afbeeldingsresultaat voor stress"/>
          <p:cNvPicPr/>
          <p:nvPr/>
        </p:nvPicPr>
        <p:blipFill>
          <a:blip r:embed="rId1"/>
          <a:stretch/>
        </p:blipFill>
        <p:spPr>
          <a:xfrm>
            <a:off x="3851280" y="3424320"/>
            <a:ext cx="3922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tspanning oefening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pHrpFy37l8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Voorzorg maatregel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eem iedere ochtend eerst tijd voor jezelf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ontspan regelmatig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herinner je regelmatig je successen, met name die keren dat je jezelf hebt overtroff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vraag jezelf aan het einde van de dag of je genoeg hebt gedaan, ondanks het feit dat je niet alles hebt afgekregen.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oteer de dingen die je de volgende dag moet do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als je in de loop van de avond dingen te binnen schieten, noteer ze en laat het los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enk na over het feit of je het soort leven leidt dat je zou willen leid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oe alles bewust, een ding te gelijk en in een rustig tempo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Blijf communicer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Als stress je leven over begint te nemen</a:t>
            </a: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 Professionele hul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ouders/verzorger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vriend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docent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de huisarts (geheimhoudingsplicht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ktijkondersteune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sycholoo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ijl: omlaag 3"/>
          <p:cNvSpPr/>
          <p:nvPr/>
        </p:nvSpPr>
        <p:spPr>
          <a:xfrm>
            <a:off x="1619280" y="3429000"/>
            <a:ext cx="360360" cy="50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984560"/>
            <a:ext cx="54864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orbel"/>
              </a:rPr>
              <a:t>Dimensie: vitaal burgerscha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120"/>
                <a:gridCol w="1106640"/>
                <a:gridCol w="907920"/>
                <a:gridCol w="1355760"/>
                <a:gridCol w="1057320"/>
                <a:gridCol w="11080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3564000" y="476280"/>
            <a:ext cx="490860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fbeeldingsresultaat voor stil staan"/>
          <p:cNvPicPr/>
          <p:nvPr/>
        </p:nvPicPr>
        <p:blipFill>
          <a:blip r:embed="rId3"/>
          <a:stretch/>
        </p:blipFill>
        <p:spPr>
          <a:xfrm>
            <a:off x="1258920" y="2637000"/>
            <a:ext cx="2749680" cy="3860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&amp; Burgersch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om is het relevant/belangrijk om het onderwerp stress te bespreken bij burgerschap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ebben jullie het bij andere vakken al over stress gehad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5052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Wat is st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3280" y="39060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eschrijf voor jou zelf een definitie van stress, wat versta jij hieronder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kan stress er uit zien bij jou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1" name="Picture 9" descr="Afbeeldingsresultaat voor stress"/>
          <p:cNvPicPr/>
          <p:nvPr/>
        </p:nvPicPr>
        <p:blipFill>
          <a:blip r:embed="rId1"/>
          <a:stretch/>
        </p:blipFill>
        <p:spPr>
          <a:xfrm>
            <a:off x="5349960" y="3959280"/>
            <a:ext cx="3425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4382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= spanning/dru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Stress is het gevolg van het langdurig onder hoge spanning functioneren.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at voor gedrag dat resulteert is voor iedereen anders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liphang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youtube.com/watch?v=-Eoq4wq1JtQ&amp;t=12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chrijf voor jezelf op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16360" y="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elke situatie heb jij stress ervar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maakte die situatie vooral stressvol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Zijn er soorten stress te onderscheid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8" name="Picture 5" descr="Afbeeldingsresultaat voor stress"/>
          <p:cNvPicPr/>
          <p:nvPr/>
        </p:nvPicPr>
        <p:blipFill>
          <a:blip r:embed="rId1"/>
          <a:stretch/>
        </p:blipFill>
        <p:spPr>
          <a:xfrm>
            <a:off x="3419640" y="3573360"/>
            <a:ext cx="46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2771640" y="1413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orsprong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is de functie van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Vroeger was het een waarschuwing op gevaa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s er honderd jaar geleden stress?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Picture 5" descr="Afbeeldingsresultaat voor oermens jagen"/>
          <p:cNvPicPr/>
          <p:nvPr/>
        </p:nvPicPr>
        <p:blipFill>
          <a:blip r:embed="rId1"/>
          <a:stretch/>
        </p:blipFill>
        <p:spPr>
          <a:xfrm>
            <a:off x="4859280" y="41497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8:18Z</dcterms:created>
  <dc:creator>AMARANTIS</dc:creator>
  <dc:description/>
  <dc:language>en-US</dc:language>
  <cp:lastModifiedBy>Anne-May Smits</cp:lastModifiedBy>
  <dcterms:modified xsi:type="dcterms:W3CDTF">2022-12-14T10:07:49Z</dcterms:modified>
  <cp:revision>23</cp:revision>
  <dc:subject/>
  <dc:title>Omgaan met stress</dc:title>
</cp:coreProperties>
</file>