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A5B-80BE-478E-9BEF-61668B4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266-11B8-410C-9AF0-12615F4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725-2362-45EB-8390-0EB4990D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753-33D0-44D6-95B1-E0BF64F6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3CCE-3B9F-4CC0-ACF9-216F5953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0AE2-EB2F-4FF4-B607-370083F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F538-DCFE-44DC-ABF2-990BF29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2607-2476-41F0-9622-643D0D2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BA2E-96C3-4B22-AF87-E7A2624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BD4A-628A-4213-9A2D-002F151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33FA-3611-48A4-A4B0-3015379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AA9-1E0B-443B-BE69-442B1B46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DDEC-AB01-4EC5-8271-F58D2CD1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F286-D304-4E15-A747-120F97C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28B-B609-4988-8DC7-BB9A88C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34F8-1FA9-442F-BE7A-98DF8843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BAEC-6106-4D81-A603-F5AFC218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C122-3140-4A65-957B-82B867D5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0486-0459-43BA-9E87-2D25FCE0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C5CC-58E3-4308-8C66-26792DAB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9A64-1DE4-4F5D-9607-3126B6F2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8168-9121-4C75-8D54-45E08B3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7DF-96FF-42D3-B520-22B0DB9A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A379-D76F-4787-BDCC-7553808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9CB3-28F8-44BF-BF55-FD1CF2D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FACC-63D9-4B06-8879-B03898A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9BBE-2BF9-400F-809E-27353AF8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BAA5-15E2-4EFA-9F75-3511D4F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A187-FFDE-4339-8463-051B770A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4F64-786B-41BC-BB8B-C40B945E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1196-8EB6-4417-92D1-CE482DA8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050F-0A82-4A33-BDD1-67F0434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7D1D-2254-4428-849E-6103579A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8FD-2184-43EB-B7C5-037E5F5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E3D5-4967-44AB-941D-041B0A63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B911-2864-4FD4-A3ED-1F5ED2C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5B1F-8F67-4187-8983-C1BD97F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5C6C-4965-40F7-BF38-F0E98AF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E4A1-39CE-4498-A38C-530F4F2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D5EA6-F6A5-4946-9496-B2EA81D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753F-4A74-4B0F-85E7-0AECA8B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8168-7CDF-4081-98C0-E2B43BAD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A3FE-9ED8-4291-A63C-F155B5B9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DB9-4563-4BE3-BBE2-05DD336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840-43E3-45BE-A992-7916281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430-4870-473A-9054-967688D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C5D-911A-4C47-9BF9-4296CF8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9A3-4C7A-438C-9994-8AB1CEC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38F2A-961C-4B2C-B3E3-D2A15C758305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6856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953400" y="762120"/>
            <a:ext cx="2193840" cy="5333760"/>
          </a:xfrm>
          <a:prstGeom prst="rect">
            <a:avLst/>
          </a:prstGeom>
          <a:solidFill>
            <a:srgbClr val="c3c3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71FF5-EA9E-4B36-96C8-91651478BFF9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81D79-A669-4E84-BA41-CF0C544B93AA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23680" y="6356520"/>
            <a:ext cx="443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FE00B-890B-4BDD-BEF4-4231D0FEA5A3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1720" y="1298520"/>
            <a:ext cx="5486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25480" y="4670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9f1f6"/>
                </a:solidFill>
                <a:latin typeface="Corbel"/>
              </a:rPr>
              <a:t>Burgerschap – Vitale dimensie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Afbeelding 2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474920"/>
            <a:ext cx="35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aat van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paraatheid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Hormoon: Adrenaline </a:t>
            </a:r>
            <a:r>
              <a:rPr b="1" lang="nl-NL" sz="19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 vluchten of vechten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komt energie vrij)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Cortsiol: stresshormoon. Komt vrij bij stress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breekt vrij gekomen energie weer af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7" name="Picture 5" descr="Afbeeldingsresultaat voor klaar voor de start"/>
          <p:cNvPicPr/>
          <p:nvPr/>
        </p:nvPicPr>
        <p:blipFill>
          <a:blip r:embed="rId1"/>
          <a:stretch/>
        </p:blipFill>
        <p:spPr>
          <a:xfrm>
            <a:off x="3005280" y="4076640"/>
            <a:ext cx="3671640" cy="245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erelateerde afbeelding"/>
          <p:cNvPicPr/>
          <p:nvPr/>
        </p:nvPicPr>
        <p:blipFill>
          <a:blip r:embed="rId2"/>
          <a:stretch/>
        </p:blipFill>
        <p:spPr>
          <a:xfrm>
            <a:off x="5435640" y="115920"/>
            <a:ext cx="316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Uiting van 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85800" indent="-182520">
              <a:lnSpc>
                <a:spcPct val="90000"/>
              </a:lnSpc>
              <a:spcBef>
                <a:spcPts val="24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Fysiek: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lapeloosheid, benauwd, hartkloppingen, zweten, weinig/veel eetlust, vermoeidheid, rusteloosheid</a:t>
            </a:r>
            <a:br>
              <a:rPr sz="1700"/>
            </a:br>
            <a:br>
              <a:rPr sz="1700"/>
            </a:b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Geestelijk: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omberheid, irritatie, slechte concentratie, emotioneel instabiel, paniek/angst, piekeren, agressie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Langdurige spanning/ ongezonde spanning =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01600" y="863640"/>
            <a:ext cx="59180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 ligt voor jou de grens van gezonde spanning en (ongezonde)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(Extra: Gevolgen Stress en de werking van de hersenen)</a:t>
            </a:r>
            <a:br>
              <a:rPr sz="1900"/>
            </a:b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BI5Mu6j7eU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f Erik schreder: https://www.youtube.com/watch?v=FMwu3fjum1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gezonde stres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Langdurige aanhoudende stress kan leiden tot ziekte: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verspann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urn-ou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Fragment Sophie in de mentale kreukel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npo.nl/sophie-in-de-mentale-kreukels/21-03-2017/BNN_101382916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07" name="Picture 2" descr="Afbeeldingsresultaat voor burn out"/>
          <p:cNvPicPr/>
          <p:nvPr/>
        </p:nvPicPr>
        <p:blipFill>
          <a:blip r:embed="rId1"/>
          <a:stretch/>
        </p:blipFill>
        <p:spPr>
          <a:xfrm>
            <a:off x="189000" y="4149720"/>
            <a:ext cx="2070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nl-NL" sz="2700" spc="-1" strike="noStrike">
                <a:solidFill>
                  <a:srgbClr val="ffffff"/>
                </a:solidFill>
                <a:latin typeface="Corbel"/>
              </a:rPr>
              <a:t>Erfelijkheid vs. karakter?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9" name="Picture 2" descr="Afbeeldingsresultaat voor draagkracht draaglast"/>
          <p:cNvPicPr/>
          <p:nvPr/>
        </p:nvPicPr>
        <p:blipFill>
          <a:blip r:embed="rId1"/>
          <a:stretch/>
        </p:blipFill>
        <p:spPr>
          <a:xfrm>
            <a:off x="2506680" y="1628640"/>
            <a:ext cx="66373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t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Ga naar onderstaande website en maak voor jezelf de stresstest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://www.psychischegezondheid.nl/index.php?action=stressometer_advisor_results&amp;alt=1&amp;sid=519960&amp;uid=0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oping = </a:t>
            </a:r>
            <a:br>
              <a:rPr sz="3000"/>
            </a:br>
            <a:r>
              <a:rPr b="0" lang="nl-NL" sz="2800" spc="-1" strike="noStrike">
                <a:solidFill>
                  <a:srgbClr val="ffffff"/>
                </a:solidFill>
                <a:latin typeface="Corbel"/>
              </a:rPr>
              <a:t>de manier waarop iemand met problemen en stress omga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43280" y="0"/>
            <a:ext cx="54864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doe jij als je gestrest ben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ontspan jij? Hoe vaak doe je di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14" name="Picture 2" descr="Afbeeldingsresultaat voor stress"/>
          <p:cNvPicPr/>
          <p:nvPr/>
        </p:nvPicPr>
        <p:blipFill>
          <a:blip r:embed="rId1"/>
          <a:stretch/>
        </p:blipFill>
        <p:spPr>
          <a:xfrm>
            <a:off x="3851280" y="3424320"/>
            <a:ext cx="3922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tspanning oefening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pHrpFy37l8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Voorzorg maatregel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eem iedere ochtend eerst tijd voor jezelf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ontspan regelmatig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herinner je regelmatig je successen, met name die keren dat je jezelf hebt overtroff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vraag jezelf aan het einde van de dag of je genoeg hebt gedaan, ondanks het feit dat je niet alles hebt afgekregen.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oteer de dingen die je de volgende dag moet do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als je in de loop van de avond dingen te binnen schieten, noteer ze en laat het los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enk na over het feit of je het soort leven leidt dat je zou willen leid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oe alles bewust, een ding te gelijk en in een rustig tempo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Blijf communicer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Als stress je leven over begint te nemen</a:t>
            </a: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 Professionele hul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ouders/verzorger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vriend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docent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de huisarts (geheimhoudingsplicht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ktijkondersteune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sycholoo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ijl: omlaag 3"/>
          <p:cNvSpPr/>
          <p:nvPr/>
        </p:nvSpPr>
        <p:spPr>
          <a:xfrm>
            <a:off x="1619280" y="3429000"/>
            <a:ext cx="360360" cy="50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984560"/>
            <a:ext cx="54864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orbel"/>
              </a:rPr>
              <a:t>Dimensie: vitaal burgerscha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39716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120"/>
                <a:gridCol w="1106640"/>
                <a:gridCol w="907920"/>
                <a:gridCol w="1355760"/>
                <a:gridCol w="1057320"/>
                <a:gridCol w="11080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3564000" y="476280"/>
            <a:ext cx="4908600" cy="3529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fbeeldingsresultaat voor stil staan"/>
          <p:cNvPicPr/>
          <p:nvPr/>
        </p:nvPicPr>
        <p:blipFill>
          <a:blip r:embed="rId3"/>
          <a:stretch/>
        </p:blipFill>
        <p:spPr>
          <a:xfrm>
            <a:off x="1258920" y="2637000"/>
            <a:ext cx="2749680" cy="3860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&amp; Burgersch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om is het relevant/belangrijk om het onderwerp stress te bespreken bij burgerschap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ebben jullie het bij andere vakken al over stress gehad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5052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Wat is st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43280" y="39060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eschrijf voor jou zelf een definitie van stress, wat versta jij hieronder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kan stress er uit zien bij jou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1" name="Picture 9" descr="Afbeeldingsresultaat voor stress"/>
          <p:cNvPicPr/>
          <p:nvPr/>
        </p:nvPicPr>
        <p:blipFill>
          <a:blip r:embed="rId1"/>
          <a:stretch/>
        </p:blipFill>
        <p:spPr>
          <a:xfrm>
            <a:off x="5349960" y="3959280"/>
            <a:ext cx="3425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4382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= spanning/dru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Stress is het gevolg van het langdurig onder hoge spanning functioneren.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at voor gedrag dat resulteert is voor iedereen anders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liphang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youtube.com/watch?v=-Eoq4wq1JtQ&amp;t=12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chrijf voor jezelf op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916360" y="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elke situatie heb jij stress ervar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maakte die situatie vooral stressvol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Zijn er soorten stress te onderscheid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8" name="Picture 5" descr="Afbeeldingsresultaat voor stress"/>
          <p:cNvPicPr/>
          <p:nvPr/>
        </p:nvPicPr>
        <p:blipFill>
          <a:blip r:embed="rId1"/>
          <a:stretch/>
        </p:blipFill>
        <p:spPr>
          <a:xfrm>
            <a:off x="3419640" y="3573360"/>
            <a:ext cx="46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2771640" y="1413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orsprong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is de functie van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Vroeger was het een waarschuwing op gevaa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s er honderd jaar geleden stress?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4" name="Picture 5" descr="Afbeeldingsresultaat voor oermens jagen"/>
          <p:cNvPicPr/>
          <p:nvPr/>
        </p:nvPicPr>
        <p:blipFill>
          <a:blip r:embed="rId1"/>
          <a:stretch/>
        </p:blipFill>
        <p:spPr>
          <a:xfrm>
            <a:off x="4859280" y="41497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8:18Z</dcterms:created>
  <dc:creator>AMARANTIS</dc:creator>
  <dc:description/>
  <dc:language>en-US</dc:language>
  <cp:lastModifiedBy>Anne-May Smits</cp:lastModifiedBy>
  <dcterms:modified xsi:type="dcterms:W3CDTF">2022-12-14T10:07:49Z</dcterms:modified>
  <cp:revision>23</cp:revision>
  <dc:subject/>
  <dc:title>Omgaan met stress</dc:title>
</cp:coreProperties>
</file>