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745-56E9-440A-B1BD-1A8F366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12B-49E1-46EE-A21B-63B169DF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8542-013D-4ED4-A4E6-6BE7CCE9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0B3-7F4B-4016-8EC9-28BA1C9A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0988-6A9E-45E3-A2CA-48FFCF484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04BA-BB38-4FEE-80FC-B0FD557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380-702E-4503-AB47-4C2D3612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1EFC-F1C5-4319-ABAF-8E0E77E9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2654-82C5-4291-80A8-368EE8B03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6A8F-8F53-4540-9EE4-B424C739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C2B3-C727-41DE-8CB2-4CBF4EEB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ADA-0136-4F59-8996-384381C8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F93E-F8B5-4CAC-B6DA-F9B7C71E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7837-F1A6-4EF4-9876-0C9A0CE0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4DD75-43A7-4ECB-82E3-B5FD2CD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FE6F-DBAF-4BB5-8760-D09A8824C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22861-1943-4F34-B5BA-D1C02CDDE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3616D-5C4B-4764-9C63-BD7D4ECA9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3AD13-209E-477B-9772-7EFFCAE5B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225D-1C18-4E2A-B7DF-2EF6395E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7C361-F44E-45E7-90E5-A5825FD5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001BD-9499-4960-B077-39059033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02DE-3570-4007-A62B-00A23F93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DBED8-AC57-4AB6-873E-483AA598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22A0-9128-40B7-95C7-F55E3F9D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E3DC1-8A7F-47B5-9B40-FDFE282D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E117-4B83-4D73-9DEF-B93F4F90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D40A4-18EC-4165-8CD2-2415A48E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97DB8-9EC3-4578-87AA-A88094D1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97A7-227C-4276-9830-FDAAA440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1375-AB39-47D0-8873-8DDE73FC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9AB73-F386-43CF-BBBB-E7E45025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4449D-1CE4-4185-B183-802B8E26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252-0867-49E9-A158-25D35C73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BBB00-A889-4BD8-A8B8-6C769E0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3987-921C-4907-B5AE-DEF91FAA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B88C-4418-4BEB-B5D1-C9D21FD9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B7003-93C0-4406-98D5-2ECA7F05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2CC4E-467B-4C81-BA75-E66F2345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B3798-4E8E-4DB4-B2E4-24695F7A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539E-074B-493A-B4D2-34CC07B3C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4F94D-7FA3-414A-8EA6-3F2DD4A5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704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12480" y="86364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0196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475704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12480" y="3538800"/>
            <a:ext cx="17665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C7B92-0CD1-4645-802A-0AB6CFDFB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879-84FE-4CF8-9E0E-A291F29F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88640" y="4928400"/>
            <a:ext cx="22114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955E-080F-4EB7-8F5D-240A0EB4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0D3A-48F9-4F9B-A6C8-5B85130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713560" y="353880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6190-2985-48F5-A337-8595550C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019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13560" y="863640"/>
            <a:ext cx="267732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01960" y="3538800"/>
            <a:ext cx="5486400" cy="24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2114-3771-4A4E-B56D-EA7B7AF8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BE15A8-67B4-41E7-8C99-5AC67ADB306C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0" y="762120"/>
            <a:ext cx="6856560" cy="533376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6953400" y="762120"/>
            <a:ext cx="2193840" cy="5333760"/>
          </a:xfrm>
          <a:prstGeom prst="rect">
            <a:avLst/>
          </a:prstGeom>
          <a:solidFill>
            <a:srgbClr val="c3c3c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E804D-2AE6-47C0-9E76-B896ABDAFD9B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01960" y="6356520"/>
            <a:ext cx="44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E9528D-5B2B-4645-83AD-B8A09C594BCE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758880"/>
            <a:ext cx="2583000" cy="5330880"/>
          </a:xfrm>
          <a:prstGeom prst="rect">
            <a:avLst/>
          </a:prstGeom>
          <a:solidFill>
            <a:srgbClr val="40b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Rectangle 37"/>
          <p:cNvSpPr/>
          <p:nvPr/>
        </p:nvSpPr>
        <p:spPr>
          <a:xfrm>
            <a:off x="8861400" y="758880"/>
            <a:ext cx="289080" cy="5330880"/>
          </a:xfrm>
          <a:prstGeom prst="rect">
            <a:avLst/>
          </a:prstGeom>
          <a:solidFill>
            <a:srgbClr val="c8c8c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Click to edit the outline text forma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con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2" marL="11430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Third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3" marL="16002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our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4" marL="205740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Fif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5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ix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lvl="6" marL="2057400" indent="-1825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Seventh Outline Level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965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23680" y="6356520"/>
            <a:ext cx="4434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975080" y="6356520"/>
            <a:ext cx="114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nl-NL" sz="1100" spc="-1" strike="noStrike">
                <a:solidFill>
                  <a:srgbClr val="40ba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C70F56-2FA6-4ED1-964C-9CC3C20B663E}" type="slidenum">
              <a:rPr b="1" lang="nl-NL" sz="1100" spc="-1" strike="noStrike">
                <a:solidFill>
                  <a:srgbClr val="40bad2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01720" y="1298520"/>
            <a:ext cx="5486400" cy="325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25480" y="4670280"/>
            <a:ext cx="5486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d9f1f6"/>
                </a:solidFill>
                <a:latin typeface="Corbel"/>
              </a:rPr>
              <a:t>Burgerschap – Vitale dimensie</a:t>
            </a:r>
            <a:endParaRPr b="0" lang="en-US" sz="20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72" name="Afbeelding 2" descr="Afbeelding met tekst&#10;&#10;Automatisch gegenereerde beschrijving"/>
          <p:cNvPicPr/>
          <p:nvPr/>
        </p:nvPicPr>
        <p:blipFill>
          <a:blip r:embed="rId1"/>
          <a:stretch/>
        </p:blipFill>
        <p:spPr>
          <a:xfrm>
            <a:off x="5219640" y="1474920"/>
            <a:ext cx="3527640" cy="39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“</a:t>
            </a: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aat van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paraatheid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Hormoon: Adrenaline </a:t>
            </a:r>
            <a:r>
              <a:rPr b="1" lang="nl-NL" sz="1900" spc="-1" strike="noStrike">
                <a:solidFill>
                  <a:srgbClr val="595959"/>
                </a:solidFill>
                <a:latin typeface="Wingdings"/>
                <a:ea typeface="Wingdings"/>
              </a:rPr>
              <a:t></a:t>
            </a: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 vluchten of vechten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komt energie vrij)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Cortsiol: stresshormoon. Komt vrij bij stress</a:t>
            </a:r>
            <a:br>
              <a:rPr sz="1900"/>
            </a:br>
            <a:r>
              <a:rPr b="1" lang="nl-NL" sz="1900" spc="-1" strike="noStrike">
                <a:solidFill>
                  <a:srgbClr val="595959"/>
                </a:solidFill>
                <a:latin typeface="Corbel"/>
              </a:rPr>
              <a:t>(breekt vrij gekomen energie weer af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7" name="Picture 5" descr="Afbeeldingsresultaat voor klaar voor de start"/>
          <p:cNvPicPr/>
          <p:nvPr/>
        </p:nvPicPr>
        <p:blipFill>
          <a:blip r:embed="rId1"/>
          <a:stretch/>
        </p:blipFill>
        <p:spPr>
          <a:xfrm>
            <a:off x="3005280" y="4076640"/>
            <a:ext cx="3671640" cy="2454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Gerelateerde afbeelding"/>
          <p:cNvPicPr/>
          <p:nvPr/>
        </p:nvPicPr>
        <p:blipFill>
          <a:blip r:embed="rId2"/>
          <a:stretch/>
        </p:blipFill>
        <p:spPr>
          <a:xfrm>
            <a:off x="5435640" y="115920"/>
            <a:ext cx="316692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Uiting van 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685800" indent="-182520">
              <a:lnSpc>
                <a:spcPct val="90000"/>
              </a:lnSpc>
              <a:spcBef>
                <a:spcPts val="24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Fysiek: 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lapeloosheid, benauwd, hartkloppingen, zweten, weinig/veel eetlust, vermoeidheid, rusteloosheid</a:t>
            </a:r>
            <a:br>
              <a:rPr sz="1700"/>
            </a:br>
            <a:br>
              <a:rPr sz="1700"/>
            </a:br>
            <a:r>
              <a:rPr b="1" lang="nl-NL" sz="1700" spc="-1" strike="noStrike">
                <a:solidFill>
                  <a:srgbClr val="595959"/>
                </a:solidFill>
                <a:latin typeface="Corbel"/>
              </a:rPr>
              <a:t>Geestelijk: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lvl="1" marL="685800" indent="-18252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595959"/>
                </a:solidFill>
                <a:latin typeface="Corbel"/>
              </a:rPr>
              <a:t>Somberheid, irritatie, slechte concentratie, emotioneel instabiel, paniek/angst, piekeren, agressie</a:t>
            </a:r>
            <a:endParaRPr b="0" lang="en-US" sz="17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Langdurige spanning/ ongezonde spanning =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01600" y="863640"/>
            <a:ext cx="591804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 ligt voor jou de grens van gezonde spanning en (ongezonde)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(Extra: Gevolgen Stress en de werking van de hersenen)</a:t>
            </a:r>
            <a:br>
              <a:rPr sz="1900"/>
            </a:b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BI5Mu6j7eU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f Erik schreder: https://www.youtube.com/watch?v=FMwu3fjum1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0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gezonde stress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Langdurige aanhoudende stress kan leiden tot ziekte: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Overspann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urn-out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Fragment Sophie in de mentale kreukel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npo.nl/sophie-in-de-mentale-kreukels/21-03-2017/BNN_101382916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07" name="Picture 2" descr="Afbeeldingsresultaat voor burn out"/>
          <p:cNvPicPr/>
          <p:nvPr/>
        </p:nvPicPr>
        <p:blipFill>
          <a:blip r:embed="rId1"/>
          <a:stretch/>
        </p:blipFill>
        <p:spPr>
          <a:xfrm>
            <a:off x="189000" y="4149720"/>
            <a:ext cx="20700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0" lang="nl-NL" sz="2700" spc="-1" strike="noStrike">
                <a:solidFill>
                  <a:srgbClr val="ffffff"/>
                </a:solidFill>
                <a:latin typeface="Corbel"/>
              </a:rPr>
              <a:t>Erfelijkheid vs. karakter?</a:t>
            </a:r>
            <a:endParaRPr b="0" lang="en-US" sz="27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09" name="Picture 2" descr="Afbeeldingsresultaat voor draagkracht draaglast"/>
          <p:cNvPicPr/>
          <p:nvPr/>
        </p:nvPicPr>
        <p:blipFill>
          <a:blip r:embed="rId1"/>
          <a:stretch/>
        </p:blipFill>
        <p:spPr>
          <a:xfrm>
            <a:off x="2506680" y="1628640"/>
            <a:ext cx="6637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tes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Ga naar onderstaande website en maak voor jezelf de stresstest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://www.psychischegezondheid.nl/index.php?action=stressometer_advisor_results&amp;alt=1&amp;sid=519960&amp;uid=0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oping = </a:t>
            </a:r>
            <a:br>
              <a:rPr sz="3000"/>
            </a:br>
            <a:r>
              <a:rPr b="0" lang="nl-NL" sz="2800" spc="-1" strike="noStrike">
                <a:solidFill>
                  <a:srgbClr val="ffffff"/>
                </a:solidFill>
                <a:latin typeface="Corbel"/>
              </a:rPr>
              <a:t>de manier waarop iemand met problemen en stress omgaa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843280" y="0"/>
            <a:ext cx="5486400" cy="34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doe jij als je gestrest ben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ontspan jij? Hoe vaak doe je dit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214" name="Picture 2" descr="Afbeeldingsresultaat voor stress"/>
          <p:cNvPicPr/>
          <p:nvPr/>
        </p:nvPicPr>
        <p:blipFill>
          <a:blip r:embed="rId1"/>
          <a:stretch/>
        </p:blipFill>
        <p:spPr>
          <a:xfrm>
            <a:off x="3851280" y="3424320"/>
            <a:ext cx="392256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ntspanning oefening!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ttps://www.youtube.com/watch?v=RpHrpFy37l8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Voorzorg maatregelen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eem iedere ochtend eerst tijd voor jezelf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ontspan regelmatig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herinner je regelmatig je successen, met name die keren dat je jezelf hebt overtroff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vraag jezelf aan het einde van de dag of je genoeg hebt gedaan, ondanks het feit dat je niet alles hebt afgekregen.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noteer de dingen die je de volgende dag moet doen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als je in de loop van de avond dingen te binnen schieten, noteer ze en laat het los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enk na over het feit of je het soort leven leidt dat je zou willen leid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doe alles bewust, een ding te gelijk en in een rustig tempo 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595959"/>
                </a:solidFill>
                <a:latin typeface="Corbel"/>
              </a:rPr>
              <a:t>Blijf communiceren </a:t>
            </a: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  <a:p>
            <a:pPr marL="180360" indent="-180360">
              <a:lnSpc>
                <a:spcPct val="6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Als stress je leven over begint te nemen</a:t>
            </a: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 Professionele hul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ouders/verzorger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vriend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je docenten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at met de huisarts (geheimhoudingsplicht)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raktijkondersteune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Psycholoog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221" name="Pijl: omlaag 3"/>
          <p:cNvSpPr/>
          <p:nvPr/>
        </p:nvSpPr>
        <p:spPr>
          <a:xfrm>
            <a:off x="1619280" y="3429000"/>
            <a:ext cx="360360" cy="504720"/>
          </a:xfrm>
          <a:prstGeom prst="down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08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4984560"/>
            <a:ext cx="5486400" cy="95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Corbel"/>
              </a:rPr>
              <a:t>Dimensie: vitaal burgerschap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08000" y="1397160"/>
          <a:ext cx="8856720" cy="1960560"/>
        </p:xfrm>
        <a:graphic>
          <a:graphicData uri="http://schemas.openxmlformats.org/drawingml/2006/table">
            <a:tbl>
              <a:tblPr/>
              <a:tblGrid>
                <a:gridCol w="957240"/>
                <a:gridCol w="1257120"/>
                <a:gridCol w="1106640"/>
                <a:gridCol w="907920"/>
                <a:gridCol w="1355760"/>
                <a:gridCol w="1057320"/>
                <a:gridCol w="1108080"/>
                <a:gridCol w="1106640"/>
              </a:tblGrid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S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0bad2"/>
                    </a:solidFill>
                  </a:tcPr>
                </a:tc>
              </a:tr>
              <a:tr h="11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tr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Hygië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rm &amp; Rijk: in de z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elu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Veilig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eks &amp; Plez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lcohol &amp; Dru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ct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e7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3564000" y="476280"/>
            <a:ext cx="4908600" cy="3529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Afbeeldingsresultaat voor stil staan"/>
          <p:cNvPicPr/>
          <p:nvPr/>
        </p:nvPicPr>
        <p:blipFill>
          <a:blip r:embed="rId3"/>
          <a:stretch/>
        </p:blipFill>
        <p:spPr>
          <a:xfrm>
            <a:off x="1258920" y="2637000"/>
            <a:ext cx="2749680" cy="386064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6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AutoShape 8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AutoShape 10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AutoShape 12"/>
          <p:cNvSpPr/>
          <p:nvPr/>
        </p:nvSpPr>
        <p:spPr>
          <a:xfrm>
            <a:off x="13824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 &amp; Burgerschap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arom is het relevant/belangrijk om het onderwerp stress te bespreken bij burgerschap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ebben jullie het bij andere vakken al over stress gehad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5052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Wat is stres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43280" y="39060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Beschrijf voor jou zelf een definitie van stress, wat versta jij hieronder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Hoe kan stress er uit zien bij jou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sp>
        <p:nvSpPr>
          <p:cNvPr id="17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1" name="Picture 9" descr="Afbeeldingsresultaat voor stress"/>
          <p:cNvPicPr/>
          <p:nvPr/>
        </p:nvPicPr>
        <p:blipFill>
          <a:blip r:embed="rId1"/>
          <a:stretch/>
        </p:blipFill>
        <p:spPr>
          <a:xfrm>
            <a:off x="5349960" y="3959280"/>
            <a:ext cx="34257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4382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tress</a:t>
            </a:r>
            <a:br>
              <a:rPr sz="3000"/>
            </a:b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= spanning/dru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Stress is het gevolg van het langdurig onder hoge spanning functioneren.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at voor gedrag dat resulteert is voor iedereen anders.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Cliphange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595959"/>
                </a:solidFill>
                <a:latin typeface="Corbel"/>
              </a:rPr>
              <a:t>https://www.youtube.com/watch?v=-Eoq4wq1JtQ&amp;t=12s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Schrijf voor jezelf op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916360" y="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In welke situatie heb jij stress ervar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maakte die situatie vooral stressvol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Zijn er soorten stress te onderscheiden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88" name="Picture 5" descr="Afbeeldingsresultaat voor stress"/>
          <p:cNvPicPr/>
          <p:nvPr/>
        </p:nvPicPr>
        <p:blipFill>
          <a:blip r:embed="rId1"/>
          <a:stretch/>
        </p:blipFill>
        <p:spPr>
          <a:xfrm>
            <a:off x="3419640" y="3573360"/>
            <a:ext cx="460836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901960" y="863640"/>
            <a:ext cx="5486400" cy="5121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Afbeeldingsresultaat voor gedicht stress"/>
          <p:cNvPicPr/>
          <p:nvPr/>
        </p:nvPicPr>
        <p:blipFill>
          <a:blip r:embed="rId2"/>
          <a:stretch/>
        </p:blipFill>
        <p:spPr>
          <a:xfrm>
            <a:off x="2771640" y="14130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88640" y="1123560"/>
            <a:ext cx="2211480" cy="46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ffffff"/>
                </a:solidFill>
                <a:latin typeface="Corbel"/>
              </a:rPr>
              <a:t>Oorsprong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901960" y="863640"/>
            <a:ext cx="5486400" cy="512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t is de functie van stress?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Vroeger was het een waarschuwing op gevaar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  <a:p>
            <a:pPr marL="182520" indent="-182520">
              <a:lnSpc>
                <a:spcPct val="90000"/>
              </a:lnSpc>
              <a:spcBef>
                <a:spcPts val="1199"/>
              </a:spcBef>
              <a:buClr>
                <a:srgbClr val="40bad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595959"/>
                </a:solidFill>
                <a:latin typeface="Corbel"/>
              </a:rPr>
              <a:t>Was er honderd jaar geleden stress? </a:t>
            </a:r>
            <a:endParaRPr b="0" lang="en-US" sz="1900" spc="-1" strike="noStrike">
              <a:solidFill>
                <a:srgbClr val="595959"/>
              </a:solidFill>
              <a:latin typeface="Corbel"/>
            </a:endParaRPr>
          </a:p>
        </p:txBody>
      </p:sp>
      <p:pic>
        <p:nvPicPr>
          <p:cNvPr id="194" name="Picture 5" descr="Afbeeldingsresultaat voor oermens jagen"/>
          <p:cNvPicPr/>
          <p:nvPr/>
        </p:nvPicPr>
        <p:blipFill>
          <a:blip r:embed="rId1"/>
          <a:stretch/>
        </p:blipFill>
        <p:spPr>
          <a:xfrm>
            <a:off x="4859280" y="4149720"/>
            <a:ext cx="38098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1:08:18Z</dcterms:created>
  <dc:creator>AMARANTIS</dc:creator>
  <dc:description/>
  <dc:language>en-US</dc:language>
  <cp:lastModifiedBy>Anne-May Smits</cp:lastModifiedBy>
  <dcterms:modified xsi:type="dcterms:W3CDTF">2022-12-14T10:07:49Z</dcterms:modified>
  <cp:revision>23</cp:revision>
  <dc:subject/>
  <dc:title>Omgaan met stress</dc:title>
</cp:coreProperties>
</file>