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477D1-5E3C-4203-B2BC-46F7EA768C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t-X-7GFANJM&amp;t=4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FC2FB-7FDA-41EE-BE1F-B76628E9FF6A}" type="slidenum">
              <a:rPr b="0" lang="nl-NL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9FA-DE4A-49BB-818D-219B4603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00A-5314-4391-8FF3-25EA6DED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1C2-4D35-4396-BBBD-AD714107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21C-EA23-44BD-BA6E-D862B219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2B4-D5BD-48E5-9719-1BC87DFF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8DDF-E93F-4509-B269-D163D85F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FECA-A5E6-45C2-97D1-6E226152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7DCE-555F-4742-B0AF-C70A721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1331-BF30-4184-BF88-6626B8A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BC4-1ED4-406A-B13A-1A330570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F1F-523A-4C7C-B8AF-73DB45F5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712-BAF5-489A-AAF8-3AA3C2C3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5107-1646-41A2-9234-A63525D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B08C-3DEB-4A16-A3E4-A2F76FB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5731-7311-4A08-AA39-ED443F50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FD1-E528-45CD-83B6-D7FE962A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C517-02FC-41EA-9DF8-D5CAFFAC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492C-8618-479F-926E-1582DF8A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24ED-0C54-4C92-91FE-BB0AE27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D761-C1AF-44EA-BAD8-F89062E4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79DA-03F8-4E96-9745-5278A426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FCB9-7C47-41FB-A941-F2B8BDA5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89C-CB4D-4A0F-842D-4F93E8E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2CDE-09C4-4863-8376-75B6F915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1BBC-FE98-417F-A42E-F28DEB2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8220-ED30-43D0-B42A-4CF875B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0A49-F997-4ADC-A7A1-36E84B5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9D2D-52F7-46D0-8B12-9334F1AA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3FA3-3875-4E56-9CDD-FBFE8318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56FB-535A-4811-88E7-F7FBFEAD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E79D-F358-43C9-9773-A948EC9D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6DDD-6F0D-473D-B552-93111330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B5E0-9A41-4B1D-B1E5-F2DF6D74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D63-9832-4084-A0BB-31E6E5C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B419-2356-488F-87BA-A4BA3510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F843-20B2-4B26-8BC2-8377ED21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1359-2146-45DA-B4F2-5DBC6941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A62B-8F40-4FAB-A772-58C6D433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2066-016F-4E19-B317-1850DC6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9A0E-9329-4C0B-BA30-2813500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B7528-6D33-4270-BD9E-9F20BE63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0ECC-EE8A-44B9-8BBD-D584E841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F02E-A6D6-4FA5-8606-C2EC8A09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E6C-F6C9-43F5-87D9-AC79CA5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C26-BEB1-4A45-A7C5-414D57A9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F92-85DE-49A7-8B60-821E4DF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EC0-6F13-4839-B519-77F96577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563-8BDB-4D07-A94C-02D837E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90610-AF0A-433A-8523-F3DE92018D8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8458E-ABE0-4993-8E18-4AF3B8352E4C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51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8A121-D944-4EC5-9066-CAEC8F40A1DD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21794-5B69-413F-9C9A-B6A7C860D036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Hygiei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95640" y="39204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      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HYGIËNE </a:t>
            </a:r>
            <a:br>
              <a:rPr sz="4800"/>
            </a:b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340000" y="1780920"/>
            <a:ext cx="590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BURGERSCHAP: HOE HOUDEN W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ZIEKTEVERWEKKERS UIT ONZE BUURT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89" name="Picture 8" descr="Hygiene Images | Free Vectors, Stock Photos &amp; PSD"/>
          <p:cNvPicPr/>
          <p:nvPr/>
        </p:nvPicPr>
        <p:blipFill>
          <a:blip r:embed="rId1"/>
          <a:stretch/>
        </p:blipFill>
        <p:spPr>
          <a:xfrm>
            <a:off x="2952720" y="3260880"/>
            <a:ext cx="4678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BURGERSCHAP: DE VITALE DIMENSI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2360" y="249228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480"/>
                <a:gridCol w="1106280"/>
                <a:gridCol w="908280"/>
                <a:gridCol w="1357200"/>
                <a:gridCol w="1057320"/>
                <a:gridCol w="11062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fkomstig van de Griekse mythologi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b8fa56"/>
                </a:solidFill>
                <a:uFillTx/>
                <a:latin typeface="Tw Cen MT"/>
                <a:hlinkClick r:id="rId1"/>
              </a:rPr>
              <a:t>Hygieia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; υγιεινή  = de godin van de gezondheid en reinheid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Hygiëne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= alle handelingen en handelingswijzen die ervoor zorgen dat mensen en dieren gezond blijven door ziekteverwekkers uit de buurt te houden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Persoonlijk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lgemen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Sociale hygiëne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OPDRACHT: HOE DAN?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denk </a:t>
            </a:r>
            <a:r>
              <a:rPr b="0" i="1" lang="nl-NL" sz="2400" spc="-1" strike="noStrike">
                <a:solidFill>
                  <a:srgbClr val="ffffff"/>
                </a:solidFill>
                <a:latin typeface="Tw Cen MT"/>
              </a:rPr>
              <a:t>een aantal voorbeelden </a:t>
            </a: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van handelingen en handeling wijzen hoe we deze ziekteverwekkers uit onze buurt houden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6" name="Picture 5" descr="Afbeeldingsresultaat voor hygiene"/>
          <p:cNvPicPr/>
          <p:nvPr/>
        </p:nvPicPr>
        <p:blipFill>
          <a:blip r:embed="rId1"/>
          <a:stretch/>
        </p:blipFill>
        <p:spPr>
          <a:xfrm>
            <a:off x="5219640" y="3645000"/>
            <a:ext cx="2040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222120"/>
            <a:ext cx="742968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OORBEELDEN HANDELINGSWIJZE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42920" y="1557360"/>
            <a:ext cx="7964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af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in bad gaan of douch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gedragen kleding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en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schoenen dragen bij riskante karweitjes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keuken schoonhoud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choon werken bij het bereiden van eten (hieronder vallen onder andere koken en het smeren van een boterham)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bederfelijke etenswaren in de koelkast bewa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terilisatie en desinfectie van besmette voorwerpen of oppervlakk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uitwerpselen in een toilet depone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rioolwaterzuivering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, PRESENTABEL &amp; PROFESSIONALITEI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esentabel zij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(</a:t>
            </a: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1) zo netjes dat je een goede indruk maakt Voorbeeld: ’representatief gekleed zijn’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Een goede indruk makend;  (3) Geschikt om te vertegenwoordige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Goed ogend (5) Een betrouwbare indruk geven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ofessioneel zij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1) niet stuntelig, goed georganiseer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heel goed en vakkund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3) Bekwaam, vakkundig, beroepsmat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Niet amateuristisch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2491920"/>
            <a:ext cx="324000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Persoonlijke hygiëne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op stage/werk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876840" y="404640"/>
            <a:ext cx="4408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33120"/>
            <a:ext cx="74296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 IN HET VERPLEEGHUI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63600" y="1341000"/>
            <a:ext cx="8548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5" name="Onlinemedia 3" descr=""/>
          <p:cNvPicPr/>
          <p:nvPr/>
        </p:nvPicPr>
        <p:blipFill>
          <a:blip r:embed="rId1"/>
          <a:stretch/>
        </p:blipFill>
        <p:spPr>
          <a:xfrm>
            <a:off x="1979640" y="1846440"/>
            <a:ext cx="5603760" cy="31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EZOEK HTTPS://WWW.ZORGVOORBETER.NL/HYGIEN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kijk eerst eens rustig deze websi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Kies dan een van de e-learnings uit en doe een poging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8" name="Afbeelding 2" descr=""/>
          <p:cNvPicPr/>
          <p:nvPr/>
        </p:nvPicPr>
        <p:blipFill>
          <a:blip r:embed="rId1"/>
          <a:srcRect l="27951" t="34600" r="40551" b="22002"/>
          <a:stretch/>
        </p:blipFill>
        <p:spPr>
          <a:xfrm>
            <a:off x="2556000" y="3516480"/>
            <a:ext cx="40320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55:44Z</dcterms:created>
  <dc:creator>Esmee Koppen</dc:creator>
  <dc:description/>
  <dc:language>en-US</dc:language>
  <cp:lastModifiedBy>Anne-May Smits</cp:lastModifiedBy>
  <dcterms:modified xsi:type="dcterms:W3CDTF">2022-12-14T10:11:25Z</dcterms:modified>
  <cp:revision>24</cp:revision>
  <dc:subject/>
  <dc:title>Hygiene over de wereld</dc:title>
</cp:coreProperties>
</file>