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7D0E-7EB8-4DCE-8E12-2496E9A2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E42D-D763-4131-BB91-A30D51D2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AB6B-B00F-406F-ABB7-A6E4837F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704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1248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90196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75704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1248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C8D3-8EE0-44E7-800C-E3B915C8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4AD3-BDE7-4C30-AD67-F2FAFB4B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B8EE-ED14-494F-8042-7D0C60E9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FE08-3EBF-4EB4-A422-E9CFFA05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CEF5-D803-4BA4-B559-22C3C27F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DEE0-5681-42AA-96E3-21A42840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88640" y="4928400"/>
            <a:ext cx="22114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4CA6-2EA9-4ED3-A0DD-6B999723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E958-B69C-4AE7-8289-A245D175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C68-5861-41EF-A40F-6AD0B388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CAD5-5410-4DDF-8427-0DD611DB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5E1F-EF84-478F-B10B-7DA33BEB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5FD5-6806-480A-93A1-FA883492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F339-C399-46C0-A9EC-619ED7E1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704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1248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90196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75704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1248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D6DC-2884-4817-B61B-EB2BF084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00581-2458-4F76-9EAA-F92318CB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00753-B73F-44F3-A265-79E39AA3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86022-BD57-47FA-B172-903171EF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4211C-63CF-4905-B22B-A87D3E53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52839-7F2B-4023-A6C4-306969A5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94A8-5FC4-4C0E-A719-C9D6D0AB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88640" y="4928400"/>
            <a:ext cx="22114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5D5B2-A857-4BED-A19C-FBD353ED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1688F-E5DF-4DD3-BE4C-0383A0E5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BD332-E3A9-4CDF-8FC3-22D806B4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F0929-6DC7-44F0-8433-3F3C7526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CDFB6-7BFF-4C40-A303-172ED94F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16F74-0F51-45AC-92A0-F04CBF49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5704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1248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90196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75704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1248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E3DEE-3142-4295-99A1-161D336F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D07F1-4722-4BF5-A632-9E6A1017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628E7-6A57-4844-8444-8A69E32A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7D342-757B-4FB5-BEED-D109B256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3071-2516-48D5-AA4A-99B4586E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1D888-BB0D-4482-9C6F-8DF001B8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C60F9-6FFB-42CF-86B4-4E005615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88640" y="4928400"/>
            <a:ext cx="22114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904DA-28C7-429D-8CB4-F69E105C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433F9-21E8-4AF0-8167-9CFCFC3F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D252A-0A90-43F4-AB4B-B90604F8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E9D65-9A27-40CD-882D-8D96610A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25834-6045-4390-A659-9EB2E91B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7026A-BD01-4ECF-9091-A44FB94D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704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1248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90196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75704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1248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C5C85-D6D6-4C4D-A722-70E1A4D4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14D-76CC-4CBD-8AAB-B0D0AB76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8640" y="4928400"/>
            <a:ext cx="22114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BFB-8D61-4FF7-BB6E-D3D0C6A6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E7D8-977D-46E3-BD10-DF63C6F6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6DAF-4760-4AFF-8E7D-177A71BE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0F25-3684-42D4-ADA9-C3BA7817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758880"/>
            <a:ext cx="25830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37"/>
          <p:cNvSpPr/>
          <p:nvPr/>
        </p:nvSpPr>
        <p:spPr>
          <a:xfrm>
            <a:off x="8861400" y="758880"/>
            <a:ext cx="28908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96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01960" y="6356520"/>
            <a:ext cx="44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75080" y="6356520"/>
            <a:ext cx="114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l-NL" sz="11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2FFE1-523E-4E22-BDA4-92B26789CA98}" type="slidenum">
              <a:rPr b="1" lang="nl-NL" sz="11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762120"/>
            <a:ext cx="6856560" cy="533376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6953400" y="762120"/>
            <a:ext cx="2193840" cy="5333760"/>
          </a:xfrm>
          <a:prstGeom prst="rect">
            <a:avLst/>
          </a:prstGeom>
          <a:solidFill>
            <a:srgbClr val="c3c3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96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901960" y="6356520"/>
            <a:ext cx="44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75080" y="6356520"/>
            <a:ext cx="114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l-NL" sz="11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5D0BF-E536-4F01-A0D0-D1D991DEAE91}" type="slidenum">
              <a:rPr b="1" lang="nl-NL" sz="11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96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901960" y="6356520"/>
            <a:ext cx="44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975080" y="6356520"/>
            <a:ext cx="114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l-NL" sz="11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CC06F-672E-4F27-B99D-C3D21875EBD1}" type="slidenum">
              <a:rPr b="1" lang="nl-NL" sz="11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758880"/>
            <a:ext cx="25830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8861400" y="758880"/>
            <a:ext cx="28908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96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23680" y="6356520"/>
            <a:ext cx="443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7975080" y="6356520"/>
            <a:ext cx="114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l-NL" sz="11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68B1B-B6E0-441A-A103-FC7A8F2D7316}" type="slidenum">
              <a:rPr b="1" lang="nl-NL" sz="11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01720" y="1298520"/>
            <a:ext cx="5486400" cy="325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Corbel"/>
              </a:rPr>
              <a:t>Stress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25480" y="46702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9f1f6"/>
                </a:solidFill>
                <a:latin typeface="Corbel"/>
              </a:rPr>
              <a:t>Burgerschap – Vitale dimensie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72" name="Afbeelding 2" descr="Afbeelding met tekst&#10;&#10;Automatisch gegenereerde beschrijving"/>
          <p:cNvPicPr/>
          <p:nvPr/>
        </p:nvPicPr>
        <p:blipFill>
          <a:blip r:embed="rId1"/>
          <a:stretch/>
        </p:blipFill>
        <p:spPr>
          <a:xfrm>
            <a:off x="5219640" y="1474920"/>
            <a:ext cx="352764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taat van</a:t>
            </a:r>
            <a:br>
              <a:rPr sz="3000"/>
            </a:b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paraatheid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595959"/>
                </a:solidFill>
                <a:latin typeface="Corbel"/>
              </a:rPr>
              <a:t>Hormoon: Adrenaline </a:t>
            </a:r>
            <a:r>
              <a:rPr b="1" lang="nl-NL" sz="19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1" lang="nl-NL" sz="1900" spc="-1" strike="noStrike">
                <a:solidFill>
                  <a:srgbClr val="595959"/>
                </a:solidFill>
                <a:latin typeface="Corbel"/>
              </a:rPr>
              <a:t> vluchten of vechten</a:t>
            </a:r>
            <a:br>
              <a:rPr sz="1900"/>
            </a:br>
            <a:r>
              <a:rPr b="1" lang="nl-NL" sz="1900" spc="-1" strike="noStrike">
                <a:solidFill>
                  <a:srgbClr val="595959"/>
                </a:solidFill>
                <a:latin typeface="Corbel"/>
              </a:rPr>
              <a:t>(komt energie vrij) 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595959"/>
                </a:solidFill>
                <a:latin typeface="Corbel"/>
              </a:rPr>
              <a:t>Cortsiol: stresshormoon. Komt vrij bij stress</a:t>
            </a:r>
            <a:br>
              <a:rPr sz="1900"/>
            </a:br>
            <a:r>
              <a:rPr b="1" lang="nl-NL" sz="1900" spc="-1" strike="noStrike">
                <a:solidFill>
                  <a:srgbClr val="595959"/>
                </a:solidFill>
                <a:latin typeface="Corbel"/>
              </a:rPr>
              <a:t>(breekt vrij gekomen energie weer af)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97" name="Picture 5" descr="Afbeeldingsresultaat voor klaar voor de start"/>
          <p:cNvPicPr/>
          <p:nvPr/>
        </p:nvPicPr>
        <p:blipFill>
          <a:blip r:embed="rId1"/>
          <a:stretch/>
        </p:blipFill>
        <p:spPr>
          <a:xfrm>
            <a:off x="3005280" y="4076640"/>
            <a:ext cx="3671640" cy="2454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Gerelateerde afbeelding"/>
          <p:cNvPicPr/>
          <p:nvPr/>
        </p:nvPicPr>
        <p:blipFill>
          <a:blip r:embed="rId2"/>
          <a:stretch/>
        </p:blipFill>
        <p:spPr>
          <a:xfrm>
            <a:off x="5435640" y="115920"/>
            <a:ext cx="316692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Uiting van stre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685800" indent="-182520">
              <a:lnSpc>
                <a:spcPct val="90000"/>
              </a:lnSpc>
              <a:spcBef>
                <a:spcPts val="24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595959"/>
                </a:solidFill>
                <a:latin typeface="Corbel"/>
              </a:rPr>
              <a:t>Fysiek: 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595959"/>
                </a:solidFill>
                <a:latin typeface="Corbel"/>
              </a:rPr>
              <a:t>Slapeloosheid, benauwd, hartkloppingen, zweten, weinig/veel eetlust, vermoeidheid, rusteloosheid</a:t>
            </a:r>
            <a:br>
              <a:rPr sz="1700"/>
            </a:br>
            <a:br>
              <a:rPr sz="1700"/>
            </a:br>
            <a:r>
              <a:rPr b="1" lang="nl-NL" sz="1700" spc="-1" strike="noStrike">
                <a:solidFill>
                  <a:srgbClr val="595959"/>
                </a:solidFill>
                <a:latin typeface="Corbel"/>
              </a:rPr>
              <a:t>Geestelijk: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595959"/>
                </a:solidFill>
                <a:latin typeface="Corbel"/>
              </a:rPr>
              <a:t>Somberheid, irritatie, slechte concentratie, emotioneel instabiel, paniek/angst, piekeren, agressie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Langdurige spanning/ ongezonde spanning =</a:t>
            </a:r>
            <a:br>
              <a:rPr sz="3000"/>
            </a:b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tre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901600" y="863640"/>
            <a:ext cx="591804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ar ligt voor jou de grens van gezonde spanning en (ongezonde) stress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(Extra: Gevolgen Stress en de werking van de hersenen)</a:t>
            </a:r>
            <a:br>
              <a:rPr sz="1900"/>
            </a:b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https://www.youtube.com/watch?v=RBI5Mu6j7eU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Of Erik schreder: https://www.youtube.com/watch?v=FMwu3fjum1g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Ongezonde stres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Langdurige aanhoudende stress kan leiden tot ziekte: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Overspannen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Burn-out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Fragment Sophie in de mentale kreukels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https://www.npo.nl/sophie-in-de-mentale-kreukels/21-03-2017/BNN_101382916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07" name="Picture 2" descr="Afbeeldingsresultaat voor burn out"/>
          <p:cNvPicPr/>
          <p:nvPr/>
        </p:nvPicPr>
        <p:blipFill>
          <a:blip r:embed="rId1"/>
          <a:stretch/>
        </p:blipFill>
        <p:spPr>
          <a:xfrm>
            <a:off x="189000" y="4149720"/>
            <a:ext cx="20700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nl-NL" sz="2700" spc="-1" strike="noStrike">
                <a:solidFill>
                  <a:srgbClr val="ffffff"/>
                </a:solidFill>
                <a:latin typeface="Corbel"/>
              </a:rPr>
              <a:t>Erfelijkheid vs. karakter?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09" name="Picture 2" descr="Afbeeldingsresultaat voor draagkracht draaglast"/>
          <p:cNvPicPr/>
          <p:nvPr/>
        </p:nvPicPr>
        <p:blipFill>
          <a:blip r:embed="rId1"/>
          <a:stretch/>
        </p:blipFill>
        <p:spPr>
          <a:xfrm>
            <a:off x="2506680" y="1628640"/>
            <a:ext cx="663732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tress te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Ga naar onderstaande website en maak voor jezelf de stresstest.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http://www.psychischegezondheid.nl/index.php?action=stressometer_advisor_results&amp;alt=1&amp;sid=519960&amp;uid=0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Coping = </a:t>
            </a:r>
            <a:br>
              <a:rPr sz="3000"/>
            </a:br>
            <a:r>
              <a:rPr b="0" lang="nl-NL" sz="2800" spc="-1" strike="noStrike">
                <a:solidFill>
                  <a:srgbClr val="ffffff"/>
                </a:solidFill>
                <a:latin typeface="Corbel"/>
              </a:rPr>
              <a:t>de manier waarop iemand met problemen en stress omga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843280" y="0"/>
            <a:ext cx="5486400" cy="34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t doe jij als je gestrest bent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Hoe ontspan jij? Hoe vaak doe je dit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14" name="Picture 2" descr="Afbeeldingsresultaat voor stress"/>
          <p:cNvPicPr/>
          <p:nvPr/>
        </p:nvPicPr>
        <p:blipFill>
          <a:blip r:embed="rId1"/>
          <a:stretch/>
        </p:blipFill>
        <p:spPr>
          <a:xfrm>
            <a:off x="3851280" y="3424320"/>
            <a:ext cx="39225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Ontspanning oefening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https://www.youtube.com/watch?v=RpHrpFy37l8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Voorzorg maatregele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neem iedere ochtend eerst tijd voor jezelf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ontspan regelmatig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herinner je regelmatig je successen, met name die keren dat je jezelf hebt overtroffen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vraag jezelf aan het einde van de dag of je genoeg hebt gedaan, ondanks het feit dat je niet alles hebt afgekregen.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noteer de dingen die je de volgende dag moet doen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als je in de loop van de avond dingen te binnen schieten, noteer ze en laat het los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denk na over het feit of je het soort leven leidt dat je zou willen leiden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doe alles bewust, een ding te gelijk en in een rustig tempo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Blijf communiceren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Als stress je leven over begint te nemen</a:t>
            </a:r>
            <a:br>
              <a:rPr sz="3000"/>
            </a:br>
            <a:br>
              <a:rPr sz="3000"/>
            </a:b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 Professionele hul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raat met je ouders/verzorgers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raat met je vrienden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raat met je docenten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raat met de huisarts (geheimhoudingsplicht)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raktijkondersteuner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sycholoog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1" name="Pijl: omlaag 3"/>
          <p:cNvSpPr/>
          <p:nvPr/>
        </p:nvSpPr>
        <p:spPr>
          <a:xfrm>
            <a:off x="1619280" y="3429000"/>
            <a:ext cx="360360" cy="50472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4984560"/>
            <a:ext cx="548640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Corbel"/>
              </a:rPr>
              <a:t>Dimensie: vitaal burgerschap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8000" y="1397160"/>
          <a:ext cx="8856720" cy="1960560"/>
        </p:xfrm>
        <a:graphic>
          <a:graphicData uri="http://schemas.openxmlformats.org/drawingml/2006/table">
            <a:tbl>
              <a:tblPr/>
              <a:tblGrid>
                <a:gridCol w="957240"/>
                <a:gridCol w="1257120"/>
                <a:gridCol w="1106640"/>
                <a:gridCol w="907920"/>
                <a:gridCol w="1355760"/>
                <a:gridCol w="1057320"/>
                <a:gridCol w="1108080"/>
                <a:gridCol w="110664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t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ygië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rm &amp; Rijk: in de z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el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eks &amp; Veiligh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eks &amp; Plez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lcohol &amp; Dru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c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901960" y="863640"/>
            <a:ext cx="5486400" cy="5121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Afbeeldingsresultaat voor gedicht stress"/>
          <p:cNvPicPr/>
          <p:nvPr/>
        </p:nvPicPr>
        <p:blipFill>
          <a:blip r:embed="rId2"/>
          <a:stretch/>
        </p:blipFill>
        <p:spPr>
          <a:xfrm>
            <a:off x="3564000" y="476280"/>
            <a:ext cx="4908600" cy="3529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Afbeeldingsresultaat voor stil staan"/>
          <p:cNvPicPr/>
          <p:nvPr/>
        </p:nvPicPr>
        <p:blipFill>
          <a:blip r:embed="rId3"/>
          <a:stretch/>
        </p:blipFill>
        <p:spPr>
          <a:xfrm>
            <a:off x="1258920" y="2637000"/>
            <a:ext cx="2749680" cy="386064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6"/>
          <p:cNvSpPr/>
          <p:nvPr/>
        </p:nvSpPr>
        <p:spPr>
          <a:xfrm>
            <a:off x="13824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13824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13824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AutoShape 12"/>
          <p:cNvSpPr/>
          <p:nvPr/>
        </p:nvSpPr>
        <p:spPr>
          <a:xfrm>
            <a:off x="13824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tress &amp; Burgerscha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arom is het relevant/belangrijk om het onderwerp stress te bespreken bij burgerschap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Hebben jullie het bij andere vakken al over stress gehad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840" y="65052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Wat is stres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843280" y="39060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Beschrijf voor jou zelf een definitie van stress, wat versta jij hieronder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Hoe kan stress er uit zien bij jou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81" name="Picture 9" descr="Afbeeldingsresultaat voor stress"/>
          <p:cNvPicPr/>
          <p:nvPr/>
        </p:nvPicPr>
        <p:blipFill>
          <a:blip r:embed="rId1"/>
          <a:stretch/>
        </p:blipFill>
        <p:spPr>
          <a:xfrm>
            <a:off x="5349960" y="3959280"/>
            <a:ext cx="34257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4382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tress</a:t>
            </a:r>
            <a:br>
              <a:rPr sz="3000"/>
            </a:b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= spanning/dru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Stress is het gevolg van het langdurig onder hoge spanning functioneren. 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In wat voor gedrag dat resulteert is voor iedereen anders.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Cliphang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https://www.youtube.com/watch?v=-Eoq4wq1JtQ&amp;t=12s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chrijf voor jezelf op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916360" y="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In welke situatie heb jij stress ervaren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t maakte die situatie vooral stressvol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Zijn er soorten stress te onderscheiden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88" name="Picture 5" descr="Afbeeldingsresultaat voor stress"/>
          <p:cNvPicPr/>
          <p:nvPr/>
        </p:nvPicPr>
        <p:blipFill>
          <a:blip r:embed="rId1"/>
          <a:stretch/>
        </p:blipFill>
        <p:spPr>
          <a:xfrm>
            <a:off x="3419640" y="3573360"/>
            <a:ext cx="460836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901960" y="863640"/>
            <a:ext cx="5486400" cy="5121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Afbeeldingsresultaat voor gedicht stress"/>
          <p:cNvPicPr/>
          <p:nvPr/>
        </p:nvPicPr>
        <p:blipFill>
          <a:blip r:embed="rId2"/>
          <a:stretch/>
        </p:blipFill>
        <p:spPr>
          <a:xfrm>
            <a:off x="2771640" y="14130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Oorsprong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t is de functie van stress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Vroeger was het een waarschuwing op gevaar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s er honderd jaar geleden stress? 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94" name="Picture 5" descr="Afbeeldingsresultaat voor oermens jagen"/>
          <p:cNvPicPr/>
          <p:nvPr/>
        </p:nvPicPr>
        <p:blipFill>
          <a:blip r:embed="rId1"/>
          <a:stretch/>
        </p:blipFill>
        <p:spPr>
          <a:xfrm>
            <a:off x="4859280" y="4149720"/>
            <a:ext cx="38098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1:08:18Z</dcterms:created>
  <dc:creator>AMARANTIS</dc:creator>
  <dc:description/>
  <dc:language>en-US</dc:language>
  <cp:lastModifiedBy>Anne-May Smits</cp:lastModifiedBy>
  <dcterms:modified xsi:type="dcterms:W3CDTF">2022-12-14T10:07:49Z</dcterms:modified>
  <cp:revision>23</cp:revision>
  <dc:subject/>
  <dc:title>Omgaan met stress</dc:title>
</cp:coreProperties>
</file>