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5923E3-6AEC-4345-A301-D3C8134649A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s://www.youtube.com/watch?v=t-X-7GFANJM&amp;t=4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CFD4E7-33A1-4E68-8E41-29A5C3F6FCAF}" type="slidenum">
              <a:rPr b="0" lang="nl-NL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F01E-9750-4AE5-96AD-88FC37B0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1D0F-5EDA-4ECC-BD09-22C777BA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3EBF-83A8-4F9C-946D-DBEB0BB7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708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791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553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708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791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FBE7-9A5A-43D1-8291-C9AAB0622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1463-D360-4D43-B46D-F547C18E5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824E-AE80-4AA6-95EE-4C39888A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EB12-A775-4DBF-BA8E-0541D492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0C9B-124A-4E56-9C8F-92F1CC4B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4508-F2C8-4B7C-9853-F82F52B5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55360" y="618840"/>
            <a:ext cx="742932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1105-B7FB-4079-A0B6-E17BD064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D56F-B5D4-4334-975A-3882C065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DCD3-5932-4F32-A594-096224B6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101B-3E1B-4F75-A21B-C302E1D3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6D3D-3081-4938-9F2F-735F8ACA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14D2-1AEA-40A1-9308-8D70A1FD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E18E-F57D-4DCB-B227-D6D442417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708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1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553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708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1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91CD-7FEF-4043-8DB8-399EC8FF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EBD74-D909-4ED1-BB46-9D1101D36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12207-E56F-4209-B19A-108EEBF2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1A2BC-DB3F-45E3-A7BE-68C298C6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4A50F-FB97-4548-83E7-6AC1C62C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F1F82-8067-4837-94F5-7A2770B5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E80A-6455-4A36-9A0E-423999D2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55360" y="618840"/>
            <a:ext cx="742932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392CE-EFF9-416C-B32F-48354B5B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1FBFA-49BE-4D3A-A43E-4FAF4BA7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DFD90-DBEC-445D-8F59-BB75364F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19BD0-3415-4816-950C-6D79906A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CC652-EE67-4D6B-9D69-FE02FE75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B3254-86F1-4CA0-944A-D7C1D1C6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708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8791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8553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708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8791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3AEA4-5FA9-4E19-AE03-E778CA7C3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CB3EB-ED7A-4216-B0B0-A568ACE0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33E3A-B803-4486-82D6-73D6D53A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DEB09-2C2B-4392-BC7F-DCEC8A35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8296-5DC6-471D-B260-42871133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1F6FD-6542-4020-9EBD-F54C3602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15A64-E509-4524-A081-7090DF81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55360" y="618840"/>
            <a:ext cx="742932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958DD-227A-478E-97DB-07BCACB1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C289D-4AA9-4750-9596-D2CC499B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7744F-7EE7-4731-8D3C-BA6F3356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F4B80-9A7A-47E7-8C85-9AA62ED4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C2170-5530-43B4-9B04-63B5ADAD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612D5-C85E-4DF3-83DA-A7E4B06C2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6708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8791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553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6708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8791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FC165-2F12-46CE-8A8C-3A4B3743D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6D5C-5084-4CAB-B8ED-99FB2C9F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55360" y="618840"/>
            <a:ext cx="742932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551E-BBB1-4E10-96DA-1593299E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B92C-299D-44AD-B3E4-F05D8C59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CEB2-AF55-46A2-BA69-5185E00A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3D9E-750C-4885-9C9B-C3DCC0BC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"/>
          <p:cNvGrpSpPr/>
          <p:nvPr/>
        </p:nvGrpSpPr>
        <p:grpSpPr>
          <a:xfrm>
            <a:off x="-14400" y="0"/>
            <a:ext cx="9042480" cy="6858000"/>
            <a:chOff x="-14400" y="0"/>
            <a:chExt cx="9042480" cy="6858000"/>
          </a:xfrm>
        </p:grpSpPr>
        <p:pic>
          <p:nvPicPr>
            <p:cNvPr id="2" name="Group 8" descr=""/>
            <p:cNvPicPr/>
            <p:nvPr/>
          </p:nvPicPr>
          <p:blipFill>
            <a:blip r:embed="rId4"/>
            <a:stretch/>
          </p:blipFill>
          <p:spPr>
            <a:xfrm>
              <a:off x="-14400" y="0"/>
              <a:ext cx="12132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Group 9" descr=""/>
            <p:cNvPicPr/>
            <p:nvPr/>
          </p:nvPicPr>
          <p:blipFill>
            <a:blip r:embed="rId5"/>
            <a:stretch/>
          </p:blipFill>
          <p:spPr>
            <a:xfrm>
              <a:off x="8357400" y="0"/>
              <a:ext cx="67068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59224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855720" y="5882760"/>
            <a:ext cx="4680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706880" y="5882760"/>
            <a:ext cx="577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DC33AC-C6B5-416B-B340-B0598EEA677F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Group 65" descr=""/>
          <p:cNvPicPr/>
          <p:nvPr/>
        </p:nvPicPr>
        <p:blipFill>
          <a:blip r:embed="rId4"/>
          <a:stretch/>
        </p:blipFill>
        <p:spPr>
          <a:xfrm>
            <a:off x="0" y="0"/>
            <a:ext cx="22986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800320" y="540972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900080" y="5409720"/>
            <a:ext cx="384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914960" y="5409720"/>
            <a:ext cx="579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C40688-EF63-40F3-AB57-E2FE81FCDBCA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7"/>
          <p:cNvGrpSpPr/>
          <p:nvPr/>
        </p:nvGrpSpPr>
        <p:grpSpPr>
          <a:xfrm>
            <a:off x="-14400" y="0"/>
            <a:ext cx="9042480" cy="6858000"/>
            <a:chOff x="-14400" y="0"/>
            <a:chExt cx="9042480" cy="6858000"/>
          </a:xfrm>
        </p:grpSpPr>
        <p:pic>
          <p:nvPicPr>
            <p:cNvPr id="90" name="Group 8" descr=""/>
            <p:cNvPicPr/>
            <p:nvPr/>
          </p:nvPicPr>
          <p:blipFill>
            <a:blip r:embed="rId4"/>
            <a:stretch/>
          </p:blipFill>
          <p:spPr>
            <a:xfrm>
              <a:off x="-14400" y="0"/>
              <a:ext cx="12132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Group 9" descr=""/>
            <p:cNvPicPr/>
            <p:nvPr/>
          </p:nvPicPr>
          <p:blipFill>
            <a:blip r:embed="rId5"/>
            <a:stretch/>
          </p:blipFill>
          <p:spPr>
            <a:xfrm>
              <a:off x="8357400" y="0"/>
              <a:ext cx="67068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TextBox 51"/>
          <p:cNvSpPr/>
          <p:nvPr/>
        </p:nvSpPr>
        <p:spPr>
          <a:xfrm>
            <a:off x="696960" y="71928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  <a:ea typeface="Trebuchet MS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3" name="TextBox 52"/>
          <p:cNvSpPr/>
          <p:nvPr/>
        </p:nvSpPr>
        <p:spPr>
          <a:xfrm>
            <a:off x="7816680" y="276552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  <a:ea typeface="Trebuchet MS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59224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855720" y="5882760"/>
            <a:ext cx="4680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706880" y="5882760"/>
            <a:ext cx="577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4C5D82-6A82-4928-ADCD-6D5D0A3469EE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7"/>
          <p:cNvGrpSpPr/>
          <p:nvPr/>
        </p:nvGrpSpPr>
        <p:grpSpPr>
          <a:xfrm>
            <a:off x="-14400" y="0"/>
            <a:ext cx="9042480" cy="6858000"/>
            <a:chOff x="-14400" y="0"/>
            <a:chExt cx="9042480" cy="6858000"/>
          </a:xfrm>
        </p:grpSpPr>
        <p:pic>
          <p:nvPicPr>
            <p:cNvPr id="137" name="Group 8" descr=""/>
            <p:cNvPicPr/>
            <p:nvPr/>
          </p:nvPicPr>
          <p:blipFill>
            <a:blip r:embed="rId4"/>
            <a:stretch/>
          </p:blipFill>
          <p:spPr>
            <a:xfrm>
              <a:off x="-14400" y="0"/>
              <a:ext cx="12132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Group 9" descr=""/>
            <p:cNvPicPr/>
            <p:nvPr/>
          </p:nvPicPr>
          <p:blipFill>
            <a:blip r:embed="rId5"/>
            <a:stretch/>
          </p:blipFill>
          <p:spPr>
            <a:xfrm>
              <a:off x="8357400" y="0"/>
              <a:ext cx="67068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59224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855720" y="5882760"/>
            <a:ext cx="4680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7706880" y="5882760"/>
            <a:ext cx="577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011F0F-7293-496E-B494-E74CDD805CE8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nl.wikipedia.org/wiki/Hygieia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95640" y="39204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ffffff"/>
                </a:solidFill>
                <a:latin typeface="Tw Cen MT"/>
              </a:rPr>
              <a:t>      </a:t>
            </a:r>
            <a:r>
              <a:rPr b="0" lang="nl-NL" sz="48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nl-NL" sz="4800" spc="-1" strike="noStrike">
                <a:solidFill>
                  <a:srgbClr val="ffffff"/>
                </a:solidFill>
                <a:latin typeface="Tw Cen MT"/>
              </a:rPr>
              <a:t>HYGIËNE </a:t>
            </a:r>
            <a:br>
              <a:rPr sz="4800"/>
            </a:br>
            <a:r>
              <a:rPr b="0" lang="nl-NL" sz="48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nl-NL" sz="48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2340000" y="1780920"/>
            <a:ext cx="590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2ffff"/>
                </a:solidFill>
                <a:latin typeface="Tw Cen MT"/>
              </a:rPr>
              <a:t>BURGERSCHAP: HOE HOUDEN WE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2ffff"/>
                </a:solidFill>
                <a:latin typeface="Tw Cen MT"/>
              </a:rPr>
              <a:t>ZIEKTEVERWEKKERS UIT ONZE BUURT?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189" name="Picture 8" descr="Hygiene Images | Free Vectors, Stock Photos &amp; PSD"/>
          <p:cNvPicPr/>
          <p:nvPr/>
        </p:nvPicPr>
        <p:blipFill>
          <a:blip r:embed="rId1"/>
          <a:stretch/>
        </p:blipFill>
        <p:spPr>
          <a:xfrm>
            <a:off x="2952720" y="3260880"/>
            <a:ext cx="467856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BURGERSCHAP: DE VITALE DIMENSIE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52360" y="2492280"/>
          <a:ext cx="8856720" cy="1960560"/>
        </p:xfrm>
        <a:graphic>
          <a:graphicData uri="http://schemas.openxmlformats.org/drawingml/2006/table">
            <a:tbl>
              <a:tblPr/>
              <a:tblGrid>
                <a:gridCol w="957240"/>
                <a:gridCol w="1257480"/>
                <a:gridCol w="1106280"/>
                <a:gridCol w="908280"/>
                <a:gridCol w="1357200"/>
                <a:gridCol w="1057320"/>
                <a:gridCol w="1106280"/>
                <a:gridCol w="110664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BS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BS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BS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BS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BS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BS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BS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BS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</a:tr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r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ygië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rm &amp; Rijk: in de zor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elu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eks &amp; Veilighe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eks &amp; Plezi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cohol &amp; Drug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ct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HYGIËNE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2124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Tw Cen MT"/>
              </a:rPr>
              <a:t> </a:t>
            </a:r>
            <a:r>
              <a:rPr b="0" lang="nl-NL" sz="2200" spc="-1" strike="noStrike">
                <a:solidFill>
                  <a:srgbClr val="ffffff"/>
                </a:solidFill>
                <a:latin typeface="Tw Cen MT"/>
              </a:rPr>
              <a:t>afkomstig van de Griekse mythologie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212400" indent="-212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b8fa56"/>
                </a:solidFill>
                <a:uFillTx/>
                <a:latin typeface="Tw Cen MT"/>
                <a:hlinkClick r:id="rId1"/>
              </a:rPr>
              <a:t>Hygieia</a:t>
            </a:r>
            <a:r>
              <a:rPr b="0" lang="nl-NL" sz="2200" spc="-1" strike="noStrike">
                <a:solidFill>
                  <a:srgbClr val="ffffff"/>
                </a:solidFill>
                <a:latin typeface="Tw Cen MT"/>
              </a:rPr>
              <a:t>; υγιεινή  = de godin van de gezondheid en reinheid.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212400" indent="-2124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Tw Cen MT"/>
              </a:rPr>
              <a:t>Hygiëne</a:t>
            </a:r>
            <a:r>
              <a:rPr b="0" lang="nl-NL" sz="2200" spc="-1" strike="noStrike">
                <a:solidFill>
                  <a:srgbClr val="ffffff"/>
                </a:solidFill>
                <a:latin typeface="Tw Cen MT"/>
              </a:rPr>
              <a:t> = alle handelingen en handelingswijzen die ervoor zorgen dat mensen en dieren gezond blijven door ziekteverwekkers uit de buurt te houden.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212400" indent="-2124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Tw Cen MT"/>
              </a:rPr>
              <a:t>Persoonlijke hygiëne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212400" indent="-2124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Tw Cen MT"/>
              </a:rPr>
              <a:t>Algemene hygiëne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212400" indent="-2124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Tw Cen MT"/>
              </a:rPr>
              <a:t>Sociale hygiëne 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212400" indent="-212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OPDRACHT: HOE DAN??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w Cen MT"/>
              </a:rPr>
              <a:t>Bedenk </a:t>
            </a:r>
            <a:r>
              <a:rPr b="0" i="1" lang="nl-NL" sz="2400" spc="-1" strike="noStrike">
                <a:solidFill>
                  <a:srgbClr val="ffffff"/>
                </a:solidFill>
                <a:latin typeface="Tw Cen MT"/>
              </a:rPr>
              <a:t>een aantal voorbeelden </a:t>
            </a:r>
            <a:r>
              <a:rPr b="0" lang="nl-NL" sz="2400" spc="-1" strike="noStrike">
                <a:solidFill>
                  <a:srgbClr val="ffffff"/>
                </a:solidFill>
                <a:latin typeface="Tw Cen MT"/>
              </a:rPr>
              <a:t>van handelingen en handeling wijzen hoe we deze ziekteverwekkers uit onze buurt houden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196" name="Picture 5" descr="Afbeeldingsresultaat voor hygiene"/>
          <p:cNvPicPr/>
          <p:nvPr/>
        </p:nvPicPr>
        <p:blipFill>
          <a:blip r:embed="rId1"/>
          <a:stretch/>
        </p:blipFill>
        <p:spPr>
          <a:xfrm>
            <a:off x="5219640" y="3645000"/>
            <a:ext cx="20401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00000" y="222120"/>
            <a:ext cx="7429680" cy="14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VOORBEELDEN HANDELINGSWIJZE 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42920" y="1557360"/>
            <a:ext cx="7964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afwassen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in bad gaan of douchen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gedragen kleding wassen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handen wassen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handschoenen dragen bij riskante karweitjes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keuken schoonhouden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schoon werken bij het bereiden van eten (hieronder vallen onder andere koken en het smeren van een boterham)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bederfelijke etenswaren in de koelkast bewaren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sterilisatie en desinfectie van besmette voorwerpen of oppervlakken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uitwerpselen in een toilet deponeren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rioolwaterzuivering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HYGIËNE, PRESENTABEL &amp; PROFESSIONALITEI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222233"/>
                </a:solidFill>
                <a:latin typeface="Open Sans"/>
              </a:rPr>
              <a:t>Presentabel zijn 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222233"/>
                </a:solidFill>
                <a:latin typeface="Open Sans"/>
              </a:rPr>
              <a:t>(</a:t>
            </a:r>
            <a:r>
              <a:rPr b="0" lang="nl-NL" sz="1600" spc="-1" strike="noStrike">
                <a:solidFill>
                  <a:srgbClr val="222233"/>
                </a:solidFill>
                <a:latin typeface="Open Sans"/>
              </a:rPr>
              <a:t>1) zo netjes dat je een goede indruk maakt Voorbeeld: ’representatief gekleed zijn’ 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22233"/>
                </a:solidFill>
                <a:latin typeface="Open Sans"/>
              </a:rPr>
              <a:t>(2) Een goede indruk makend;  (3) Geschikt om te vertegenwoordigen 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22233"/>
                </a:solidFill>
                <a:latin typeface="Open Sans"/>
              </a:rPr>
              <a:t>(4) Goed ogend (5) Een betrouwbare indruk geven.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222233"/>
                </a:solidFill>
                <a:latin typeface="Open Sans"/>
              </a:rPr>
              <a:t>Professioneel zijn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22233"/>
                </a:solidFill>
                <a:latin typeface="Open Sans"/>
              </a:rPr>
              <a:t>(1) niet stuntelig, goed georganiseerd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22233"/>
                </a:solidFill>
                <a:latin typeface="Open Sans"/>
              </a:rPr>
              <a:t>(2) heel goed en vakkundig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22233"/>
                </a:solidFill>
                <a:latin typeface="Open Sans"/>
              </a:rPr>
              <a:t>(3) Bekwaam, vakkundig, beroepsmatig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22233"/>
                </a:solidFill>
                <a:latin typeface="Open Sans"/>
              </a:rPr>
              <a:t>(4) Niet amateuristisch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24000" y="2491920"/>
            <a:ext cx="3240000" cy="13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w Cen MT"/>
              </a:rPr>
              <a:t>Persoonlijke hygiëne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w Cen MT"/>
              </a:rPr>
              <a:t>op stage/werk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3876840" y="404640"/>
            <a:ext cx="44082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3600" y="33120"/>
            <a:ext cx="742968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HYGIËNE IN HET VERPLEEGHUIS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263600" y="1341000"/>
            <a:ext cx="85485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lnSpc>
                <a:spcPct val="12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205" name="Onlinemedia 3" descr=""/>
          <p:cNvPicPr/>
          <p:nvPr/>
        </p:nvPicPr>
        <p:blipFill>
          <a:blip r:embed="rId1"/>
          <a:stretch/>
        </p:blipFill>
        <p:spPr>
          <a:xfrm>
            <a:off x="1979640" y="1846440"/>
            <a:ext cx="5603760" cy="31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14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7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BEZOEK HTTPS://WWW.ZORGVOORBETER.NL/HYGIENE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w Cen MT"/>
              </a:rPr>
              <a:t>Bekijk eerst eens rustig deze website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w Cen MT"/>
              </a:rPr>
              <a:t>Kies dan een van de e-learnings uit en doe een poging!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208" name="Afbeelding 2" descr=""/>
          <p:cNvPicPr/>
          <p:nvPr/>
        </p:nvPicPr>
        <p:blipFill>
          <a:blip r:embed="rId1"/>
          <a:srcRect l="27951" t="34600" r="40551" b="22002"/>
          <a:stretch/>
        </p:blipFill>
        <p:spPr>
          <a:xfrm>
            <a:off x="2556000" y="3516480"/>
            <a:ext cx="4032000" cy="31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4T09:55:44Z</dcterms:created>
  <dc:creator>Esmee Koppen</dc:creator>
  <dc:description/>
  <dc:language>en-US</dc:language>
  <cp:lastModifiedBy>Anne-May Smits</cp:lastModifiedBy>
  <dcterms:modified xsi:type="dcterms:W3CDTF">2022-12-14T10:11:25Z</dcterms:modified>
  <cp:revision>24</cp:revision>
  <dc:subject/>
  <dc:title>Hygiene over de wereld</dc:title>
</cp:coreProperties>
</file>