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ABA94-1575-443E-A73E-2665B40FEDC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s://www.youtube.com/watch?v=t-X-7GFANJM&amp;t=4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072F54-9B16-4165-A67C-C2366AF9A9C5}" type="slidenum">
              <a:rPr b="0" lang="nl-NL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FCBD-7C1A-4C1A-B88F-8E348DBE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3891-A01A-4530-A98C-81459B8F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893-A5A9-4F87-82EB-D65A0C03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8E77-3025-4EB6-9832-FBC06068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C50D-0EBA-4693-8511-DDF1B8AB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CCEA-05EB-46C1-92C7-376B61C4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EEE4-5BC4-402F-80DD-341D2C62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9FDC6-997A-45BC-A856-422F49E4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0D24-A7E6-4157-ADC5-EFCE0E21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C3EA5-D2F0-436A-BA57-5D1D5C64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88CE-1594-487B-AADE-2F01076E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FE36-FA84-4B70-B7AA-DE97EC9D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EAC9-912E-421B-813A-375DFF00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35AA-AFAF-4C1F-93E5-A4F0A122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282F-AD35-43B9-A5E6-9B5A49963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336B-09C4-42A7-9195-20109BBE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7F369-BF54-485E-93F1-689DB35B1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947B9-68E4-4D00-A862-64903BC44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AEC7D-BF38-4E01-95CB-A2C50BFE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520DE-CC81-4707-8B0D-A2678436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1BA5E-A07C-4907-82E5-07748D93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3E68A-99DF-425A-8635-9D01E8C51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03EE-E209-434A-91D1-E21FD2E6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9244E-F97E-4A3A-B0E9-5B40E046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C6978-1410-42A5-B8FD-293651E8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6B50C-8811-49F7-85B3-9F2950FC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F8C38-9950-4DA8-BA19-F88C57F3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33B54-ADC8-4726-BCD9-DD8D1632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9C634-61B2-4C22-B7E4-3FE03E93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93BA4-B0C0-4806-A1BC-37A4A310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A5CAB-74F0-4F1A-B8A8-BFB6B847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DD1E4-CD56-441F-B987-F26D6792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42936-E8BC-469D-8394-D0CD0F86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5B31-1412-4577-AEE4-184D50FF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73417-3662-403D-9B62-E3A782FC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F1787-6E1F-404C-8713-EE449AAD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7AAB2-B4E3-450C-A143-9B754B9D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D74E9-05DC-4F9C-B331-FE4F41FF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E90D0-A495-428B-A69C-80192EE3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47A1D-7087-4F47-9880-8511A0BF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C2000-1A04-4706-A9F3-6D51B343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13CE3-3669-423B-9F20-CA3135EF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87516-3B9C-4F86-80BA-759173A7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B1A-E8BE-4E8A-82C2-40BDC933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1235-90EA-451B-9066-22832595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203-2617-47CA-B996-10B87F93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C6A3-81E2-4152-BEE1-C1CD242A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0FD-85CB-412C-A81F-BDE669CB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2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9640E-3119-4C83-B33F-572036AD9006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Group 65" descr=""/>
          <p:cNvPicPr/>
          <p:nvPr/>
        </p:nvPicPr>
        <p:blipFill>
          <a:blip r:embed="rId4"/>
          <a:stretch/>
        </p:blipFill>
        <p:spPr>
          <a:xfrm>
            <a:off x="0" y="0"/>
            <a:ext cx="2298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800320" y="540972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900080" y="5409720"/>
            <a:ext cx="384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914960" y="5409720"/>
            <a:ext cx="579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1CB12A-200B-4553-8656-91E71965E70A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90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Box 51"/>
          <p:cNvSpPr/>
          <p:nvPr/>
        </p:nvSpPr>
        <p:spPr>
          <a:xfrm>
            <a:off x="696960" y="71928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TextBox 52"/>
          <p:cNvSpPr/>
          <p:nvPr/>
        </p:nvSpPr>
        <p:spPr>
          <a:xfrm>
            <a:off x="7816680" y="27655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ED6FB-A92D-440A-8E68-320B8B497A15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137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26F08-7A25-44AC-86FC-2E26AF8BCC7E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l.wikipedia.org/wiki/Hygieia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95640" y="39204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      </a:t>
            </a: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HYGIËNE </a:t>
            </a:r>
            <a:br>
              <a:rPr sz="4800"/>
            </a:b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	</a:t>
            </a: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2340000" y="1780920"/>
            <a:ext cx="590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2ffff"/>
                </a:solidFill>
                <a:latin typeface="Tw Cen MT"/>
              </a:rPr>
              <a:t>BURGERSCHAP: HOE HOUDEN WE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2ffff"/>
                </a:solidFill>
                <a:latin typeface="Tw Cen MT"/>
              </a:rPr>
              <a:t>ZIEKTEVERWEKKERS UIT ONZE BUURT?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89" name="Picture 8" descr="Hygiene Images | Free Vectors, Stock Photos &amp; PSD"/>
          <p:cNvPicPr/>
          <p:nvPr/>
        </p:nvPicPr>
        <p:blipFill>
          <a:blip r:embed="rId1"/>
          <a:stretch/>
        </p:blipFill>
        <p:spPr>
          <a:xfrm>
            <a:off x="2952720" y="3260880"/>
            <a:ext cx="46785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BURGERSCHAP: DE VITALE DIMENSIE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52360" y="2492280"/>
          <a:ext cx="8856720" cy="1960560"/>
        </p:xfrm>
        <a:graphic>
          <a:graphicData uri="http://schemas.openxmlformats.org/drawingml/2006/table">
            <a:tbl>
              <a:tblPr/>
              <a:tblGrid>
                <a:gridCol w="957240"/>
                <a:gridCol w="1257480"/>
                <a:gridCol w="1106280"/>
                <a:gridCol w="908280"/>
                <a:gridCol w="1357200"/>
                <a:gridCol w="1057320"/>
                <a:gridCol w="1106280"/>
                <a:gridCol w="110664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1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BS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acd4c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r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ygië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rm &amp; Rijk: in de zor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elu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ks &amp; Veilighei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eks &amp; Plez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cohol &amp; Drug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cti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d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HYGIËNE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 </a:t>
            </a: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afkomstig van de Griekse mythologi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 u="sng">
                <a:solidFill>
                  <a:srgbClr val="b8fa56"/>
                </a:solidFill>
                <a:uFillTx/>
                <a:latin typeface="Tw Cen MT"/>
                <a:hlinkClick r:id="rId1"/>
              </a:rPr>
              <a:t>Hygieia</a:t>
            </a: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; υγιεινή  = de godin van de gezondheid en reinheid.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ffff"/>
                </a:solidFill>
                <a:latin typeface="Tw Cen MT"/>
              </a:rPr>
              <a:t>Hygiëne</a:t>
            </a: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 = alle handelingen en handelingswijzen die ervoor zorgen dat mensen en dieren gezond blijven door ziekteverwekkers uit de buurt te houden.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Persoonlijke hygiën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Algemene hygiën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ffffff"/>
                </a:solidFill>
                <a:latin typeface="Tw Cen MT"/>
              </a:rPr>
              <a:t>Sociale hygiëne 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212400" indent="-212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OPDRACHT: HOE DAN??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Bedenk </a:t>
            </a:r>
            <a:r>
              <a:rPr b="0" i="1" lang="nl-NL" sz="2400" spc="-1" strike="noStrike">
                <a:solidFill>
                  <a:srgbClr val="ffffff"/>
                </a:solidFill>
                <a:latin typeface="Tw Cen MT"/>
              </a:rPr>
              <a:t>een aantal voorbeelden </a:t>
            </a: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van handelingen en handeling wijzen hoe we deze ziekteverwekkers uit onze buurt houden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96" name="Picture 5" descr="Afbeeldingsresultaat voor hygiene"/>
          <p:cNvPicPr/>
          <p:nvPr/>
        </p:nvPicPr>
        <p:blipFill>
          <a:blip r:embed="rId1"/>
          <a:stretch/>
        </p:blipFill>
        <p:spPr>
          <a:xfrm>
            <a:off x="5219640" y="3645000"/>
            <a:ext cx="20401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00000" y="222120"/>
            <a:ext cx="742968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VOORBEELDEN HANDELINGSWIJZE 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42920" y="1557360"/>
            <a:ext cx="7964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afwass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in bad gaan of douch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gedragen kleding wass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handen wass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handschoenen dragen bij riskante karweitjes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keuken schoonhoud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schoon werken bij het bereiden van eten (hieronder vallen onder andere koken en het smeren van een boterham)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bederfelijke etenswaren in de koelkast bewar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sterilisatie en desinfectie van besmette voorwerpen of oppervlakk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uitwerpselen in een toilet deponeren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ffffff"/>
                </a:solidFill>
                <a:latin typeface="Tw Cen MT"/>
              </a:rPr>
              <a:t>rioolwaterzuivering;</a:t>
            </a: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  <a:p>
            <a:pPr marL="261720" indent="-261720">
              <a:lnSpc>
                <a:spcPct val="10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HYGIËNE, PRESENTABEL &amp; PROFESSIONALITEI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222233"/>
                </a:solidFill>
                <a:latin typeface="Open Sans"/>
              </a:rPr>
              <a:t>Presentabel zijn 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222233"/>
                </a:solidFill>
                <a:latin typeface="Open Sans"/>
              </a:rPr>
              <a:t>(</a:t>
            </a: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1) zo netjes dat je een goede indruk maakt Voorbeeld: ’representatief gekleed zijn’ 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2) Een goede indruk makend;  (3) Geschikt om te vertegenwoordigen 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4) Goed ogend (5) Een betrouwbare indruk geven.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222233"/>
                </a:solidFill>
                <a:latin typeface="Open Sans"/>
              </a:rPr>
              <a:t>Professioneel zijn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1) niet stuntelig, goed georganiseerd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2) heel goed en vakkundig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3) Bekwaam, vakkundig, beroepsmatig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222233"/>
                </a:solidFill>
                <a:latin typeface="Open Sans"/>
              </a:rPr>
              <a:t>(4) Niet amateuristisch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4000" y="2491920"/>
            <a:ext cx="3240000" cy="13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Persoonlijke hygiëne 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op stage/werk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3876840" y="404640"/>
            <a:ext cx="44082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63600" y="33120"/>
            <a:ext cx="742968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HYGIËNE IN HET VERPLEEGHUI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263600" y="1341000"/>
            <a:ext cx="85485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2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72880" indent="-272880">
              <a:lnSpc>
                <a:spcPct val="120000"/>
              </a:lnSpc>
              <a:spcBef>
                <a:spcPts val="1001"/>
              </a:spcBef>
              <a:buClr>
                <a:srgbClr val="d35940"/>
              </a:buClr>
              <a:buSzPct val="12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05" name="Onlinemedia 3" descr=""/>
          <p:cNvPicPr/>
          <p:nvPr/>
        </p:nvPicPr>
        <p:blipFill>
          <a:blip r:embed="rId1"/>
          <a:stretch/>
        </p:blipFill>
        <p:spPr>
          <a:xfrm>
            <a:off x="1979640" y="1846440"/>
            <a:ext cx="5603760" cy="31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7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BEZOEK HTTPS://WWW.ZORGVOORBETER.NL/HYGIENE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Bekijk eerst eens rustig deze websit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w Cen MT"/>
              </a:rPr>
              <a:t>Kies dan een van de e-learnings uit en doe een poging!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08" name="Afbeelding 2" descr=""/>
          <p:cNvPicPr/>
          <p:nvPr/>
        </p:nvPicPr>
        <p:blipFill>
          <a:blip r:embed="rId1"/>
          <a:srcRect l="27951" t="34600" r="40551" b="22002"/>
          <a:stretch/>
        </p:blipFill>
        <p:spPr>
          <a:xfrm>
            <a:off x="2556000" y="3516480"/>
            <a:ext cx="403200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9:55:44Z</dcterms:created>
  <dc:creator>Esmee Koppen</dc:creator>
  <dc:description/>
  <dc:language>en-US</dc:language>
  <cp:lastModifiedBy>Anne-May Smits</cp:lastModifiedBy>
  <dcterms:modified xsi:type="dcterms:W3CDTF">2022-12-14T10:11:25Z</dcterms:modified>
  <cp:revision>24</cp:revision>
  <dc:subject/>
  <dc:title>Hygiene over de wereld</dc:title>
</cp:coreProperties>
</file>