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0555-14BD-4533-A086-36C72F6EFC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79C4-9974-4079-A3F6-1FE0904D215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4318-5D82-4095-8C34-AE0EAEBB50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D187-BFB0-44D3-BC4D-05341291C7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171F-B182-4509-B6B6-A074623D84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F036-AB6D-4453-853B-E3A412F41E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7227-417C-4852-80D9-68A4791FE0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DBD9-92C6-4D20-B806-0CA80A7CBB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8916-AAD4-4351-9692-61CA9D1B25B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6B36-540B-4311-8AD6-FFBC36AAEC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BF4D-584E-49E9-A9FC-A1898592369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E868-DB50-4C3F-AFD6-C0EA8FF17CB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8DD1-C22B-4F5F-8388-EFE5FF06E3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44F-281E-4531-A2D7-80BF28F1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226-91B6-4ECC-B03E-A4E3C349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558-1F0D-4A8E-994A-8593EE70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DED-D8A5-40B2-9BC0-3B5676A4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A8E-EDE3-4777-9C8A-800ECD9B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1EB-E281-4DCB-A057-E0BF18F0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DFC-6BE7-4AC7-A632-3C2AE06D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DDD-A03A-4A76-8187-11C6945C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90F-2C10-442D-8A5B-F73DB104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622-F6D6-4C90-82DA-C322501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D49-98BF-4B99-999D-7380B1E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59C-5319-4EA2-8DAC-7C23A565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EAFB-B7A9-432E-AE5E-3AEE9FEEE6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292720" y="3573360"/>
            <a:ext cx="329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omt niet zo veel voor. Nog wel als vijverrandafwerking. Lood is giftig voor vi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fbeelding 1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456408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Afbeelding 1" descr=""/>
          <p:cNvPicPr/>
          <p:nvPr/>
        </p:nvPicPr>
        <p:blipFill>
          <a:blip r:embed="rId1"/>
          <a:srcRect l="16338" t="0" r="18991" b="13385"/>
          <a:stretch/>
        </p:blipFill>
        <p:spPr>
          <a:xfrm>
            <a:off x="468360" y="2292480"/>
            <a:ext cx="3240000" cy="3254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5541840" y="183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Afbeelding 4" descr=""/>
          <p:cNvPicPr/>
          <p:nvPr/>
        </p:nvPicPr>
        <p:blipFill>
          <a:blip r:embed="rId2"/>
          <a:stretch/>
        </p:blipFill>
        <p:spPr>
          <a:xfrm>
            <a:off x="4572000" y="2292480"/>
            <a:ext cx="3760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escherming (ferro)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203640" y="2708280"/>
            <a:ext cx="4724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kken en ver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03640" y="3860640"/>
            <a:ext cx="2940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lvaniseren/verzi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3203640" y="3284640"/>
            <a:ext cx="28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lastificeren of co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6" descr="Hammerite%20-%20metaallakhoogglans"/>
          <p:cNvPicPr/>
          <p:nvPr/>
        </p:nvPicPr>
        <p:blipFill>
          <a:blip r:embed="rId1"/>
          <a:stretch/>
        </p:blipFill>
        <p:spPr>
          <a:xfrm>
            <a:off x="260280" y="1633680"/>
            <a:ext cx="2695680" cy="26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33320100"/>
          <p:cNvPicPr/>
          <p:nvPr/>
        </p:nvPicPr>
        <p:blipFill>
          <a:blip r:embed="rId2"/>
          <a:srcRect l="34776" t="16316" r="8714" b="5449"/>
          <a:stretch/>
        </p:blipFill>
        <p:spPr>
          <a:xfrm>
            <a:off x="6586560" y="177336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Verzinken01"/>
          <p:cNvPicPr/>
          <p:nvPr/>
        </p:nvPicPr>
        <p:blipFill>
          <a:blip r:embed="rId3"/>
          <a:stretch/>
        </p:blipFill>
        <p:spPr>
          <a:xfrm>
            <a:off x="177840" y="4437000"/>
            <a:ext cx="3025800" cy="2270160"/>
          </a:xfrm>
          <a:prstGeom prst="rect">
            <a:avLst/>
          </a:prstGeom>
          <a:ln w="0">
            <a:noFill/>
          </a:ln>
        </p:spPr>
      </p:pic>
      <p:pic>
        <p:nvPicPr>
          <p:cNvPr id="113" name="Afbeelding 1" descr=""/>
          <p:cNvPicPr/>
          <p:nvPr/>
        </p:nvPicPr>
        <p:blipFill>
          <a:blip r:embed="rId4"/>
          <a:stretch/>
        </p:blipFill>
        <p:spPr>
          <a:xfrm>
            <a:off x="6229440" y="4457880"/>
            <a:ext cx="22716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89040" y="1951200"/>
            <a:ext cx="77724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10htil40"/>
          <p:cNvPicPr/>
          <p:nvPr/>
        </p:nvPicPr>
        <p:blipFill>
          <a:blip r:embed="rId1"/>
          <a:stretch/>
        </p:blipFill>
        <p:spPr>
          <a:xfrm>
            <a:off x="468360" y="2492280"/>
            <a:ext cx="6192720" cy="3767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Ferro-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16286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Jzererts (IJzerox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716360" y="155736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Koolstof haalt de zuurstof uit de ver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"/>
          <p:cNvSpPr/>
          <p:nvPr/>
        </p:nvSpPr>
        <p:spPr>
          <a:xfrm flipH="1">
            <a:off x="3419640" y="1989000"/>
            <a:ext cx="1296720" cy="201636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0"/>
          <p:cNvSpPr/>
          <p:nvPr/>
        </p:nvSpPr>
        <p:spPr>
          <a:xfrm flipH="1">
            <a:off x="826560" y="2133720"/>
            <a:ext cx="576360" cy="23032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43280" y="17733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rwerking t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0" y="479736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eedijzer (taai maar minder ste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43280" y="2349360"/>
            <a:ext cx="34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ietijzer (sterk maar b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676520" y="9907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 flipH="1">
            <a:off x="3581280" y="2590920"/>
            <a:ext cx="936720" cy="936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 flipH="1">
            <a:off x="3504960" y="5029200"/>
            <a:ext cx="93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8" descr="casting_iron07"/>
          <p:cNvPicPr/>
          <p:nvPr/>
        </p:nvPicPr>
        <p:blipFill>
          <a:blip r:embed="rId1"/>
          <a:stretch/>
        </p:blipFill>
        <p:spPr>
          <a:xfrm>
            <a:off x="395280" y="134136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Soroushwerktt11"/>
          <p:cNvPicPr/>
          <p:nvPr/>
        </p:nvPicPr>
        <p:blipFill>
          <a:blip r:embed="rId2"/>
          <a:stretch/>
        </p:blipFill>
        <p:spPr>
          <a:xfrm>
            <a:off x="395280" y="3860640"/>
            <a:ext cx="30542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3132000" y="1700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rwerking t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03640" y="2349360"/>
            <a:ext cx="34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al (sterk en taa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676520" y="990720"/>
            <a:ext cx="2286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55640" y="342900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eedijzer &lt; 0,5%         Staal 0,5% en 2%           Gietijzer &gt;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13"/>
          <p:cNvSpPr/>
          <p:nvPr/>
        </p:nvSpPr>
        <p:spPr>
          <a:xfrm>
            <a:off x="826920" y="3213000"/>
            <a:ext cx="7129800" cy="576360"/>
          </a:xfrm>
          <a:custGeom>
            <a:avLst/>
            <a:gdLst>
              <a:gd name="textAreaLeft" fmla="*/ 0 w 7129800"/>
              <a:gd name="textAreaRight" fmla="*/ 7130160 w 71298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491" h="417">
                <a:moveTo>
                  <a:pt x="0" y="0"/>
                </a:moveTo>
                <a:lnTo>
                  <a:pt x="0" y="417"/>
                </a:lnTo>
                <a:lnTo>
                  <a:pt x="4491" y="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900000" y="3279600"/>
            <a:ext cx="7128000" cy="582840"/>
          </a:xfrm>
          <a:custGeom>
            <a:avLst/>
            <a:gdLst>
              <a:gd name="textAreaLeft" fmla="*/ 0 w 7128000"/>
              <a:gd name="textAreaRight" fmla="*/ 7128360 w 712800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4082" h="367">
                <a:moveTo>
                  <a:pt x="0" y="366"/>
                </a:moveTo>
                <a:lnTo>
                  <a:pt x="4081" y="0"/>
                </a:lnTo>
                <a:lnTo>
                  <a:pt x="4082" y="367"/>
                </a:lnTo>
                <a:lnTo>
                  <a:pt x="0" y="36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971640" y="321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t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093080" y="335772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Ta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132000" y="1700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erwerking t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236232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VS (roestvast staal) = legering met chroom en nikk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572000" y="525780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Ten staal = legering met k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4" descr="http://www.rots-maatwerk.nl/upload/images/s3.jpg"/>
          <p:cNvPicPr/>
          <p:nvPr/>
        </p:nvPicPr>
        <p:blipFill>
          <a:blip r:embed="rId1"/>
          <a:stretch/>
        </p:blipFill>
        <p:spPr>
          <a:xfrm>
            <a:off x="838080" y="36576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2"/>
          <a:stretch/>
        </p:blipFill>
        <p:spPr>
          <a:xfrm>
            <a:off x="6553080" y="1523880"/>
            <a:ext cx="2381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K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4398840" y="49165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iet echt geschikt voor constructie, meer voor sier zoals bepl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fbeelding 1" descr=""/>
          <p:cNvPicPr/>
          <p:nvPr/>
        </p:nvPicPr>
        <p:blipFill>
          <a:blip r:embed="rId1"/>
          <a:stretch/>
        </p:blipFill>
        <p:spPr>
          <a:xfrm>
            <a:off x="4584600" y="2435400"/>
            <a:ext cx="3992760" cy="221760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"/>
          <p:cNvPicPr/>
          <p:nvPr/>
        </p:nvPicPr>
        <p:blipFill>
          <a:blip r:embed="rId2"/>
          <a:srcRect l="29211" t="15351" r="23889" b="40013"/>
          <a:stretch/>
        </p:blipFill>
        <p:spPr>
          <a:xfrm>
            <a:off x="324000" y="3645000"/>
            <a:ext cx="3922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Z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398840" y="49165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goten beplating maar vooral als bescherming (galvanize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fbeelding 6" descr=""/>
          <p:cNvPicPr/>
          <p:nvPr/>
        </p:nvPicPr>
        <p:blipFill>
          <a:blip r:embed="rId1"/>
          <a:srcRect l="6643" t="8180" r="38155" b="40028"/>
          <a:stretch/>
        </p:blipFill>
        <p:spPr>
          <a:xfrm>
            <a:off x="324000" y="3548160"/>
            <a:ext cx="3887640" cy="2736720"/>
          </a:xfrm>
          <a:prstGeom prst="rect">
            <a:avLst/>
          </a:prstGeom>
          <a:ln w="0">
            <a:noFill/>
          </a:ln>
        </p:spPr>
      </p:pic>
      <p:pic>
        <p:nvPicPr>
          <p:cNvPr id="91" name="Afbeelding 8" descr=""/>
          <p:cNvPicPr/>
          <p:nvPr/>
        </p:nvPicPr>
        <p:blipFill>
          <a:blip r:embed="rId2"/>
          <a:stretch/>
        </p:blipFill>
        <p:spPr>
          <a:xfrm>
            <a:off x="4589640" y="1628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ferro meta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727280" y="1835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398840" y="491652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fab bouwkundige constru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fbeelding 2" descr=""/>
          <p:cNvPicPr/>
          <p:nvPr/>
        </p:nvPicPr>
        <p:blipFill>
          <a:blip r:embed="rId1"/>
          <a:stretch/>
        </p:blipFill>
        <p:spPr>
          <a:xfrm>
            <a:off x="3807000" y="1989000"/>
            <a:ext cx="504000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3" descr=""/>
          <p:cNvPicPr/>
          <p:nvPr/>
        </p:nvPicPr>
        <p:blipFill>
          <a:blip r:embed="rId2"/>
          <a:stretch/>
        </p:blipFill>
        <p:spPr>
          <a:xfrm>
            <a:off x="128520" y="2527200"/>
            <a:ext cx="4265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9T08:01:38Z</dcterms:created>
  <dc:creator>M. v. Engeland</dc:creator>
  <dc:description/>
  <dc:language>en-US</dc:language>
  <cp:lastModifiedBy>Maurice van Bijnen</cp:lastModifiedBy>
  <dcterms:modified xsi:type="dcterms:W3CDTF">2023-10-15T07:11:34Z</dcterms:modified>
  <cp:revision>33</cp:revision>
  <dc:subject/>
  <dc:title>Natuurs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413BA76AC0B944EAB06092F64590685</vt:lpwstr>
  </property>
</Properties>
</file>