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4E2C-9230-4A2F-8953-BC6FE79AAF2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6977-91FF-4493-9F91-76A6E41323F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305D-C811-4C18-A40C-0BA52E9C80D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4084-55DF-4444-B5DD-1224F1DF509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B75D-948A-4A6C-8554-80E9C58063E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1A53-0EDE-43BB-94EA-81EFCCA3389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3B89-17F8-41D5-B9AF-3DEAE8A85C1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F3D9-E4A3-4A88-9965-78680062B24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9E47-66C5-4E63-9542-B821DC030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E2B6-DDF7-475C-AC6F-4E53A151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ECC2-ACC9-4D46-BE18-E279A2E35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DCCB-6D90-4E34-AA93-039C89054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54E4-E918-41C3-8B73-B58976B7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5AF3-D759-4CC8-8494-9F061F35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51C3-0672-4223-AB17-4B8D1591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4BE0-7CA0-4D2A-9755-345F721E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9F50-0DC4-4BA8-93CF-B841507D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2299-BD24-4E42-ACCB-8BBA4465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9B17-B72B-402F-A656-4AB6110B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1DE8-0E78-499C-9620-7136DCBA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EF80-9B56-494A-ADAE-CFFE381B26A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ter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4141800" y="4065480"/>
            <a:ext cx="38268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20"/>
          <p:cNvGrpSpPr/>
          <p:nvPr/>
        </p:nvGrpSpPr>
        <p:grpSpPr>
          <a:xfrm>
            <a:off x="76320" y="-387360"/>
            <a:ext cx="3809880" cy="6477120"/>
            <a:chOff x="76320" y="-387360"/>
            <a:chExt cx="3809880" cy="6477120"/>
          </a:xfrm>
        </p:grpSpPr>
        <p:pic>
          <p:nvPicPr>
            <p:cNvPr id="85" name="Picture 21" descr="typha angustifolia zaad"/>
            <p:cNvPicPr/>
            <p:nvPr/>
          </p:nvPicPr>
          <p:blipFill>
            <a:blip r:embed="rId1"/>
            <a:stretch/>
          </p:blipFill>
          <p:spPr>
            <a:xfrm>
              <a:off x="131760" y="298440"/>
              <a:ext cx="3713400" cy="579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22"/>
            <p:cNvSpPr/>
            <p:nvPr/>
          </p:nvSpPr>
          <p:spPr>
            <a:xfrm>
              <a:off x="76320" y="-387360"/>
              <a:ext cx="380988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Rectangle 24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Times New Roman"/>
              </a:rPr>
              <a:t>6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-622080"/>
            <a:ext cx="2057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3"/>
          <p:cNvGrpSpPr/>
          <p:nvPr/>
        </p:nvGrpSpPr>
        <p:grpSpPr>
          <a:xfrm>
            <a:off x="3975120" y="189000"/>
            <a:ext cx="5113440" cy="5790600"/>
            <a:chOff x="3975120" y="189000"/>
            <a:chExt cx="5113440" cy="5790600"/>
          </a:xfrm>
        </p:grpSpPr>
        <p:pic>
          <p:nvPicPr>
            <p:cNvPr id="91" name="Picture 14" descr="typha angust bloei"/>
            <p:cNvPicPr/>
            <p:nvPr/>
          </p:nvPicPr>
          <p:blipFill>
            <a:blip r:embed="rId2">
              <a:lum bright="6000"/>
            </a:blip>
            <a:stretch/>
          </p:blipFill>
          <p:spPr>
            <a:xfrm>
              <a:off x="5727600" y="189000"/>
              <a:ext cx="3360960" cy="57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Rectangle 15"/>
            <p:cNvSpPr/>
            <p:nvPr/>
          </p:nvSpPr>
          <p:spPr>
            <a:xfrm>
              <a:off x="5118120" y="420480"/>
              <a:ext cx="609480" cy="541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6"/>
            <p:cNvSpPr/>
            <p:nvPr/>
          </p:nvSpPr>
          <p:spPr>
            <a:xfrm>
              <a:off x="4280040" y="1115280"/>
              <a:ext cx="1084320" cy="162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7"/>
            <p:cNvSpPr/>
            <p:nvPr/>
          </p:nvSpPr>
          <p:spPr>
            <a:xfrm>
              <a:off x="4280040" y="3354840"/>
              <a:ext cx="1066680" cy="46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8"/>
            <p:cNvSpPr/>
            <p:nvPr/>
          </p:nvSpPr>
          <p:spPr>
            <a:xfrm>
              <a:off x="3975120" y="2196720"/>
              <a:ext cx="1066680" cy="46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9"/>
            <p:cNvSpPr/>
            <p:nvPr/>
          </p:nvSpPr>
          <p:spPr>
            <a:xfrm>
              <a:off x="4051440" y="1038240"/>
              <a:ext cx="1066680" cy="46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ýpha angustifól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ig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286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22"/>
          <p:cNvGrpSpPr/>
          <p:nvPr/>
        </p:nvGrpSpPr>
        <p:grpSpPr>
          <a:xfrm>
            <a:off x="375840" y="-892080"/>
            <a:ext cx="8767800" cy="7178760"/>
            <a:chOff x="375840" y="-892080"/>
            <a:chExt cx="8767800" cy="7178760"/>
          </a:xfrm>
        </p:grpSpPr>
        <p:pic>
          <p:nvPicPr>
            <p:cNvPr id="101" name="Picture 12" descr="C:\Mijn documenten\waterplanten\sagittaria1.jpg"/>
            <p:cNvPicPr/>
            <p:nvPr/>
          </p:nvPicPr>
          <p:blipFill>
            <a:blip r:embed="rId1"/>
            <a:stretch/>
          </p:blipFill>
          <p:spPr>
            <a:xfrm>
              <a:off x="380880" y="-739800"/>
              <a:ext cx="4527360" cy="702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" name="Group 20"/>
            <p:cNvGrpSpPr/>
            <p:nvPr/>
          </p:nvGrpSpPr>
          <p:grpSpPr>
            <a:xfrm>
              <a:off x="609480" y="-892080"/>
              <a:ext cx="8534160" cy="6561000"/>
              <a:chOff x="609480" y="-892080"/>
              <a:chExt cx="8534160" cy="6561000"/>
            </a:xfrm>
          </p:grpSpPr>
          <p:pic>
            <p:nvPicPr>
              <p:cNvPr id="103" name="Picture 8" descr="C:\Mijn documenten\waterplanten\sagittaria2.jpg"/>
              <p:cNvPicPr/>
              <p:nvPr/>
            </p:nvPicPr>
            <p:blipFill>
              <a:blip r:embed="rId2"/>
              <a:stretch/>
            </p:blipFill>
            <p:spPr>
              <a:xfrm>
                <a:off x="609480" y="-54000"/>
                <a:ext cx="8534160" cy="572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Rectangle 19"/>
              <p:cNvSpPr/>
              <p:nvPr/>
            </p:nvSpPr>
            <p:spPr>
              <a:xfrm>
                <a:off x="609480" y="-892080"/>
                <a:ext cx="4952520" cy="838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Text Box 21"/>
            <p:cNvSpPr/>
            <p:nvPr/>
          </p:nvSpPr>
          <p:spPr>
            <a:xfrm>
              <a:off x="375840" y="373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Picture 25" descr="C:\Mijn documenten\waterplanten\sagittaria4.jpg"/>
          <p:cNvPicPr/>
          <p:nvPr/>
        </p:nvPicPr>
        <p:blipFill>
          <a:blip r:embed="rId3"/>
          <a:srcRect l="1953" t="0" r="0" b="0"/>
          <a:stretch/>
        </p:blipFill>
        <p:spPr>
          <a:xfrm>
            <a:off x="0" y="1033560"/>
            <a:ext cx="3691080" cy="5790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9"/>
          <p:cNvSpPr/>
          <p:nvPr/>
        </p:nvSpPr>
        <p:spPr>
          <a:xfrm>
            <a:off x="-22320" y="6613560"/>
            <a:ext cx="96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Arial"/>
              </a:rPr>
              <a:t>inhoud: 2 &lt;E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0"/>
          <p:cNvSpPr/>
          <p:nvPr/>
        </p:nvSpPr>
        <p:spPr>
          <a:xfrm>
            <a:off x="8828280" y="6613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Arial"/>
              </a:rPr>
              <a:t>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gittaria sagittifol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ijl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2372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34"/>
          <p:cNvGrpSpPr/>
          <p:nvPr/>
        </p:nvGrpSpPr>
        <p:grpSpPr>
          <a:xfrm>
            <a:off x="0" y="384120"/>
            <a:ext cx="8322840" cy="6629400"/>
            <a:chOff x="0" y="384120"/>
            <a:chExt cx="8322840" cy="6629400"/>
          </a:xfrm>
        </p:grpSpPr>
        <p:pic>
          <p:nvPicPr>
            <p:cNvPr id="113" name="Picture 32" descr=""/>
            <p:cNvPicPr/>
            <p:nvPr/>
          </p:nvPicPr>
          <p:blipFill>
            <a:blip r:embed="rId1">
              <a:lum bright="24000"/>
            </a:blip>
            <a:stretch/>
          </p:blipFill>
          <p:spPr>
            <a:xfrm>
              <a:off x="0" y="384120"/>
              <a:ext cx="4395600" cy="647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11" descr=""/>
            <p:cNvPicPr/>
            <p:nvPr/>
          </p:nvPicPr>
          <p:blipFill>
            <a:blip r:embed="rId2"/>
            <a:stretch/>
          </p:blipFill>
          <p:spPr>
            <a:xfrm>
              <a:off x="5028840" y="1527120"/>
              <a:ext cx="329400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Rectangle 33"/>
            <p:cNvSpPr/>
            <p:nvPr/>
          </p:nvSpPr>
          <p:spPr>
            <a:xfrm>
              <a:off x="4343040" y="384120"/>
              <a:ext cx="761760" cy="662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35"/>
          <p:cNvSpPr/>
          <p:nvPr/>
        </p:nvSpPr>
        <p:spPr>
          <a:xfrm>
            <a:off x="-22320" y="6613560"/>
            <a:ext cx="96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Arial"/>
              </a:rPr>
              <a:t>inhoud: 2 &lt;E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6"/>
          <p:cNvSpPr/>
          <p:nvPr/>
        </p:nvSpPr>
        <p:spPr>
          <a:xfrm>
            <a:off x="8828280" y="6613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ris pseudacor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e 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8" descr=""/>
          <p:cNvPicPr/>
          <p:nvPr/>
        </p:nvPicPr>
        <p:blipFill>
          <a:blip r:embed="rId1">
            <a:lum bright="6000"/>
          </a:blip>
          <a:srcRect l="23372" t="10325" r="39266" b="25431"/>
          <a:stretch/>
        </p:blipFill>
        <p:spPr>
          <a:xfrm>
            <a:off x="533520" y="380880"/>
            <a:ext cx="2209680" cy="6096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rcRect l="18972" t="0" r="24409" b="14031"/>
          <a:stretch/>
        </p:blipFill>
        <p:spPr>
          <a:xfrm>
            <a:off x="3344760" y="509760"/>
            <a:ext cx="5807160" cy="60958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000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9"/>
          <p:cNvSpPr/>
          <p:nvPr/>
        </p:nvSpPr>
        <p:spPr>
          <a:xfrm>
            <a:off x="-22320" y="6613560"/>
            <a:ext cx="96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Arial"/>
              </a:rPr>
              <a:t>inhoud: 2 &lt;E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0"/>
          <p:cNvSpPr/>
          <p:nvPr/>
        </p:nvSpPr>
        <p:spPr>
          <a:xfrm>
            <a:off x="8828280" y="6613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ntederia cor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noek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152280" y="0"/>
            <a:ext cx="4562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8" name="Group 14"/>
          <p:cNvGrpSpPr/>
          <p:nvPr/>
        </p:nvGrpSpPr>
        <p:grpSpPr>
          <a:xfrm>
            <a:off x="2806560" y="184320"/>
            <a:ext cx="6324480" cy="6400800"/>
            <a:chOff x="2806560" y="184320"/>
            <a:chExt cx="6324480" cy="6400800"/>
          </a:xfrm>
        </p:grpSpPr>
        <p:pic>
          <p:nvPicPr>
            <p:cNvPr id="129" name="Picture 12" descr=""/>
            <p:cNvPicPr/>
            <p:nvPr/>
          </p:nvPicPr>
          <p:blipFill>
            <a:blip r:embed="rId2">
              <a:lum bright="12000"/>
            </a:blip>
            <a:stretch/>
          </p:blipFill>
          <p:spPr>
            <a:xfrm>
              <a:off x="5168520" y="184320"/>
              <a:ext cx="3962520" cy="64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Rectangle 13"/>
            <p:cNvSpPr/>
            <p:nvPr/>
          </p:nvSpPr>
          <p:spPr>
            <a:xfrm>
              <a:off x="2806560" y="4604040"/>
              <a:ext cx="236196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8"/>
          <p:cNvSpPr/>
          <p:nvPr/>
        </p:nvSpPr>
        <p:spPr>
          <a:xfrm>
            <a:off x="-22320" y="6613560"/>
            <a:ext cx="96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Arial"/>
              </a:rPr>
              <a:t>inhoud: 2 &lt;E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9"/>
          <p:cNvSpPr/>
          <p:nvPr/>
        </p:nvSpPr>
        <p:spPr>
          <a:xfrm>
            <a:off x="8828280" y="6613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Arial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kstvak 1"/>
          <p:cNvSpPr/>
          <p:nvPr/>
        </p:nvSpPr>
        <p:spPr>
          <a:xfrm>
            <a:off x="4574880" y="134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tamogeton crisp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ntein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67080" y="0"/>
            <a:ext cx="4267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1" descr="calthap6"/>
          <p:cNvPicPr/>
          <p:nvPr/>
        </p:nvPicPr>
        <p:blipFill>
          <a:blip r:embed="rId1"/>
          <a:srcRect l="4185" t="4192" r="4185" b="4192"/>
          <a:stretch/>
        </p:blipFill>
        <p:spPr>
          <a:xfrm>
            <a:off x="14400" y="771480"/>
            <a:ext cx="9129600" cy="60865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6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7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18"/>
          <p:cNvGrpSpPr/>
          <p:nvPr/>
        </p:nvGrpSpPr>
        <p:grpSpPr>
          <a:xfrm>
            <a:off x="-76320" y="-100080"/>
            <a:ext cx="4953240" cy="6858000"/>
            <a:chOff x="-76320" y="-100080"/>
            <a:chExt cx="4953240" cy="6858000"/>
          </a:xfrm>
        </p:grpSpPr>
        <p:pic>
          <p:nvPicPr>
            <p:cNvPr id="138" name="Picture 16" descr=""/>
            <p:cNvPicPr/>
            <p:nvPr/>
          </p:nvPicPr>
          <p:blipFill>
            <a:blip r:embed="rId1"/>
            <a:stretch/>
          </p:blipFill>
          <p:spPr>
            <a:xfrm>
              <a:off x="-76320" y="-100080"/>
              <a:ext cx="37306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Rectangle 17"/>
            <p:cNvSpPr/>
            <p:nvPr/>
          </p:nvSpPr>
          <p:spPr>
            <a:xfrm>
              <a:off x="3657600" y="-100080"/>
              <a:ext cx="12193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Rectangle 23"/>
          <p:cNvSpPr/>
          <p:nvPr/>
        </p:nvSpPr>
        <p:spPr>
          <a:xfrm>
            <a:off x="-22320" y="6613560"/>
            <a:ext cx="96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Arial"/>
              </a:rPr>
              <a:t>inhoud: 2 &lt;E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4"/>
          <p:cNvSpPr/>
          <p:nvPr/>
        </p:nvSpPr>
        <p:spPr>
          <a:xfrm>
            <a:off x="8828280" y="6613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Arial"/>
              </a:rPr>
              <a:t>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22"/>
          <p:cNvGrpSpPr/>
          <p:nvPr/>
        </p:nvGrpSpPr>
        <p:grpSpPr>
          <a:xfrm>
            <a:off x="4518000" y="1052640"/>
            <a:ext cx="4651560" cy="3789360"/>
            <a:chOff x="4518000" y="1052640"/>
            <a:chExt cx="4651560" cy="3789360"/>
          </a:xfrm>
        </p:grpSpPr>
        <p:pic>
          <p:nvPicPr>
            <p:cNvPr id="143" name="Picture 19" descr=""/>
            <p:cNvPicPr/>
            <p:nvPr/>
          </p:nvPicPr>
          <p:blipFill>
            <a:blip r:embed="rId2"/>
            <a:srcRect l="0" t="15595" r="0" b="15049"/>
            <a:stretch/>
          </p:blipFill>
          <p:spPr>
            <a:xfrm>
              <a:off x="4518000" y="1726200"/>
              <a:ext cx="4651560" cy="296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Rectangle 20"/>
            <p:cNvSpPr/>
            <p:nvPr/>
          </p:nvSpPr>
          <p:spPr>
            <a:xfrm>
              <a:off x="4518000" y="1052640"/>
              <a:ext cx="2140200" cy="67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1"/>
            <p:cNvSpPr/>
            <p:nvPr/>
          </p:nvSpPr>
          <p:spPr>
            <a:xfrm>
              <a:off x="4518000" y="4673520"/>
              <a:ext cx="2140200" cy="16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kstvak 3"/>
          <p:cNvSpPr/>
          <p:nvPr/>
        </p:nvSpPr>
        <p:spPr>
          <a:xfrm>
            <a:off x="4716360" y="692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ythrum salica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ttensta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ltha palustr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e dotter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nuphar1"/>
          <p:cNvPicPr/>
          <p:nvPr/>
        </p:nvPicPr>
        <p:blipFill>
          <a:blip r:embed="rId1">
            <a:lum bright="6000"/>
          </a:blip>
          <a:srcRect l="4214" t="0" r="0" b="0"/>
          <a:stretch/>
        </p:blipFill>
        <p:spPr>
          <a:xfrm>
            <a:off x="152280" y="981000"/>
            <a:ext cx="5715000" cy="501012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5"/>
          <p:cNvGrpSpPr/>
          <p:nvPr/>
        </p:nvGrpSpPr>
        <p:grpSpPr>
          <a:xfrm>
            <a:off x="5943240" y="1981080"/>
            <a:ext cx="2605320" cy="1313640"/>
            <a:chOff x="5943240" y="1981080"/>
            <a:chExt cx="2605320" cy="1313640"/>
          </a:xfrm>
        </p:grpSpPr>
        <p:sp>
          <p:nvSpPr>
            <p:cNvPr id="59" name="Text Box 6"/>
            <p:cNvSpPr/>
            <p:nvPr/>
          </p:nvSpPr>
          <p:spPr>
            <a:xfrm>
              <a:off x="6629400" y="1981080"/>
              <a:ext cx="19191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333399"/>
                  </a:solidFill>
                  <a:latin typeface="Times New Roman"/>
                </a:rPr>
                <a:t>bloemen (5-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333399"/>
                  </a:solidFill>
                  <a:latin typeface="Times New Roman"/>
                </a:rPr>
                <a:t>met kelkbladen groter dan kroonblad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7"/>
            <p:cNvSpPr/>
            <p:nvPr/>
          </p:nvSpPr>
          <p:spPr>
            <a:xfrm flipH="1">
              <a:off x="5943240" y="2514600"/>
              <a:ext cx="609480" cy="0"/>
            </a:xfrm>
            <a:prstGeom prst="line">
              <a:avLst/>
            </a:prstGeom>
            <a:ln w="158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Rectangle 13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Times New Roman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uphar lute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e pl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8"/>
          <p:cNvGrpSpPr/>
          <p:nvPr/>
        </p:nvGrpSpPr>
        <p:grpSpPr>
          <a:xfrm>
            <a:off x="-108000" y="720720"/>
            <a:ext cx="8153280" cy="6019920"/>
            <a:chOff x="-108000" y="720720"/>
            <a:chExt cx="8153280" cy="6019920"/>
          </a:xfrm>
        </p:grpSpPr>
        <p:pic>
          <p:nvPicPr>
            <p:cNvPr id="66" name="Picture 9" descr="nymphaea alba"/>
            <p:cNvPicPr/>
            <p:nvPr/>
          </p:nvPicPr>
          <p:blipFill>
            <a:blip r:embed="rId1"/>
            <a:srcRect l="0" t="3289" r="0" b="10619"/>
            <a:stretch/>
          </p:blipFill>
          <p:spPr>
            <a:xfrm>
              <a:off x="-31680" y="1254240"/>
              <a:ext cx="807696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Rectangle 10"/>
            <p:cNvSpPr/>
            <p:nvPr/>
          </p:nvSpPr>
          <p:spPr>
            <a:xfrm>
              <a:off x="-108000" y="720720"/>
              <a:ext cx="457164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Picture 11" descr="nymphaea alba2"/>
          <p:cNvPicPr/>
          <p:nvPr/>
        </p:nvPicPr>
        <p:blipFill>
          <a:blip r:embed="rId2"/>
          <a:srcRect l="15330" t="0" r="0" b="21968"/>
          <a:stretch/>
        </p:blipFill>
        <p:spPr>
          <a:xfrm>
            <a:off x="5413320" y="-22320"/>
            <a:ext cx="3730680" cy="38102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2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3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Times New Roman"/>
              </a:rPr>
              <a:t>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ymphaea alb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itte waterle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2"/>
          <p:cNvGrpSpPr/>
          <p:nvPr/>
        </p:nvGrpSpPr>
        <p:grpSpPr>
          <a:xfrm>
            <a:off x="380880" y="-531720"/>
            <a:ext cx="8763120" cy="6256080"/>
            <a:chOff x="380880" y="-531720"/>
            <a:chExt cx="8763120" cy="6256080"/>
          </a:xfrm>
        </p:grpSpPr>
        <p:pic>
          <p:nvPicPr>
            <p:cNvPr id="75" name="Picture 23" descr="stratiotes boven water"/>
            <p:cNvPicPr/>
            <p:nvPr/>
          </p:nvPicPr>
          <p:blipFill>
            <a:blip r:embed="rId1"/>
            <a:stretch/>
          </p:blipFill>
          <p:spPr>
            <a:xfrm>
              <a:off x="380880" y="1440"/>
              <a:ext cx="8763120" cy="572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24"/>
            <p:cNvSpPr/>
            <p:nvPr/>
          </p:nvSpPr>
          <p:spPr>
            <a:xfrm>
              <a:off x="380880" y="-531720"/>
              <a:ext cx="182520" cy="40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" name="Picture 25" descr="stratiotes aloides1"/>
          <p:cNvPicPr/>
          <p:nvPr/>
        </p:nvPicPr>
        <p:blipFill>
          <a:blip r:embed="rId2"/>
          <a:stretch/>
        </p:blipFill>
        <p:spPr>
          <a:xfrm>
            <a:off x="23760" y="1219320"/>
            <a:ext cx="3451320" cy="56386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86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8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9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Times New Roman"/>
              </a:rPr>
              <a:t>6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ratiotes aloi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abbesch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9:25:39Z</dcterms:created>
  <dc:creator>johan</dc:creator>
  <dc:description/>
  <dc:language>en-US</dc:language>
  <cp:lastModifiedBy>Hannie Kwant - van der Hulst</cp:lastModifiedBy>
  <dcterms:modified xsi:type="dcterms:W3CDTF">2022-11-28T18:24:43Z</dcterms:modified>
  <cp:revision>20</cp:revision>
  <dc:subject/>
  <dc:title>waterplanten</dc:title>
</cp:coreProperties>
</file>