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77E-0528-402A-8141-187778D7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6EB-5E0F-4A32-9051-BF4D2314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20E-B12B-4DA6-959E-21E10164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7B4-8B9D-4AF0-A68E-655C5AC7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4FFD-42BB-415D-93AD-9EB3FF24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9EF3-57C6-4238-865A-8BF059D9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4C02-736A-41DB-817B-56BAC54B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F911-7E22-4852-B2CD-4B20C138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A379-8E97-4B81-A1D3-D8EFEDAF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EAEF-EEB2-4299-B871-A88FDE4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7AAF-003F-43BF-A583-D4E0BA83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F9E-CAA6-478C-A15B-D6E1CEA0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BC5E-F52A-4A8C-9893-F1A70BE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0B5A-966F-4078-A327-A751A03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031A-4514-49C7-9C46-95139826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4344-86F9-4E69-8B88-08F74953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A9C3-FC89-4543-AB88-C7754DC3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62F8-A4C8-4D98-85DB-BB42667D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19B8-15FD-403F-B4F0-71C3F78C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320A-F643-4BFB-A9B4-74449A18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6706-7EEF-4052-8251-B86A8EB8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4ECF-55FD-47D7-932A-A58860DD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4EB-8D3C-4C0E-87B0-A6912CAD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1A43-5185-4249-8F79-174496A7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CEEFC-E1B8-433A-B9D8-DE366A5F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EE29-968D-4E3C-88F7-9691728A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32EE-A933-41ED-8D50-5ABDBEF2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19AC-CA9C-490B-B547-A7B5DFAB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B8A2F-DA4F-4D42-9561-72881C7F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87538-0C9B-4C57-9BE3-F79491BA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D63-159C-4A24-8B83-62667B1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CC6-4DEF-4E9A-B4D8-E144D5FD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DC1-FAE8-4238-93ED-95ABF906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06A-06EA-440D-AF17-08681ED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147-8694-4AE5-BBC1-2B2C0B6F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B33-A2D9-40BA-A26E-67DDE7F5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03D5-A441-46F2-82D3-4A410F529813}" type="slidenum">
              <a:rPr b="1" lang="nl-NL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6392-5FEE-4940-87AF-3879CB673DC2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A518-464D-40BC-B89E-ECE69DEE853F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LES 1C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BIJBELSTUDIE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wat de bijbel zegt over occultis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hoe het leven van mensen verandert die met occultisme te maken krijgen of er juist van bevrijd wo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vertellen wie er kan zorgen voor bevrijding uit de occulte wer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23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WAS OOK AL WE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7120" y="1700280"/>
            <a:ext cx="329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ccultis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Occultisme – Het enige Bijbelse Fundament"/>
          <p:cNvPicPr/>
          <p:nvPr/>
        </p:nvPicPr>
        <p:blipFill>
          <a:blip r:embed="rId1"/>
          <a:stretch/>
        </p:blipFill>
        <p:spPr>
          <a:xfrm>
            <a:off x="4788000" y="2133720"/>
            <a:ext cx="29527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57913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Occultis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terlijk: verborgen of gehe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natuurlij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zichtbare werk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aat dus over niet zien, maar er wel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kan het goede en het kwade aanw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e beïnvloe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592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fez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 Ten slotte, zoek uw kracht in de Heer, in de kracht van zijn mach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1 Trek de wapenrusting van God aan om stand te kunnen houden tegen de listen van de duiv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 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oek op: 1 Johannes 1: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 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an alle tij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: Saul in 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ulus op verschillende plaat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ddeleeuwen: hekserij, weerw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an Kees van der Hart</cp:lastModifiedBy>
  <dcterms:modified xsi:type="dcterms:W3CDTF">2022-09-07T19:15:55Z</dcterms:modified>
  <cp:revision>11</cp:revision>
  <dc:subject/>
  <dc:title>Inleiding Occultisme</dc:title>
</cp:coreProperties>
</file>