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8A1-0F6F-47C2-B0F1-3809CC95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156-7DB2-4A77-9B19-27457192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E3A-DB7E-4193-A751-802E1366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373-5EC9-4ACB-BABC-EBB329C9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6FF0-0A22-4375-A095-C411E75C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974F-6987-460C-BBFF-08C29C2F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6016-8967-4414-AC8F-C6DC285E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4F5F-1515-4B65-89CE-946313F8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7E7E-2EDF-4151-A0BB-B20DBFB6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4B66-04F8-4FAC-AA70-55C8EBA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AB96-E7D9-43BE-9964-763BB917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7EC-D496-4C5E-81E7-7D9A46E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C1C3-9A3C-460D-AB86-D5C0C07A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51FD-5CC4-4A94-B2F9-82B874C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4085-AC70-4CCD-B81C-2F7ED2E2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A5EF-AB59-45DD-BB56-2D8C8028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B27D-C6CC-4433-83ED-41488B00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26BF-6D77-4F4C-BE1B-97C5E19F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C47F-7A2D-4479-90C3-855F8AF0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7A4F-D986-4859-983D-0A332732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3600-1789-4E9F-A36D-58940B79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D31E-CF96-49D5-BD04-2CAF5F2C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B2E-4D55-438D-834A-F217F6B6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A9E9-3A1D-4635-8BBF-1AD27CF2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DE82-8832-42DF-A6D9-3AC549B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1E24-B574-42DA-8EDB-DBE0702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ED996-E080-4ED8-A690-E21B28DB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19B0-04F4-4F79-91D8-3EBBEEF0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33FF-A960-4799-A11D-10F39979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D909-E7CD-42B5-8605-B9449EAE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10A-9011-4B46-BAAD-E8824968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7B3-2AB2-470A-94C6-C5484295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9FF-21C0-42CF-BC67-70E3A21F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D56-D351-4974-8727-FA45F02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7C5-F4E4-46A4-BC9D-1289773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DE3-B691-4A00-B087-0516E00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54E2-3006-459B-86FB-4847013C9E28}" type="slidenum">
              <a:rPr b="1" lang="nl-NL" sz="2400" spc="-1" strike="noStrike">
                <a:solidFill>
                  <a:srgbClr val="d1282e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9D9E-6E54-4FE3-BB18-116C4B4A6042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836-C6E3-4A83-99E6-4544E0DF8159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ken.wikiwijs.nl/189843/Occultism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8" descr=""/>
          <p:cNvPicPr/>
          <p:nvPr/>
        </p:nvPicPr>
        <p:blipFill>
          <a:blip r:embed="rId1"/>
          <a:srcRect l="17713" t="16821" r="17713" b="5276"/>
          <a:stretch/>
        </p:blipFill>
        <p:spPr>
          <a:xfrm>
            <a:off x="324000" y="907920"/>
            <a:ext cx="8208720" cy="5407200"/>
          </a:xfrm>
          <a:prstGeom prst="rect">
            <a:avLst/>
          </a:prstGeom>
          <a:ln w="0">
            <a:noFill/>
          </a:ln>
        </p:spPr>
      </p:pic>
      <p:pic>
        <p:nvPicPr>
          <p:cNvPr id="131" name="Inkt 9" descr=""/>
          <p:cNvPicPr/>
          <p:nvPr/>
        </p:nvPicPr>
        <p:blipFill>
          <a:blip r:embed="rId2"/>
          <a:stretch/>
        </p:blipFill>
        <p:spPr>
          <a:xfrm>
            <a:off x="3186000" y="6294600"/>
            <a:ext cx="293544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3"/>
          <p:cNvSpPr/>
          <p:nvPr/>
        </p:nvSpPr>
        <p:spPr>
          <a:xfrm>
            <a:off x="468360" y="10526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eb8803"/>
                </a:solidFill>
                <a:uFillTx/>
                <a:latin typeface="Constantia"/>
                <a:ea typeface="Constantia"/>
              </a:rPr>
              <a:t>https://www.youtube.com/watch?v=57gQl9UME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10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6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transcede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stij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a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wat buiten je waarneming plaatsvin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TWEE WERELD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Aarde, hemelsferen, hem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 Het geloof legt de grondslag voor alles waarop we hopen, het overtuigt ons van de waarheid van wat we niet zi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 Om hun geloof werden de mensen uit vroeger tijden geprez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 Door geloof komen we tot het inzicht dat de wereld door het woord van God geordend is, dat dus het zichtbare is ontstaan uit het niet-zichtba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r. 1:1-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924280"/>
            <a:ext cx="727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IS GELOVEN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rcRect l="17713" t="18260" r="16925" b="8161"/>
          <a:stretch/>
        </p:blipFill>
        <p:spPr>
          <a:xfrm>
            <a:off x="403200" y="814320"/>
            <a:ext cx="8358120" cy="5135760"/>
          </a:xfrm>
          <a:prstGeom prst="rect">
            <a:avLst/>
          </a:prstGeom>
          <a:ln w="0">
            <a:noFill/>
          </a:ln>
        </p:spPr>
      </p:pic>
      <p:pic>
        <p:nvPicPr>
          <p:cNvPr id="134" name="Inkt 6" descr=""/>
          <p:cNvPicPr/>
          <p:nvPr/>
        </p:nvPicPr>
        <p:blipFill>
          <a:blip r:embed="rId2"/>
          <a:stretch/>
        </p:blipFill>
        <p:spPr>
          <a:xfrm>
            <a:off x="3355920" y="6213600"/>
            <a:ext cx="2440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ffffff"/>
                </a:solidFill>
                <a:latin typeface="Arial Black"/>
              </a:rPr>
              <a:t>LES 1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ER IS MEER TUSSEN HEMEL EN AAR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ERKWIJZE G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ee lessen per week (di-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3 thema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iode 1: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rtfolio (zie E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t 3" descr=""/>
          <p:cNvPicPr/>
          <p:nvPr/>
        </p:nvPicPr>
        <p:blipFill>
          <a:blip r:embed="rId1"/>
          <a:stretch/>
        </p:blipFill>
        <p:spPr>
          <a:xfrm>
            <a:off x="3106800" y="2689200"/>
            <a:ext cx="17280" cy="17640"/>
          </a:xfrm>
          <a:prstGeom prst="rect">
            <a:avLst/>
          </a:prstGeom>
          <a:ln w="0">
            <a:noFill/>
          </a:ln>
        </p:spPr>
      </p:pic>
      <p:pic>
        <p:nvPicPr>
          <p:cNvPr id="140" name="Inkt 4" descr=""/>
          <p:cNvPicPr/>
          <p:nvPr/>
        </p:nvPicPr>
        <p:blipFill>
          <a:blip r:embed="rId2"/>
          <a:stretch/>
        </p:blipFill>
        <p:spPr>
          <a:xfrm>
            <a:off x="1685880" y="3160800"/>
            <a:ext cx="190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NLINE LESMATERIAA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maken.wikiwijs.nl/189843/Occultism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STELL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ageer op de stel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FO’s bestaan niet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3" descr=""/>
          <p:cNvPicPr/>
          <p:nvPr/>
        </p:nvPicPr>
        <p:blipFill>
          <a:blip r:embed="rId1"/>
          <a:stretch/>
        </p:blipFill>
        <p:spPr>
          <a:xfrm>
            <a:off x="3541680" y="3573360"/>
            <a:ext cx="4535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1282e"/>
                </a:solidFill>
                <a:latin typeface="Arial Black"/>
              </a:rPr>
              <a:t>IK ZIE, IK ZIE WAT JIJ NIET ZIET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Afbeelding 3" descr="http://1.bp.blogspot.com/-jO9WfTQErUk/TkTSlayhSYI/AAAAAAAAD4g/2pTMl1aNarU/s400/7_8+Veel+wind.jpg"/>
          <p:cNvPicPr/>
          <p:nvPr/>
        </p:nvPicPr>
        <p:blipFill>
          <a:blip r:embed="rId1"/>
          <a:stretch/>
        </p:blipFill>
        <p:spPr>
          <a:xfrm>
            <a:off x="1351080" y="2205000"/>
            <a:ext cx="58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het verschil tussen de zichtbare en niet zichtbare werkelijkheid (werel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onder woorden brengen wat geloven 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wat transcendent betek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holyhome.nl/occult.gif"/>
          <p:cNvPicPr/>
          <p:nvPr/>
        </p:nvPicPr>
        <p:blipFill>
          <a:blip r:embed="rId1"/>
          <a:stretch/>
        </p:blipFill>
        <p:spPr>
          <a:xfrm>
            <a:off x="5364000" y="4221000"/>
            <a:ext cx="270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MAKE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.C. van der Hart</cp:lastModifiedBy>
  <dcterms:modified xsi:type="dcterms:W3CDTF">2022-08-30T10:57:35Z</dcterms:modified>
  <cp:revision>27</cp:revision>
  <dc:subject/>
  <dc:title>Inleiding Occultisme</dc:title>
</cp:coreProperties>
</file>