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1E0-94B0-45BB-8F95-698E446A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DEC-66B8-4E8B-8882-AE1C07F0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EE97-C507-48BF-9055-5E77A653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A8A-B258-4971-9D04-8380E4B8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06E9-4CAD-425F-8FD0-F3EFF6BF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6F0D-8B73-4B4D-BDB0-15396214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C8F3-78B9-44E4-AC2F-E4EF6F93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F697-725C-43F8-8487-4D97EDCF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C0A7-F578-4B3D-9D61-4C642A5C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79F0-3D06-44A0-AF75-35A2AB52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03F7-AA29-4E76-BF72-CCCD1A41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5A9D-2081-4D8A-BB51-83868B38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47B5-BCC9-4B71-99E2-660C02F4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0155-6F29-4D46-8128-E432DCAF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547F-A563-4CEA-ABE5-6C938E5F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3AFE-D916-4CB3-AACC-A897D13B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0D2A-3B6D-44F6-BA05-ED88BF14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D138D-EEEE-4C82-A29B-4F4DD118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39E17-6946-4BE1-B324-B6B33A50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09983-51C8-4253-90D4-AE948365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45582-0221-447D-A981-41ECB356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7E44D-8D29-4143-BE98-3DD12418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4BAD-3F1F-4892-909E-103E6212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477D3-2EBA-4098-A616-99A2AF4C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8C70D-05F7-48E6-A6A6-1444A02F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9B155-21CC-4431-9DF2-3B138496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5BEC7-BBCB-45B0-94D0-2B6DD841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43A5B-2656-4572-B990-196E4840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60D71-3F4C-4C06-8FEB-9FC0AC90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4B316-0A99-40BD-82B9-7E250ECE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D53B-03AA-4BB8-AD57-A9387B47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784-DFC7-4C63-8E8F-AD5F55CA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A57C-0399-4C74-B64C-B8B07DBC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14CD-5ABE-4596-9855-84EE228D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0019-35EA-4738-BEA7-F3F7C9D3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284-C3EC-435F-9ED3-AF438EDE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D3BA-7D04-4DC5-92CC-A50278007211}" type="slidenum">
              <a:rPr b="1" lang="nl-NL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C7D5-50A8-4E65-91E2-F7FFC45948FF}" type="slidenum"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DBBC-3C88-47AA-8BA4-8C0A002CB299}" type="slidenum"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Black"/>
              </a:rPr>
              <a:t>LES 1C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BIJBELSTUDIE OCCULTIS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LEERDOEL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752120"/>
            <a:ext cx="762012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uitleggen wat de bijbel zegt over occultis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uitleggen hoe het leven van mensen verandert die met occultisme te maken krijgen of er juist van bevrijd wo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vertellen wie er kan zorgen voor bevrijding uit de occulte werel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9231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AT WAS OOK AL WEER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27120" y="1700280"/>
            <a:ext cx="329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ccultis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Occultisme – Het enige Bijbelse Fundament"/>
          <p:cNvPicPr/>
          <p:nvPr/>
        </p:nvPicPr>
        <p:blipFill>
          <a:blip r:embed="rId1"/>
          <a:stretch/>
        </p:blipFill>
        <p:spPr>
          <a:xfrm>
            <a:off x="4788000" y="2133720"/>
            <a:ext cx="295272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836280"/>
            <a:ext cx="5791320" cy="68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OCCULTISM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betekent Occultism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terlijk: verborgen of gehe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natuurlij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zichtbare werkelijk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aat dus over niet zien, maar er wel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kan het goede en het kwade aanwe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uste beïnvloe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UIT DE BIJBE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7592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feze 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0 Ten slotte, zoek uw kracht in de Heer, in de kracht van zijn mach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1 Trek de wapenrusting van God aan om stand te kunnen houden tegen de listen van de duivel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2 Onze strijd is niet gericht tegen mensen maar tegen hemelse vorsten, de heersers en de machthebbers van de duisternis, tegen de kwade geesten in de hemelsfer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oek op: 1 Johannes 1: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INLEIDING OCCULTISM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an alle tij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: Saul in En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ulus op verschillende plaat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ddeleeuwen: hekserij, weerwo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n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Jan Kees van der Hart</cp:lastModifiedBy>
  <dcterms:modified xsi:type="dcterms:W3CDTF">2022-09-07T19:15:55Z</dcterms:modified>
  <cp:revision>11</cp:revision>
  <dc:subject/>
  <dc:title>Inleiding Occultisme</dc:title>
</cp:coreProperties>
</file>