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193B-60E9-4345-8D9C-AE23DF56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7EA-51B0-4B40-8300-5DD37AB5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B444-5D41-4F02-AEE5-670BF438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197-0898-414A-92BA-03ADD5B9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27E9-C528-447B-AF8D-2AAEE441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BEC2-1D0C-4F0C-8103-A86AC9F8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316A-DE12-4EBA-8BC3-EEE02EE3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B14C-1D4E-4029-8397-18CC9DB3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B007-EA2C-4758-AFC8-644B02A0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8D3C-1887-4236-B164-971AD85A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9CA1-A6F1-4A42-8197-9AEFDE88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618-4397-4815-9D36-411162C3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FFF3-5097-4A13-AD38-6DC91024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215F-7D83-43CF-A846-D60F3EC1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A325-0F47-467E-A618-E92FA89B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A4B7-0479-4B4C-8976-D4790B82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FF71-0099-464A-B4FB-FA71643E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F9EDF-0D46-4502-8A9A-B43119A4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4BF84-7960-478C-BAE2-8948551A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D74B6-7D85-4606-BA26-CE4436DE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E52FF-973E-4A45-98EC-BF5761B4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C4EC9-A464-477A-BF71-422B74F8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FED-CC54-4870-975A-2193125F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11425-2DF7-4D02-AD75-239FEB1A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20CD3-C7E0-4206-948E-0C9044AE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BE7C9-9F47-42E1-BD0A-8CD3E0C7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E1FF2-F693-4797-A683-BC96CAEB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EEDBF-34C3-4C1B-89BC-5576DE13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26C41-26EE-4249-91DF-DEEE7B77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92E3D-BA54-40B7-9372-7D632E36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F731-2780-49D1-975A-6A4010EE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446-4CC5-4308-921A-D3E3548B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08B-2724-489B-94F2-32ADAA2A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79EF-6C29-4413-BBCF-AD1BCA11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6462-B1F8-4A7D-A7D7-27D3137C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57A1-69C5-4315-B824-FFD31A8F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2499-0ECE-414D-A3AE-F543B69364D1}" type="slidenum">
              <a:rPr b="1" lang="nl-NL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1171-8989-427F-95D5-2E132D013F62}" type="slidenum"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5780-0E72-461D-86CC-D2542C543E3D}" type="slidenum"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Black"/>
              </a:rPr>
              <a:t>LES 1C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1282e"/>
                </a:solidFill>
                <a:latin typeface="Arial Black"/>
              </a:rPr>
              <a:t>BIJBELSTUDIE OCCULTIS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LEERDOELE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752120"/>
            <a:ext cx="762012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uitleggen wat de bijbel zegt over occultis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uitleggen hoe het leven van mensen verandert die met occultisme te maken krijgen of er juist van bevrijd wo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vertellen wie er kan zorgen voor bevrijding uit de occulte werel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9231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WAT WAS OOK AL WEER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27120" y="1700280"/>
            <a:ext cx="329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ccultis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Occultisme – Het enige Bijbelse Fundament"/>
          <p:cNvPicPr/>
          <p:nvPr/>
        </p:nvPicPr>
        <p:blipFill>
          <a:blip r:embed="rId1"/>
          <a:stretch/>
        </p:blipFill>
        <p:spPr>
          <a:xfrm>
            <a:off x="4788000" y="2133720"/>
            <a:ext cx="295272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836280"/>
            <a:ext cx="5791320" cy="68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OCCULTISM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77336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betekent Occultism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terlijk: verborgen of gehe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natuurlij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zichtbare werkelijk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aat dus over niet zien, maar er wel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kan het goede en het kwade aanwe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uste beïnvloe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UIT DE BIJBE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75920" y="177336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feze 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0 Ten slotte, zoek uw kracht in de Heer, in de kracht van zijn mach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1 Trek de wapenrusting van God aan om stand te kunnen houden tegen de listen van de duivel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2 Onze strijd is niet gericht tegen mensen maar tegen hemelse vorsten, de heersers en de machthebbers van de duisternis, tegen de kwade geesten in de hemelsfer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oek op: 1 Johannes 1: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INLEIDING OCCULTISM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an alle tij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: Saul in En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ulus op verschillende plaat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ddeleeuwen: hekserij, weerwol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n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Jan Kees van der Hart</cp:lastModifiedBy>
  <dcterms:modified xsi:type="dcterms:W3CDTF">2022-09-07T19:15:55Z</dcterms:modified>
  <cp:revision>11</cp:revision>
  <dc:subject/>
  <dc:title>Inleiding Occultisme</dc:title>
</cp:coreProperties>
</file>