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C403-867A-481C-92D6-B97A10E5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F7CE-4507-4845-99B6-D195DE68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CBB8-BACB-42DC-9BDA-927AAE6B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50D3-76DF-4B4A-BAE1-D3688E08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5366-9FA4-4260-807F-99AEE8C4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DFB5-38BB-4252-94F1-9EC22CEC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69BB-2805-4319-9365-D29F6ADF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9B84-F226-4E18-A0C4-7DD6AD6C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4803-0B61-4D60-8C09-23B49C62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6B3F-484D-41A9-AC3E-57C090B9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46E4-C6AF-4353-82F4-4044F770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62CB-4EFC-453B-865A-B05E8D67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E815-B071-4302-9126-33FBC45B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9E6A-BFFC-4C8D-811B-614CE917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9735-F29E-4883-90F9-7DA92C0B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DC1C-E686-47F8-B2FF-1C96389A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F3AC-C9AD-494E-86C8-DE33C465B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1AD62-8EE6-4AA8-A48B-8205E833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F71B6-DC84-46DD-848B-A65BFAA8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CDFEA-C63D-48A0-A42B-8A378C95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8A0A2-DC3D-4C15-A142-D10967CA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71D4A-422C-4EA1-B4BC-63DC9F5B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F0A-16AA-4103-9183-F3E4BB37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83C12-B9F6-4455-992E-364E9995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87FFB-2292-4758-BC19-693DB16D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5623E-12DC-48EB-8EC7-667B2054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E6FBE-3CDB-4142-BC2B-2FB40249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77F64-0CF0-4E21-8A81-38F41DEB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A6A96-83AE-4A6D-9777-E6928944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372B7-8199-470B-80A5-8E81C66DB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C720-571A-43E7-AD7A-60198936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C407-CF7E-45B1-8A12-BDCB9580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202F-D875-4361-83A9-91079806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2342-0F89-430B-96A9-8F929174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31F0-08BD-4257-A242-27C8DC90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C728-9299-4D72-BFA5-931D1190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d1282e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B219-5F8B-4781-9D91-1A26E5E37907}" type="slidenum">
              <a:rPr b="1" lang="nl-NL" sz="2400" spc="-1" strike="noStrike">
                <a:solidFill>
                  <a:srgbClr val="d1282e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17E6-D4D6-467D-AB88-E239BCDA67D7}" type="slidenum">
              <a:rPr b="1" lang="nl-NL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0FF5-0614-42C4-91B2-63454BD6D8C3}" type="slidenum">
              <a:rPr b="1" lang="nl-NL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maken.wikiwijs.nl/189843/Occultisme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d1282e"/>
                </a:solidFill>
                <a:latin typeface="Arial Black"/>
              </a:rPr>
              <a:t>GROEP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Afbeelding 8" descr=""/>
          <p:cNvPicPr/>
          <p:nvPr/>
        </p:nvPicPr>
        <p:blipFill>
          <a:blip r:embed="rId1"/>
          <a:srcRect l="17713" t="16821" r="17713" b="5276"/>
          <a:stretch/>
        </p:blipFill>
        <p:spPr>
          <a:xfrm>
            <a:off x="324000" y="907920"/>
            <a:ext cx="8208720" cy="5407200"/>
          </a:xfrm>
          <a:prstGeom prst="rect">
            <a:avLst/>
          </a:prstGeom>
          <a:ln w="0">
            <a:noFill/>
          </a:ln>
        </p:spPr>
      </p:pic>
      <p:pic>
        <p:nvPicPr>
          <p:cNvPr id="131" name="Inkt 9" descr=""/>
          <p:cNvPicPr/>
          <p:nvPr/>
        </p:nvPicPr>
        <p:blipFill>
          <a:blip r:embed="rId2"/>
          <a:stretch/>
        </p:blipFill>
        <p:spPr>
          <a:xfrm>
            <a:off x="3186000" y="6294600"/>
            <a:ext cx="2935440" cy="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hthoek 3"/>
          <p:cNvSpPr/>
          <p:nvPr/>
        </p:nvSpPr>
        <p:spPr>
          <a:xfrm>
            <a:off x="468360" y="105264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eb8803"/>
                </a:solidFill>
                <a:uFillTx/>
                <a:latin typeface="Constantia"/>
                <a:ea typeface="Constantia"/>
              </a:rPr>
              <a:t>https://www.youtube.com/watch?v=57gQl9UMER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2104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INLEIDING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760" y="1773360"/>
            <a:ext cx="76201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betekent transceden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verstijg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a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t wat buiten je waarneming plaatsvin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TWEE WERELDEN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752480"/>
            <a:ext cx="76201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Zichtbare were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Zichtbare werkelijkhe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Niet zichtbare were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Niet zichtbare werkelijkhe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Aarde, hemelsferen, hem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nze strijd is niet gericht tegen mensen maar tegen hemelse vorsten, de heersers en de machthebbers van de duisternis, tegen de kwade geesten in de hemelsfere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UIT DE BIJBEL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 Het geloof legt de grondslag voor alles waarop we hopen, het overtuigt ons van de waarheid van wat we niet zien.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 Om hun geloof werden de mensen uit vroeger tijden geprezen.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 Door geloof komen we tot het inzicht dat de wereld door het woord van God geordend is, dat dus het zichtbare is ontstaan uit het niet-zichtbar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br. 1:1-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2924280"/>
            <a:ext cx="727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WAT IS GELOVEN?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d1282e"/>
                </a:solidFill>
                <a:latin typeface="Arial Black"/>
              </a:rPr>
              <a:t>GROEP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Afbeelding 4" descr=""/>
          <p:cNvPicPr/>
          <p:nvPr/>
        </p:nvPicPr>
        <p:blipFill>
          <a:blip r:embed="rId1"/>
          <a:srcRect l="17713" t="18260" r="16925" b="8161"/>
          <a:stretch/>
        </p:blipFill>
        <p:spPr>
          <a:xfrm>
            <a:off x="403200" y="814320"/>
            <a:ext cx="8358120" cy="5135760"/>
          </a:xfrm>
          <a:prstGeom prst="rect">
            <a:avLst/>
          </a:prstGeom>
          <a:ln w="0">
            <a:noFill/>
          </a:ln>
        </p:spPr>
      </p:pic>
      <p:pic>
        <p:nvPicPr>
          <p:cNvPr id="134" name="Inkt 6" descr=""/>
          <p:cNvPicPr/>
          <p:nvPr/>
        </p:nvPicPr>
        <p:blipFill>
          <a:blip r:embed="rId2"/>
          <a:stretch/>
        </p:blipFill>
        <p:spPr>
          <a:xfrm>
            <a:off x="3355920" y="6213600"/>
            <a:ext cx="2440080" cy="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ffffff"/>
                </a:solidFill>
                <a:latin typeface="Arial Black"/>
              </a:rPr>
              <a:t>LES 1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 Black"/>
              </a:rPr>
              <a:t>ER IS MEER TUSSEN HEMEL EN AAR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WERKWIJZE GD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wee lessen per week (di-d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3 thema’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eriode 1: Occultis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ortfolio (zie EL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nkt 3" descr=""/>
          <p:cNvPicPr/>
          <p:nvPr/>
        </p:nvPicPr>
        <p:blipFill>
          <a:blip r:embed="rId1"/>
          <a:stretch/>
        </p:blipFill>
        <p:spPr>
          <a:xfrm>
            <a:off x="3106800" y="2689200"/>
            <a:ext cx="17280" cy="17640"/>
          </a:xfrm>
          <a:prstGeom prst="rect">
            <a:avLst/>
          </a:prstGeom>
          <a:ln w="0">
            <a:noFill/>
          </a:ln>
        </p:spPr>
      </p:pic>
      <p:pic>
        <p:nvPicPr>
          <p:cNvPr id="140" name="Inkt 4" descr=""/>
          <p:cNvPicPr/>
          <p:nvPr/>
        </p:nvPicPr>
        <p:blipFill>
          <a:blip r:embed="rId2"/>
          <a:stretch/>
        </p:blipFill>
        <p:spPr>
          <a:xfrm>
            <a:off x="1685880" y="3160800"/>
            <a:ext cx="19080" cy="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ONLINE LESMATERIAAL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752120"/>
            <a:ext cx="76201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s://maken.wikiwijs.nl/189843/Occultisme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STELLING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eageer op de stelling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UFO’s bestaan niet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Afbeelding 3" descr=""/>
          <p:cNvPicPr/>
          <p:nvPr/>
        </p:nvPicPr>
        <p:blipFill>
          <a:blip r:embed="rId1"/>
          <a:stretch/>
        </p:blipFill>
        <p:spPr>
          <a:xfrm>
            <a:off x="3541680" y="3573360"/>
            <a:ext cx="453564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d1282e"/>
                </a:solidFill>
                <a:latin typeface="Arial Black"/>
              </a:rPr>
              <a:t>IK ZIE, IK ZIE WAT JIJ NIET ZIET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7" name="Afbeelding 3" descr="http://1.bp.blogspot.com/-jO9WfTQErUk/TkTSlayhSYI/AAAAAAAAD4g/2pTMl1aNarU/s400/7_8+Veel+wind.jpg"/>
          <p:cNvPicPr/>
          <p:nvPr/>
        </p:nvPicPr>
        <p:blipFill>
          <a:blip r:embed="rId1"/>
          <a:stretch/>
        </p:blipFill>
        <p:spPr>
          <a:xfrm>
            <a:off x="1351080" y="2205000"/>
            <a:ext cx="583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LEERDOELEN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weet het verschil tussen de zichtbare en niet zichtbare werkelijkheid (wereld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kan onder woorden brengen wat geloven i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weet wat transcendent betek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http://www.holyhome.nl/occult.gif"/>
          <p:cNvPicPr/>
          <p:nvPr/>
        </p:nvPicPr>
        <p:blipFill>
          <a:blip r:embed="rId1"/>
          <a:stretch/>
        </p:blipFill>
        <p:spPr>
          <a:xfrm>
            <a:off x="5364000" y="4221000"/>
            <a:ext cx="27054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Black"/>
              </a:rPr>
              <a:t>MAKEN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J.C. van der Hart</cp:lastModifiedBy>
  <dcterms:modified xsi:type="dcterms:W3CDTF">2022-08-30T10:57:35Z</dcterms:modified>
  <cp:revision>27</cp:revision>
  <dc:subject/>
  <dc:title>Inleiding Occultisme</dc:title>
</cp:coreProperties>
</file>